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Pobre%20Juan.wav" ContentType="audio/x-wav"/>
  <Override PartName="/ppt/media/image17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28-0484-4F12-9774-50DC931D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33F-C022-44F2-834B-31673233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DFF-D000-42C0-83A2-1E8071EF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574-F34E-4FC2-8933-4C3408EC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5D5-D39E-4674-8A8F-8B8B82A9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D19-46A3-4F2B-9467-9EC9494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E66-7F8A-4A70-927F-A5865B7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D56-ECA5-44E0-AB1F-173DFEC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5E4-2BF2-4B88-A468-E83BF93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7C5-EC4B-4B67-860E-6A7C414E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A40-3878-4DAE-9533-2B067AA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7A7-725C-4FCB-B56B-CAB82B3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1DD4-C6C7-4F1B-A1FD-A77C34899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obre%20Jua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ru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642960" y="1071720"/>
            <a:ext cx="4000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0000"/>
                </a:solidFill>
                <a:latin typeface="Ravie"/>
              </a:rPr>
              <a:t>Vida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0000"/>
                </a:solidFill>
                <a:latin typeface="Ravie"/>
              </a:rPr>
              <a:t>S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1 Imagen" descr="aple2.gif"/>
          <p:cNvPicPr/>
          <p:nvPr/>
        </p:nvPicPr>
        <p:blipFill>
          <a:blip r:embed="rId2">
            <a:lum bright="-10000"/>
          </a:blip>
          <a:stretch/>
        </p:blipFill>
        <p:spPr>
          <a:xfrm rot="1939800">
            <a:off x="4668480" y="2808000"/>
            <a:ext cx="336240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Pobre%20Ju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ve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57120" y="785880"/>
            <a:ext cx="6400800" cy="936720"/>
            <a:chOff x="357120" y="785880"/>
            <a:chExt cx="6400800" cy="936720"/>
          </a:xfrm>
        </p:grpSpPr>
        <p:sp>
          <p:nvSpPr>
            <p:cNvPr id="79" name="Rectangle 4"/>
            <p:cNvSpPr/>
            <p:nvPr/>
          </p:nvSpPr>
          <p:spPr>
            <a:xfrm>
              <a:off x="357120" y="114264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357120" y="785880"/>
              <a:ext cx="64008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4d"/>
                  </a:solidFill>
                  <a:latin typeface="Times New Roman"/>
                </a:rPr>
                <a:t>Também é importante estares bem informado. Assim, tens que ler pelo menos dois jornais por dia, para poder contrastar a informação. </a:t>
              </a:r>
              <a:br>
                <a:rPr sz="2400"/>
              </a:br>
              <a:r>
                <a:rPr b="1" lang="es-ES" sz="2400" spc="-1" strike="noStrike">
                  <a:solidFill>
                    <a:srgbClr val="c00000"/>
                  </a:solidFill>
                  <a:latin typeface="Times New Roman"/>
                </a:rPr>
                <a:t>Ah!, tens que ter sexo todos os dias, mas sem cair na rotina: há que ser inovador, criativo, renovar a sedução. </a:t>
              </a:r>
              <a:br>
                <a:rPr sz="2400"/>
              </a:br>
              <a:r>
                <a:rPr b="1" lang="es-ES" sz="2400" spc="-1" strike="noStrike">
                  <a:solidFill>
                    <a:srgbClr val="0070c0"/>
                  </a:solidFill>
                  <a:latin typeface="Times New Roman"/>
                </a:rPr>
                <a:t>Isto leva o seu temp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70c0"/>
                  </a:solidFill>
                  <a:latin typeface="Times New Roman"/>
                </a:rPr>
                <a:t>¡E nem vamos falar do sexo tântrico!! </a:t>
              </a:r>
              <a:br>
                <a:rPr sz="2400"/>
              </a:br>
              <a:br>
                <a:rPr sz="8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14200" y="5000760"/>
            <a:ext cx="6562800" cy="447480"/>
            <a:chOff x="214200" y="5000760"/>
            <a:chExt cx="6562800" cy="447480"/>
          </a:xfrm>
        </p:grpSpPr>
        <p:sp>
          <p:nvSpPr>
            <p:cNvPr id="82" name="Rectangle 7"/>
            <p:cNvSpPr/>
            <p:nvPr/>
          </p:nvSpPr>
          <p:spPr>
            <a:xfrm>
              <a:off x="214200" y="542916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85480" y="5000760"/>
              <a:ext cx="6491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(lembrete: depois de cada comida, há que lavar os dentes!)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agua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2666880" y="2071800"/>
            <a:ext cx="6477120" cy="814320"/>
            <a:chOff x="2666880" y="2071800"/>
            <a:chExt cx="6477120" cy="814320"/>
          </a:xfrm>
        </p:grpSpPr>
        <p:sp>
          <p:nvSpPr>
            <p:cNvPr id="86" name="Rectangle 4"/>
            <p:cNvSpPr/>
            <p:nvPr/>
          </p:nvSpPr>
          <p:spPr>
            <a:xfrm>
              <a:off x="2666880" y="25722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2666880" y="2071800"/>
              <a:ext cx="647712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ambém tens que ter tempo para varrer, lavar a roupa, os pratos, e não te digo nada se tens um cão ou gato… ou filhos!?!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7030a0"/>
                  </a:solidFill>
                  <a:latin typeface="Times New Roman"/>
                </a:rPr>
                <a:t>A esta altura podes ir considerando o suicídio como opção válida.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16165d"/>
                  </a:solidFill>
                  <a:latin typeface="Times New Roman"/>
                </a:rPr>
                <a:t>Enfim: pelas minhas contas, isto dá umas 29 horas diárias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rui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5"/>
          <p:cNvGrpSpPr/>
          <p:nvPr/>
        </p:nvGrpSpPr>
        <p:grpSpPr>
          <a:xfrm>
            <a:off x="1187280" y="2158920"/>
            <a:ext cx="7286400" cy="615600"/>
            <a:chOff x="1187280" y="2158920"/>
            <a:chExt cx="7286400" cy="615600"/>
          </a:xfrm>
        </p:grpSpPr>
        <p:sp>
          <p:nvSpPr>
            <p:cNvPr id="90" name="Rectangle 3"/>
            <p:cNvSpPr/>
            <p:nvPr/>
          </p:nvSpPr>
          <p:spPr>
            <a:xfrm>
              <a:off x="1187280" y="2158920"/>
              <a:ext cx="7286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1187280" y="2204640"/>
              <a:ext cx="7286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62699"/>
                  </a:solidFill>
                  <a:latin typeface="Times New Roman"/>
                </a:rPr>
                <a:t>A única possibilidade que me ocorre é fazer várias destas coisas ao mesmo tempo, por 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cc0000"/>
                  </a:solidFill>
                  <a:latin typeface="Times New Roman"/>
                </a:rPr>
                <a:t>tomas o duche com água fria e com a boca aberta. Assim, enquanto bebes água, sais do duche com a escova dos dentes na boca e vais fazendo amor com a tua cara metade, que se encontra a ver televisão e te conta o que vê. Até caíres ao chão com uma escova dos dentes a causar irritação num esfíncter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62699"/>
                  </a:solidFill>
                  <a:latin typeface="Times New Roman"/>
                </a:rPr>
                <a:t>¿Ainda tens uma mão livre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c0000"/>
                  </a:solidFill>
                  <a:latin typeface="Times New Roman"/>
                </a:rPr>
                <a:t>Telefona aos teus amigos! E aos teus pai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u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571680" y="500040"/>
            <a:ext cx="8000640" cy="4354560"/>
            <a:chOff x="571680" y="500040"/>
            <a:chExt cx="8000640" cy="4354560"/>
          </a:xfrm>
        </p:grpSpPr>
        <p:sp>
          <p:nvSpPr>
            <p:cNvPr id="94" name="Rectangle 3"/>
            <p:cNvSpPr/>
            <p:nvPr/>
          </p:nvSpPr>
          <p:spPr>
            <a:xfrm>
              <a:off x="1213920" y="500040"/>
              <a:ext cx="7358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571680" y="1783800"/>
              <a:ext cx="8000640" cy="30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7a0017"/>
                  </a:solidFill>
                  <a:latin typeface="Times New Roman"/>
                </a:rPr>
                <a:t>Bebe o vinho, vai-te fazer falta. O iogurte Bio com a maçã pode dar-te a tua cara metade enquanto ela come a banana com o Actimel. Amanhã troquem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rut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5"/>
          <p:cNvGrpSpPr/>
          <p:nvPr/>
        </p:nvGrpSpPr>
        <p:grpSpPr>
          <a:xfrm>
            <a:off x="500040" y="1071720"/>
            <a:ext cx="7500600" cy="1213920"/>
            <a:chOff x="500040" y="1071720"/>
            <a:chExt cx="7500600" cy="1213920"/>
          </a:xfrm>
        </p:grpSpPr>
        <p:sp>
          <p:nvSpPr>
            <p:cNvPr id="98" name="Rectangle 3"/>
            <p:cNvSpPr/>
            <p:nvPr/>
          </p:nvSpPr>
          <p:spPr>
            <a:xfrm>
              <a:off x="567720" y="1071720"/>
              <a:ext cx="675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500040" y="1917000"/>
              <a:ext cx="750060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00"/>
                  </a:solidFill>
                  <a:latin typeface="Times New Roman"/>
                </a:rPr>
                <a:t>E muita sorte que já somos crescidos. Caso contrário ainda teríamos que levar com um Danoninho Extra Cálcio e um PetitSuisse todos os dias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Times New Roman"/>
                </a:rPr>
                <a:t>¡ Úuuuf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veg1"/>
          <p:cNvPicPr/>
          <p:nvPr/>
        </p:nvPicPr>
        <p:blipFill>
          <a:blip r:embed="rId1"/>
          <a:stretch/>
        </p:blipFill>
        <p:spPr>
          <a:xfrm>
            <a:off x="-714240" y="0"/>
            <a:ext cx="9858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5"/>
          <p:cNvGrpSpPr/>
          <p:nvPr/>
        </p:nvGrpSpPr>
        <p:grpSpPr>
          <a:xfrm>
            <a:off x="2500200" y="2928960"/>
            <a:ext cx="6324840" cy="919080"/>
            <a:chOff x="2500200" y="2928960"/>
            <a:chExt cx="6324840" cy="919080"/>
          </a:xfrm>
        </p:grpSpPr>
        <p:sp>
          <p:nvSpPr>
            <p:cNvPr id="102" name="Rectangle 3"/>
            <p:cNvSpPr/>
            <p:nvPr/>
          </p:nvSpPr>
          <p:spPr>
            <a:xfrm>
              <a:off x="2500200" y="2928960"/>
              <a:ext cx="6324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928240" y="3357720"/>
              <a:ext cx="525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00"/>
                  </a:solidFill>
                  <a:latin typeface="Times New Roman"/>
                </a:rPr>
                <a:t>Se ainda tens uns cinco minutos livres, reenvia isto a algum amigo, enquanto desfrutas de uma colherinha de </a:t>
              </a:r>
              <a:r>
                <a:rPr b="1" i="1" lang="es-ES" sz="2400" spc="-1" strike="noStrike">
                  <a:solidFill>
                    <a:srgbClr val="336600"/>
                  </a:solidFill>
                  <a:latin typeface="Times New Roman"/>
                </a:rPr>
                <a:t>Total Magnesio</a:t>
              </a:r>
              <a:r>
                <a:rPr b="1" lang="es-ES" sz="2400" spc="-1" strike="noStrike">
                  <a:solidFill>
                    <a:srgbClr val="336600"/>
                  </a:solidFill>
                  <a:latin typeface="Times New Roman"/>
                </a:rPr>
                <a:t>, que te faz tanto beeeem...!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jogg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6"/>
          <p:cNvGrpSpPr/>
          <p:nvPr/>
        </p:nvGrpSpPr>
        <p:grpSpPr>
          <a:xfrm>
            <a:off x="380880" y="1828800"/>
            <a:ext cx="6491160" cy="814320"/>
            <a:chOff x="380880" y="1828800"/>
            <a:chExt cx="6491160" cy="814320"/>
          </a:xfrm>
        </p:grpSpPr>
        <p:sp>
          <p:nvSpPr>
            <p:cNvPr id="106" name="Rectangle 4"/>
            <p:cNvSpPr/>
            <p:nvPr/>
          </p:nvSpPr>
          <p:spPr>
            <a:xfrm>
              <a:off x="380880" y="182880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380880" y="1828800"/>
              <a:ext cx="64911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 agora deixo-te, porque com o iogurte Activia, a maçã, a cerveja, o primeiro litro de água e a terceira comida com fibra do dia, já não sei o que estou a fazer…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mas preciso de ir à casa de banho com alguma urgência!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Ah! E já que lá vou aproveito para levar a escova dos dent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br>
                <a:rPr sz="800"/>
              </a:b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5 Rectángulo"/>
          <p:cNvSpPr/>
          <p:nvPr/>
        </p:nvSpPr>
        <p:spPr>
          <a:xfrm>
            <a:off x="2148840" y="5214960"/>
            <a:ext cx="46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228b"/>
                </a:solidFill>
                <a:latin typeface="Times New Roman"/>
              </a:rPr>
              <a:t>Adeeeuuuussss…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frui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0" y="2349360"/>
            <a:ext cx="8100720" cy="2280960"/>
            <a:chOff x="0" y="2349360"/>
            <a:chExt cx="8100720" cy="2280960"/>
          </a:xfrm>
        </p:grpSpPr>
        <p:sp>
          <p:nvSpPr>
            <p:cNvPr id="46" name="Rectangle 4"/>
            <p:cNvSpPr/>
            <p:nvPr/>
          </p:nvSpPr>
          <p:spPr>
            <a:xfrm>
              <a:off x="623520" y="4173840"/>
              <a:ext cx="7477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0" y="2349360"/>
              <a:ext cx="7854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izem que temos que comer uma maçã todos os dias, por causa do ferro, e uma banana, por causa do potássio. </a:t>
              </a:r>
              <a:br>
                <a:rPr sz="2400"/>
              </a:br>
              <a:br>
                <a:rPr sz="1400"/>
              </a:b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…e também uma laranja, por causa da vitamina C.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10 Imagen" descr="560px-Bananas.svg.png"/>
          <p:cNvPicPr/>
          <p:nvPr/>
        </p:nvPicPr>
        <p:blipFill>
          <a:blip r:embed="rId2"/>
          <a:stretch/>
        </p:blipFill>
        <p:spPr>
          <a:xfrm rot="21042600">
            <a:off x="4979880" y="3905280"/>
            <a:ext cx="340524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3 Marcador de contenido" descr="gou_20030806_the_1024x768.jpg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4 Rectángulo"/>
          <p:cNvSpPr/>
          <p:nvPr/>
        </p:nvSpPr>
        <p:spPr>
          <a:xfrm>
            <a:off x="324000" y="580536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228b"/>
                </a:solidFill>
                <a:latin typeface="Times New Roman"/>
              </a:rPr>
              <a:t>E uma taça de chá verde, rico em antioxidantes. E sem açúcar, para evitar a diabe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ru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571680" y="533520"/>
            <a:ext cx="8000640" cy="691920"/>
            <a:chOff x="571680" y="533520"/>
            <a:chExt cx="8000640" cy="691920"/>
          </a:xfrm>
        </p:grpSpPr>
        <p:sp>
          <p:nvSpPr>
            <p:cNvPr id="54" name="Rectangle 4"/>
            <p:cNvSpPr/>
            <p:nvPr/>
          </p:nvSpPr>
          <p:spPr>
            <a:xfrm>
              <a:off x="571680" y="533520"/>
              <a:ext cx="8000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71680" y="533520"/>
              <a:ext cx="80006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Todos os dias deves beber pelo menos 2 litros de água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Sim! E mijá-los também!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o que ocupa o dobro do tempo que leva a bebê-los!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Todos os dias deves tomar um  Actimel para ter "L.Cassei Defensis ", que ninguém sabe que merda é; mas parece que se não tragas pelo menos um milhão e meio todos os dias, nunca estarás em forma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rut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429080" cy="5969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6"/>
          <p:cNvGrpSpPr/>
          <p:nvPr/>
        </p:nvGrpSpPr>
        <p:grpSpPr>
          <a:xfrm>
            <a:off x="4786200" y="620640"/>
            <a:ext cx="4357440" cy="1359000"/>
            <a:chOff x="4786200" y="620640"/>
            <a:chExt cx="4357440" cy="1359000"/>
          </a:xfrm>
        </p:grpSpPr>
        <p:sp>
          <p:nvSpPr>
            <p:cNvPr id="59" name="Rectangle 4"/>
            <p:cNvSpPr/>
            <p:nvPr/>
          </p:nvSpPr>
          <p:spPr>
            <a:xfrm>
              <a:off x="4991040" y="1522440"/>
              <a:ext cx="4152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4786200" y="620640"/>
              <a:ext cx="4152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E uma aspirina por dia, para prevenir os enfar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Um copo de vinho tinto, para o mesmo. E outro de vinho branco, para o sistema nervoso. E outro de cerveja, que já não me recordo para que é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Se tomares tudo ao mesmo tempo, mesmo que sofras um derrame cerebral, provavelmente nem te vais aperceber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fru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6"/>
          <p:cNvGrpSpPr/>
          <p:nvPr/>
        </p:nvGrpSpPr>
        <p:grpSpPr>
          <a:xfrm>
            <a:off x="539640" y="549360"/>
            <a:ext cx="7283160" cy="738000"/>
            <a:chOff x="539640" y="549360"/>
            <a:chExt cx="7283160" cy="738000"/>
          </a:xfrm>
        </p:grpSpPr>
        <p:sp>
          <p:nvSpPr>
            <p:cNvPr id="63" name="Rectangle 4"/>
            <p:cNvSpPr/>
            <p:nvPr/>
          </p:nvSpPr>
          <p:spPr>
            <a:xfrm>
              <a:off x="539640" y="549360"/>
              <a:ext cx="728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539640" y="595440"/>
              <a:ext cx="7283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ens que comer fibra todos os d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Muita, muita mesma, até cagares o suficiente para tecer um pullover! 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ens que comer quatro a seis refeições diárias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, leves, sem te esqueceres de mastigar cada pedaço pelo menos umas cem vez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2228b"/>
                  </a:solidFill>
                  <a:latin typeface="Times New Roman"/>
                </a:rPr>
                <a:t>Se fizeres as contas, só com a comida gastas cinco horas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nu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1285920" y="2500200"/>
            <a:ext cx="6562800" cy="643320"/>
            <a:chOff x="1285920" y="2500200"/>
            <a:chExt cx="6562800" cy="643320"/>
          </a:xfrm>
        </p:grpSpPr>
        <p:sp>
          <p:nvSpPr>
            <p:cNvPr id="67" name="Rectangle 4"/>
            <p:cNvSpPr/>
            <p:nvPr/>
          </p:nvSpPr>
          <p:spPr>
            <a:xfrm>
              <a:off x="1285920" y="314316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1357200" y="2500200"/>
              <a:ext cx="64915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Ah!... E lavar os dentes depois!.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epois de cada comida tens que lavar os dentes, ou seja depois do Actimel, lavar os dentes. Depois da maçã, lavar os dentes. Depois da banana, lavar os dentes… e sempre assim, enquanto tiveres dentes. E lembra-te do fio dental, massajador das gengivas e demais acessórios para a saúde da boc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e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6"/>
          <p:cNvGrpSpPr/>
          <p:nvPr/>
        </p:nvGrpSpPr>
        <p:grpSpPr>
          <a:xfrm>
            <a:off x="1071720" y="642960"/>
            <a:ext cx="6491160" cy="814320"/>
            <a:chOff x="1071720" y="642960"/>
            <a:chExt cx="6491160" cy="814320"/>
          </a:xfrm>
        </p:grpSpPr>
        <p:sp>
          <p:nvSpPr>
            <p:cNvPr id="71" name="Rectangle 4"/>
            <p:cNvSpPr/>
            <p:nvPr/>
          </p:nvSpPr>
          <p:spPr>
            <a:xfrm>
              <a:off x="1071720" y="64296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071720" y="642960"/>
              <a:ext cx="64911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Melhor ainda, aumenta o tamanho da casa de banho e enfia lá a aparelhagem. Porque entre a água, a fibra e os dentes, irás passar lá dentro várias horas ao di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Deves dormir oito horas diária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70c0"/>
                  </a:solidFill>
                  <a:latin typeface="Times New Roman"/>
                </a:rPr>
                <a:t>E trabalhar outras oito, mais as cinco que gastas para comer: vinte e uma. Ficas com três livres. Isto se não te ocorrer fazer algo especial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ve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"/>
          <p:cNvGrpSpPr/>
          <p:nvPr/>
        </p:nvGrpSpPr>
        <p:grpSpPr>
          <a:xfrm>
            <a:off x="395280" y="2852640"/>
            <a:ext cx="8429400" cy="738360"/>
            <a:chOff x="395280" y="2852640"/>
            <a:chExt cx="8429400" cy="738360"/>
          </a:xfrm>
        </p:grpSpPr>
        <p:sp>
          <p:nvSpPr>
            <p:cNvPr id="75" name="Rectangle 4"/>
            <p:cNvSpPr/>
            <p:nvPr/>
          </p:nvSpPr>
          <p:spPr>
            <a:xfrm>
              <a:off x="1238040" y="2852640"/>
              <a:ext cx="6963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395280" y="2898720"/>
              <a:ext cx="84294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9973"/>
                  </a:solidFill>
                  <a:latin typeface="Times New Roman"/>
                </a:rPr>
                <a:t>Segundo as estatísticas, vemos três horas diárias de televisã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2228b"/>
                  </a:solidFill>
                  <a:latin typeface="Times New Roman"/>
                </a:rPr>
                <a:t>Bem, já não podes: 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odos os días deves caminhar meia hora, pelo meno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2228b"/>
                  </a:solidFill>
                  <a:latin typeface="Times New Roman"/>
                </a:rPr>
                <a:t>(</a:t>
              </a:r>
              <a:r>
                <a:rPr b="1" i="1" lang="es-ES" sz="2400" spc="-1" strike="noStrike">
                  <a:solidFill>
                    <a:srgbClr val="16165d"/>
                  </a:solidFill>
                  <a:latin typeface="Times New Roman"/>
                </a:rPr>
                <a:t>Voz da experiência: aos 15 minutos dá meia volta, se não a meia hora trasnforma-se numa hora)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E deves cuidar das amizades!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4d"/>
                  </a:solidFill>
                  <a:latin typeface="Times New Roman"/>
                </a:rPr>
                <a:t>porque são como uma planta: há que regá-las diariamente. E quando fores de férias também, suponho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20:13:34Z</dcterms:created>
  <dc:creator>Dr. Emidio Carvalho</dc:creator>
  <dc:description/>
  <dc:language>en-US</dc:language>
  <cp:lastModifiedBy>Dr. Emidio Carvalho</cp:lastModifiedBy>
  <dcterms:modified xsi:type="dcterms:W3CDTF">2008-07-17T20:59:26Z</dcterms:modified>
  <cp:revision>6</cp:revision>
  <dc:subject>www.laboutiquedelpowerpoint.com</dc:subject>
  <dc:title>Diapositivo 1</dc:title>
</cp:coreProperties>
</file>