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2.jpeg" ContentType="image/jpeg"/>
  <Override PartName="/ppt/media/vleugel%201.02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817-F1EE-486A-A36D-59F87E0D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8A5-3584-4612-B674-EFF0854F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2DF-9019-4433-BA92-EF927E01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459-5170-490A-BAE2-35A78958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3D3-55E7-4545-B64A-730AA211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B3A-EEDA-41FC-8427-5C4C0192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449-E6E9-4768-B5CC-1B2E03B7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3F6-82F0-4861-B385-3A2D7E0F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FFE-DA8A-4AE4-9B20-FE99C092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CC0-1104-48D5-B74A-C21AB7E2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E51-D232-4A24-BC7A-032DF7D5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D07-63BA-4E42-B227-83B8C38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7149-766D-418A-AB08-90142958BD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leugel%201.02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781360"/>
            <a:ext cx="7416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00"/>
                </a:solidFill>
                <a:latin typeface="Academy Engraved LET"/>
              </a:rPr>
              <a:t>Mercado Flutuante Holandês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ff00"/>
              </a:solidFill>
              <a:latin typeface="Academy Engraved LET"/>
              <a:ea typeface="Academy Engraved LE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00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8964720" cy="600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0:41:33Z</dcterms:created>
  <dc:creator>Lara</dc:creator>
  <dc:description/>
  <dc:language>en-US</dc:language>
  <cp:lastModifiedBy>Lara</cp:lastModifiedBy>
  <dcterms:modified xsi:type="dcterms:W3CDTF">2008-04-08T10:52:41Z</dcterms:modified>
  <cp:revision>2</cp:revision>
  <dc:subject/>
  <dc:title>Slide 1</dc:title>
</cp:coreProperties>
</file>