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2.jpeg" ContentType="image/jpeg"/>
  <Override PartName="/ppt/media/vleugel%201.0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CFD-3BD9-463C-B8E5-4CA07D19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02B-EFBC-42CE-B2D9-379180E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F24-1EF3-49FE-8FFA-38F26594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05B-80DE-4E7B-BEA5-BB2FAFD4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1F1-0F14-4F97-BFC1-2AF6B62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D79-155C-4C8C-B72E-C5283D1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C66-EF42-4B79-AC8A-9B49847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A8B-9F58-401B-B9C3-BAE318FF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2EC-BEC2-4EF4-83F2-D20BAA1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FBC-1DE5-4EF1-9BD6-E218BED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6F8-AE72-41CF-B84D-163238C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23B-8DD0-4A2A-8525-DDC6487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59F7-947F-4E68-B282-B5D1AE68B1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leugel%201.0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781360"/>
            <a:ext cx="74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00"/>
                </a:solidFill>
                <a:latin typeface="Academy Engraved LET"/>
              </a:rPr>
              <a:t>Mercado Flutuante Holandês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ff00"/>
              </a:solidFill>
              <a:latin typeface="Academy Engraved LET"/>
              <a:ea typeface="Academy Engraved LE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896472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0:41:33Z</dcterms:created>
  <dc:creator>Lara</dc:creator>
  <dc:description/>
  <dc:language>en-US</dc:language>
  <cp:lastModifiedBy>Lara</cp:lastModifiedBy>
  <dcterms:modified xsi:type="dcterms:W3CDTF">2008-04-08T10:52:41Z</dcterms:modified>
  <cp:revision>2</cp:revision>
  <dc:subject/>
  <dc:title>Slide 1</dc:title>
</cp:coreProperties>
</file>