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41.gif" ContentType="image/gif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Feist_Let%20it%20die_20-12_2'55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CEF-B8B7-4346-8C50-E8049C66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5006-CF2E-49EB-BAB8-39082FCB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098E-CEC5-42D0-86D8-DAB939EC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135-5134-4B3A-B2BA-6379894D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9D83-D6F3-441E-95F7-B38420EC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E3C9-AE8B-442F-B970-FF9F573C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F621-36B2-4EE5-AF4C-5D65F098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6DE5-9626-4215-B0C8-E353E8DC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836B-9CBB-43A7-A944-E63DAE51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A2BC-C884-417C-8EC6-41A2FE2C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69E7-080E-4C6E-BDB0-A7A2CB24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D826-14D3-4561-BE28-AD1C3083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FB27-C4D4-449B-9635-C8FA0CB05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eist_Let%20it%20die_20-12_2&apos;55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581040"/>
            <a:ext cx="8353440" cy="569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6453360"/>
            <a:ext cx="82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0000"/>
                </a:solidFill>
                <a:latin typeface="Arial"/>
              </a:rPr>
              <a:t>Avanzar manual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44880" y="0"/>
            <a:ext cx="485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44880" y="0"/>
            <a:ext cx="485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144880" y="0"/>
            <a:ext cx="485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381400" y="509760"/>
            <a:ext cx="4381200" cy="58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381400" y="509760"/>
            <a:ext cx="4381200" cy="58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5480" y="380880"/>
            <a:ext cx="51530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147760" y="0"/>
            <a:ext cx="484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20840" y="0"/>
            <a:ext cx="470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20840" y="0"/>
            <a:ext cx="470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06720" y="0"/>
            <a:ext cx="493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630360"/>
            <a:ext cx="820728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343240" y="352440"/>
            <a:ext cx="44575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3240" y="352440"/>
            <a:ext cx="44575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38400" y="0"/>
            <a:ext cx="486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38400" y="0"/>
            <a:ext cx="486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35160" y="0"/>
            <a:ext cx="48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47760" y="0"/>
            <a:ext cx="484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343240" y="276120"/>
            <a:ext cx="445752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0" y="1144440"/>
            <a:ext cx="655308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47760" y="0"/>
            <a:ext cx="484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147760" y="0"/>
            <a:ext cx="484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355680"/>
            <a:ext cx="820728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52640" y="114480"/>
            <a:ext cx="5238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185760" y="228600"/>
            <a:ext cx="9515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85760" y="281160"/>
            <a:ext cx="9515520" cy="62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52640" y="-61920"/>
            <a:ext cx="5238720" cy="69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720720"/>
            <a:ext cx="820728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8360" y="676440"/>
            <a:ext cx="8207280" cy="55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5280" y="619200"/>
            <a:ext cx="828036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660240"/>
            <a:ext cx="8207280" cy="55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660240"/>
            <a:ext cx="8207280" cy="55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96800"/>
            <a:ext cx="820728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149560" y="0"/>
            <a:ext cx="484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1844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0000"/>
                </a:solidFill>
                <a:latin typeface="Arial"/>
              </a:rPr>
              <a:t>¿Tomaste conciencia de todo es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371840" y="4149720"/>
            <a:ext cx="27468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496800"/>
            <a:ext cx="820728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82680" y="0"/>
            <a:ext cx="477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82680" y="0"/>
            <a:ext cx="477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82680" y="0"/>
            <a:ext cx="477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143000" y="0"/>
            <a:ext cx="1143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0:14:14Z</dcterms:created>
  <dc:creator>since</dc:creator>
  <dc:description/>
  <dc:language>en-US</dc:language>
  <cp:lastModifiedBy>.</cp:lastModifiedBy>
  <dcterms:modified xsi:type="dcterms:W3CDTF">2008-10-18T00:44:53Z</dcterms:modified>
  <cp:revision>0</cp:revision>
  <dc:subject/>
  <dc:title>Publicidad concientizadora-01</dc:title>
</cp:coreProperties>
</file>