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41.gif" ContentType="image/gif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4.jpeg" ContentType="image/jpeg"/>
  <Override PartName="/ppt/media/Feist_Let%20it%20die_20-12_2'55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7C3E-054B-4786-BF8D-A37E991CB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A80E-E787-4D57-ADAD-0FFED35A0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2066-E441-4A14-83A5-382742BF7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A104-E0EB-4E74-B76C-687567C02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12A4-B190-4D93-B717-C5D24AB82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00B6-8FA9-42A1-A72C-40E753F44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B78E-3F26-4C98-9AA1-A9E981FA0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36E7-85B6-420B-B80C-54167A09F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0F2C-A34C-45F9-8FE8-74554C3B9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4078-58CD-43EF-B239-5A9C4A82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EC5B-C2FC-4274-BA9D-E7F47D3F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83CD-670A-4DCF-911A-041CB888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16272-BC54-4CF5-8AC4-173B5BB332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Feist_Let%20it%20die_20-12_2&apos;55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5280" y="581040"/>
            <a:ext cx="8353440" cy="569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9640" y="6453360"/>
            <a:ext cx="820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0000"/>
                </a:solidFill>
                <a:latin typeface="Arial"/>
              </a:rPr>
              <a:t>Avanzar manualm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144880" y="0"/>
            <a:ext cx="4854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144880" y="0"/>
            <a:ext cx="4854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144880" y="0"/>
            <a:ext cx="4854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381400" y="509760"/>
            <a:ext cx="4381200" cy="58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381400" y="509760"/>
            <a:ext cx="4381200" cy="58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95480" y="380880"/>
            <a:ext cx="51530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147760" y="0"/>
            <a:ext cx="4848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220840" y="0"/>
            <a:ext cx="4702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220840" y="0"/>
            <a:ext cx="4702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106720" y="0"/>
            <a:ext cx="4930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68360" y="630360"/>
            <a:ext cx="8207280" cy="55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343240" y="352440"/>
            <a:ext cx="445752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343240" y="352440"/>
            <a:ext cx="445752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138400" y="0"/>
            <a:ext cx="4867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138400" y="0"/>
            <a:ext cx="4867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135160" y="0"/>
            <a:ext cx="487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147760" y="0"/>
            <a:ext cx="4848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343240" y="276120"/>
            <a:ext cx="4457520" cy="630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332000" y="1144440"/>
            <a:ext cx="655308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147760" y="0"/>
            <a:ext cx="4848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147760" y="0"/>
            <a:ext cx="4848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8360" y="355680"/>
            <a:ext cx="8207280" cy="61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952640" y="114480"/>
            <a:ext cx="52387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-185760" y="228600"/>
            <a:ext cx="95155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-185760" y="281160"/>
            <a:ext cx="9515520" cy="62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952640" y="-61920"/>
            <a:ext cx="5238720" cy="69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68360" y="720720"/>
            <a:ext cx="8207280" cy="54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68360" y="676440"/>
            <a:ext cx="8207280" cy="55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95280" y="619200"/>
            <a:ext cx="8280360" cy="55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68360" y="660240"/>
            <a:ext cx="8207280" cy="553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68360" y="660240"/>
            <a:ext cx="8207280" cy="553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8360" y="496800"/>
            <a:ext cx="8207280" cy="58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149560" y="0"/>
            <a:ext cx="4844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9640" y="184464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0000"/>
                </a:solidFill>
                <a:latin typeface="Arial"/>
              </a:rPr>
              <a:t>¿Tomaste conciencia de todo est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371840" y="4149720"/>
            <a:ext cx="27468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8360" y="496800"/>
            <a:ext cx="8207280" cy="58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182680" y="0"/>
            <a:ext cx="4776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182680" y="0"/>
            <a:ext cx="4776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182680" y="0"/>
            <a:ext cx="4776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1143000" y="0"/>
            <a:ext cx="1143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0:14:14Z</dcterms:created>
  <dc:creator>since</dc:creator>
  <dc:description/>
  <dc:language>en-US</dc:language>
  <cp:lastModifiedBy>.</cp:lastModifiedBy>
  <dcterms:modified xsi:type="dcterms:W3CDTF">2008-10-18T00:44:53Z</dcterms:modified>
  <cp:revision>0</cp:revision>
  <dc:subject/>
  <dc:title>Publicidad concientizadora-01</dc:title>
</cp:coreProperties>
</file>