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Here%20Comes%20the%20Sun%20%20-%20Beatles.wav" ContentType="audio/x-wav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1030-E109-4901-A539-96C3E31ED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705D-26C8-4299-AE2D-3FDFFB14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48B1-FC7D-442F-A71E-BBD0D194C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A23A-77C8-4472-9CCA-C7BD27D83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DFBA-BA7B-47F4-A774-1F323499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CC0E-1CBC-41CF-8B80-4E63132C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F106-6412-425D-8385-BE28A77F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8F6E-923B-430E-8C33-48FFC0A4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B8F5-6E44-4AA0-8654-AF6D9F51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CA32-95A7-4CEE-A297-6DCA591E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013A-58B6-4B0C-B97D-C53B006D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02D6-2F82-4742-A7F0-988D1D0C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ECBD-AC67-4563-B531-5CE7A2D68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ere%20Comes%20the%20Sun%20%20-%20Beatl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idnight%20Sun%201" descr=""/>
          <p:cNvPicPr/>
          <p:nvPr/>
        </p:nvPicPr>
        <p:blipFill>
          <a:blip r:embed="rId1"/>
          <a:stretch/>
        </p:blipFill>
        <p:spPr>
          <a:xfrm>
            <a:off x="0" y="228600"/>
            <a:ext cx="9220320" cy="608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2920" y="3733920"/>
            <a:ext cx="4377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ff33"/>
                </a:solidFill>
                <a:latin typeface="Comic Sans MS"/>
              </a:rPr>
              <a:t>Entendendo 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ff33"/>
                </a:solidFill>
                <a:latin typeface="Comic Sans MS"/>
              </a:rPr>
              <a:t>Sol da Meia-No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327720"/>
            <a:ext cx="9144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Música: Here comes the Sun  </a:t>
            </a:r>
            <a:r>
              <a:rPr b="0" lang="pt-BR" sz="900" spc="-1" strike="noStrike">
                <a:solidFill>
                  <a:srgbClr val="ffff00"/>
                </a:solidFill>
                <a:latin typeface="Comic Sans MS"/>
              </a:rPr>
              <a:t>(Lá vem o Sol)</a:t>
            </a: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                   Slideshow: Ney Delui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Cantam: Os Beatles</a:t>
            </a: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                             </a:t>
            </a:r>
            <a:r>
              <a:rPr b="0" lang="pt-BR" sz="1000" spc="-1" strike="noStrike">
                <a:solidFill>
                  <a:srgbClr val="ffff00"/>
                </a:solidFill>
                <a:latin typeface="Comic Sans MS"/>
              </a:rPr>
              <a:t>Use o  m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Here%20Comes%20the%20Sun%20%20-%20Beatl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%20-%20Earth%2018h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rot="537600">
            <a:off x="2673000" y="233280"/>
            <a:ext cx="3120840" cy="2127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303320" y="22860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18:00 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na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A%20-%20Earth%2019h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537600">
            <a:off x="2673000" y="233280"/>
            <a:ext cx="3120840" cy="2127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3320" y="22860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19:00 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na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A%20-%20Earth%2020h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 rot="537600">
            <a:off x="2673000" y="233280"/>
            <a:ext cx="3120840" cy="2127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02960" y="22860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20:00 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na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A%20-%20Earth%2021h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 rot="537600">
            <a:off x="2673000" y="233280"/>
            <a:ext cx="3120840" cy="2127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03320" y="22860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21:00 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na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A%20-%20Earth%2022h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 rot="537600">
            <a:off x="2673000" y="233280"/>
            <a:ext cx="3120840" cy="2127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02960" y="22860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22:00 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na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A%20-%20Earth%2023h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rot="537600">
            <a:off x="2673000" y="233280"/>
            <a:ext cx="3120840" cy="2127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02960" y="22860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23:00 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na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A%20-%20Earth%200h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rot="537600">
            <a:off x="2673000" y="233280"/>
            <a:ext cx="3120840" cy="2127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67080" y="1600200"/>
            <a:ext cx="762120" cy="762120"/>
          </a:xfrm>
          <a:prstGeom prst="ellipse">
            <a:avLst/>
          </a:prstGeom>
          <a:noFill/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57000" y="228600"/>
            <a:ext cx="149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Meia-No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na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29400" y="914400"/>
            <a:ext cx="2133720" cy="12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ff33"/>
                </a:solidFill>
                <a:latin typeface="Comic Sans MS"/>
              </a:rPr>
              <a:t>O sol da meia-no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ff33"/>
                </a:solidFill>
                <a:latin typeface="Comic Sans MS"/>
              </a:rPr>
              <a:t>está agora so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ff33"/>
                </a:solidFill>
                <a:latin typeface="Comic Sans MS"/>
              </a:rPr>
              <a:t>a parte norte d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ff33"/>
                </a:solidFill>
                <a:latin typeface="Comic Sans MS"/>
              </a:rPr>
              <a:t>Escandináv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Comic Sans MS"/>
              </a:rPr>
              <a:t>(círculo amarel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A%20-%20Earth%201h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 rot="537600">
            <a:off x="2673000" y="233280"/>
            <a:ext cx="3120840" cy="2127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76400" y="228600"/>
            <a:ext cx="9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1:00 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na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A%20-%20Earth%202h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rot="537600">
            <a:off x="2673000" y="233280"/>
            <a:ext cx="3120840" cy="2127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76040" y="228600"/>
            <a:ext cx="9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2:00 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na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A%20-%20Earth%203h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rot="537600">
            <a:off x="2673000" y="233280"/>
            <a:ext cx="3120840" cy="2127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76040" y="228600"/>
            <a:ext cx="9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3:00 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na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un%20solstice" descr=""/>
          <p:cNvPicPr/>
          <p:nvPr/>
        </p:nvPicPr>
        <p:blipFill>
          <a:blip r:embed="rId1"/>
          <a:stretch/>
        </p:blipFill>
        <p:spPr>
          <a:xfrm>
            <a:off x="380880" y="0"/>
            <a:ext cx="8458200" cy="6491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5070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Devido à inclinação do eixo da Terra, a área em torno do Pólo Norte fica exposta ao sol 24h/dia no ver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762120" cy="2286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Ver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62920" y="4191120"/>
            <a:ext cx="761760" cy="2286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Inve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4495680"/>
            <a:ext cx="762120" cy="2286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órb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1066680"/>
            <a:ext cx="762120" cy="228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Ter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3124080"/>
            <a:ext cx="45720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Comic Sans MS"/>
              </a:rPr>
              <a:t>S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A%20-%20Earth%204h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rot="537600">
            <a:off x="2673000" y="233280"/>
            <a:ext cx="3120840" cy="2127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76040" y="228600"/>
            <a:ext cx="9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4:00 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na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A%20-%20Earth%205h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rot="537600">
            <a:off x="2673000" y="233280"/>
            <a:ext cx="3120840" cy="2127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76040" y="228600"/>
            <a:ext cx="9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5:00 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na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A%20-%20Earth%206h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rot="537600">
            <a:off x="2673000" y="233280"/>
            <a:ext cx="3120840" cy="2127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76040" y="228600"/>
            <a:ext cx="9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6:00 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na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A%20-%20Earth%207h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rot="537600">
            <a:off x="2673000" y="233280"/>
            <a:ext cx="3120840" cy="2127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76040" y="228600"/>
            <a:ext cx="9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7:00 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na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A%20-%20Earth%208h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rot="537600">
            <a:off x="2673000" y="233280"/>
            <a:ext cx="3120840" cy="2127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76040" y="228600"/>
            <a:ext cx="9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8:00 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na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A%20-%20Earth%209h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rot="537600">
            <a:off x="2673000" y="233280"/>
            <a:ext cx="3120840" cy="2127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76040" y="228600"/>
            <a:ext cx="9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9:00 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na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A%20-%20Earth%2010h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rot="537600">
            <a:off x="2673000" y="233280"/>
            <a:ext cx="3120840" cy="2127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1680" y="22860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10:00 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na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A%20-%20Earth%2011h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rot="537600">
            <a:off x="2673000" y="233280"/>
            <a:ext cx="3120840" cy="2127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232040" y="22860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11:00 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na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34320" y="838080"/>
            <a:ext cx="1598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66ff33"/>
                </a:solidFill>
                <a:latin typeface="Comic Sans MS"/>
              </a:rPr>
              <a:t>Voltem a us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66ff33"/>
                </a:solidFill>
                <a:latin typeface="Comic Sans MS"/>
              </a:rPr>
              <a:t>o mo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95280" y="5715000"/>
            <a:ext cx="60984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Midnight%20Sun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10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5070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Quando a meia-noite se aproxima no Círculo Polar Ártico o sol, ao invés de se esconder, sobe de no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324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O sol da meia-noite pode ser visto entre os dias 17 e 24 de junho na Lapônia e este período é tã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importante para eles que há um festival com danças típicas ao ar livre para celebrá-l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684640" y="647712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F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Midnight%20Sun%2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8431200" y="6033960"/>
            <a:ext cx="708120" cy="215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Comic Sans MS"/>
              </a:rPr>
              <a:t>minha fo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248520"/>
            <a:ext cx="9144000" cy="759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943600" y="1828800"/>
            <a:ext cx="312408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66ff33"/>
                </a:solidFill>
                <a:latin typeface="Comic Sans MS"/>
              </a:rPr>
              <a:t>Vejam a seguir u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66ff33"/>
                </a:solidFill>
                <a:latin typeface="Comic Sans MS"/>
              </a:rPr>
              <a:t>simulação com image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66ff33"/>
                </a:solidFill>
                <a:latin typeface="Comic Sans MS"/>
              </a:rPr>
              <a:t>de satélite de com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66ff33"/>
                </a:solidFill>
                <a:latin typeface="Comic Sans MS"/>
              </a:rPr>
              <a:t>o sol atingiu a Ter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66ff33"/>
                </a:solidFill>
                <a:latin typeface="Comic Sans MS"/>
              </a:rPr>
              <a:t>no dia 21 de jun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solstício</a:t>
            </a: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 de verão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66ff33"/>
                </a:solidFill>
                <a:latin typeface="Comic Sans MS"/>
              </a:rPr>
              <a:t>o dia mais longo do 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66ff33"/>
                </a:solidFill>
                <a:latin typeface="Comic Sans MS"/>
              </a:rPr>
              <a:t>no hemisfério nor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(e o mais curto no hemisfério su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(Notem que a escuridã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da noite não atingirá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a área dentro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círculo vermelho 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nenhum momento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A%20-%20Earth%2012h" descr=""/>
          <p:cNvPicPr/>
          <p:nvPr/>
        </p:nvPicPr>
        <p:blipFill>
          <a:blip r:embed="rId1"/>
          <a:stretch/>
        </p:blipFill>
        <p:spPr>
          <a:xfrm>
            <a:off x="533520" y="674640"/>
            <a:ext cx="5562360" cy="5649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537600">
            <a:off x="1972800" y="690480"/>
            <a:ext cx="2692440" cy="18478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143000" y="3240"/>
            <a:ext cx="6248520" cy="6549840"/>
            <a:chOff x="1143000" y="3240"/>
            <a:chExt cx="6248520" cy="6549840"/>
          </a:xfrm>
        </p:grpSpPr>
        <p:pic>
          <p:nvPicPr>
            <p:cNvPr id="56" name="A%20-%20Earth%2012h" descr=""/>
            <p:cNvPicPr/>
            <p:nvPr/>
          </p:nvPicPr>
          <p:blipFill>
            <a:blip r:embed="rId1"/>
            <a:stretch/>
          </p:blipFill>
          <p:spPr>
            <a:xfrm>
              <a:off x="1143000" y="304920"/>
              <a:ext cx="624852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537600">
              <a:off x="2673000" y="233280"/>
              <a:ext cx="3120840" cy="212724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6629400" y="83808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(Não toquem 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mouse por enquanto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28560" y="182520"/>
            <a:ext cx="122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Meio-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na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43000" y="3240"/>
            <a:ext cx="6248520" cy="6549840"/>
            <a:chOff x="1143000" y="3240"/>
            <a:chExt cx="6248520" cy="6549840"/>
          </a:xfrm>
        </p:grpSpPr>
        <p:pic>
          <p:nvPicPr>
            <p:cNvPr id="61" name="A%20-%20Earth%2013h" descr=""/>
            <p:cNvPicPr/>
            <p:nvPr/>
          </p:nvPicPr>
          <p:blipFill>
            <a:blip r:embed="rId1"/>
            <a:stretch/>
          </p:blipFill>
          <p:spPr>
            <a:xfrm>
              <a:off x="1143000" y="304920"/>
              <a:ext cx="624852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 rot="537600">
              <a:off x="2673000" y="233280"/>
              <a:ext cx="3120840" cy="212724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7303320" y="22860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13:00 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na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A%20-%20Earth%2014h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rot="537600">
            <a:off x="2673000" y="233280"/>
            <a:ext cx="3120840" cy="2127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03320" y="22860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14:00 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na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A%20-%20Earth%2015h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rot="537600">
            <a:off x="2673000" y="233280"/>
            <a:ext cx="3120840" cy="2127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03320" y="22860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15:00 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na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A%20-%20Earth%2016h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rot="537600">
            <a:off x="2673000" y="233280"/>
            <a:ext cx="3120840" cy="2127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03320" y="22860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16:00 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na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A%20-%20Earth%2017h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rot="537600">
            <a:off x="2673000" y="233280"/>
            <a:ext cx="3120840" cy="2127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03320" y="22860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17:00 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na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06:45:16Z</dcterms:created>
  <dc:creator>Ney Deluiz</dc:creator>
  <dc:description/>
  <dc:language>en-US</dc:language>
  <cp:lastModifiedBy>Ney</cp:lastModifiedBy>
  <dcterms:modified xsi:type="dcterms:W3CDTF">2007-06-22T19:56:37Z</dcterms:modified>
  <cp:revision>69</cp:revision>
  <dc:subject>Sol da Meia-Noite</dc:subject>
  <dc:title>Apresentação do PowerPoint</dc:title>
</cp:coreProperties>
</file>