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Here%20Comes%20the%20Sun%20%20-%20Beatles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18E-93B9-472D-9380-CF6F3B94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F71-9D28-49E8-9F63-B6EF60B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6C2-7E55-4A80-BE88-CB25BCF6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742-D1F9-4F35-A542-1EF635BA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E0E-6430-4DA0-9714-7A81F534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FB5-BAED-44B8-B90C-9EC60C0D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707-F852-4A81-AC38-B9AC5542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794-63AE-4B57-8B0B-52715405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BAF-E68A-47EB-8233-44A7C050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7B7-D738-41F2-9AE6-9D0A7410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04A-4385-4CDC-A708-91AA2E0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B57-0F26-469B-BFAC-1D8B1629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7E97-7CB1-43A9-93CD-9CE540D87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ere%20Comes%20the%20Sun%20%20-%20Beatl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idnight%20Sun%201" descr=""/>
          <p:cNvPicPr/>
          <p:nvPr/>
        </p:nvPicPr>
        <p:blipFill>
          <a:blip r:embed="rId1"/>
          <a:stretch/>
        </p:blipFill>
        <p:spPr>
          <a:xfrm>
            <a:off x="0" y="228600"/>
            <a:ext cx="9220320" cy="608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2920" y="3733920"/>
            <a:ext cx="437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ff33"/>
                </a:solidFill>
                <a:latin typeface="Comic Sans MS"/>
              </a:rPr>
              <a:t>Entendendo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ff33"/>
                </a:solidFill>
                <a:latin typeface="Comic Sans MS"/>
              </a:rPr>
              <a:t>Sol da Meia-No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27720"/>
            <a:ext cx="9144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Música: Here comes the Sun  </a:t>
            </a:r>
            <a:r>
              <a:rPr b="0" lang="pt-BR" sz="900" spc="-1" strike="noStrike">
                <a:solidFill>
                  <a:srgbClr val="ffff00"/>
                </a:solidFill>
                <a:latin typeface="Comic Sans MS"/>
              </a:rPr>
              <a:t>(Lá vem o Sol)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                Slideshow: Ney Delui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Cantam: Os Beatles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Use o  m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Here%20Comes%20the%20Sun%20%20-%20Beatl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%20-%20Earth%2018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8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%20-%20Earth%2019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9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%20-%20Earth%2020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0296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0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%20-%20Earth%2021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1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%20-%20Earth%2022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296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2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%20-%20Earth%2023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0296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3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A%20-%20Earth%200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1600200"/>
            <a:ext cx="762120" cy="762120"/>
          </a:xfrm>
          <a:prstGeom prst="ellipse">
            <a:avLst/>
          </a:prstGeom>
          <a:noFill/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57000" y="2286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Meia-No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914400"/>
            <a:ext cx="213372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O sol da meia-no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está agora so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a parte norte 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Escandiná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(círculo amarel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A%20-%20Earth%201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7640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%20-%20Earth%202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%20-%20Earth%203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3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un%20solstice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49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Devido à inclinação do eixo da Terra, a área em torno do Pólo Norte fica exposta ao sol 24h/dia no ver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762120" cy="228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Ver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4191120"/>
            <a:ext cx="761760" cy="228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In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4495680"/>
            <a:ext cx="762120" cy="228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órb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066680"/>
            <a:ext cx="76212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3124080"/>
            <a:ext cx="4572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Comic Sans MS"/>
              </a:rPr>
              <a:t>S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%20-%20Earth%204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4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%20-%20Earth%205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5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%20-%20Earth%206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6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%20-%20Earth%207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7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%20-%20Earth%208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8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%20-%20Earth%209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9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%20-%20Earth%2010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168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0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%20-%20Earth%2011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204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1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838080"/>
            <a:ext cx="159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Voltem a u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o m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5715000"/>
            <a:ext cx="6098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Midnight%20Sun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Quando a meia-noite se aproxima no Círculo Polar Ártico o sol, ao invés de se esconder, sobe de no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2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O sol da meia-noite pode ser visto entre os dias 17 e 24 de junho na Lapônia e este período é t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importante para eles que há um festival com danças típicas ao ar livre para celebrá-l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84640" y="64771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F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idnight%20Sun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431200" y="6033960"/>
            <a:ext cx="708120" cy="215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minha f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248520"/>
            <a:ext cx="9144000" cy="75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43600" y="1828800"/>
            <a:ext cx="312408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Vejam a seguir u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simulação com image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de satélite de co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o sol atingiu a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no dia 21 de ju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olstício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de verão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o dia mais longo do 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no hemisfério nor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(e o mais curto no hemisfério su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(Notem que a escurid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da noite não atingir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a área dentro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círculo vermelho 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enhum moment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%20-%20Earth%2012h" descr=""/>
          <p:cNvPicPr/>
          <p:nvPr/>
        </p:nvPicPr>
        <p:blipFill>
          <a:blip r:embed="rId1"/>
          <a:stretch/>
        </p:blipFill>
        <p:spPr>
          <a:xfrm>
            <a:off x="533520" y="674640"/>
            <a:ext cx="5562360" cy="5649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537600">
            <a:off x="1972800" y="690480"/>
            <a:ext cx="2692440" cy="18478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143000" y="3240"/>
            <a:ext cx="6248520" cy="6549840"/>
            <a:chOff x="1143000" y="3240"/>
            <a:chExt cx="6248520" cy="6549840"/>
          </a:xfrm>
        </p:grpSpPr>
        <p:pic>
          <p:nvPicPr>
            <p:cNvPr id="56" name="A%20-%20Earth%2012h" descr=""/>
            <p:cNvPicPr/>
            <p:nvPr/>
          </p:nvPicPr>
          <p:blipFill>
            <a:blip r:embed="rId1"/>
            <a:stretch/>
          </p:blipFill>
          <p:spPr>
            <a:xfrm>
              <a:off x="1143000" y="304920"/>
              <a:ext cx="62485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537600">
              <a:off x="2673000" y="233280"/>
              <a:ext cx="3120840" cy="21272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629400" y="8380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(Não toquem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mouse por enquant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28560" y="18252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Meio-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43000" y="3240"/>
            <a:ext cx="6248520" cy="6549840"/>
            <a:chOff x="1143000" y="3240"/>
            <a:chExt cx="6248520" cy="6549840"/>
          </a:xfrm>
        </p:grpSpPr>
        <p:pic>
          <p:nvPicPr>
            <p:cNvPr id="61" name="A%20-%20Earth%2013h" descr=""/>
            <p:cNvPicPr/>
            <p:nvPr/>
          </p:nvPicPr>
          <p:blipFill>
            <a:blip r:embed="rId1"/>
            <a:stretch/>
          </p:blipFill>
          <p:spPr>
            <a:xfrm>
              <a:off x="1143000" y="304920"/>
              <a:ext cx="62485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537600">
              <a:off x="2673000" y="233280"/>
              <a:ext cx="3120840" cy="21272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3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%20-%20Earth%2014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4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%20-%20Earth%2015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5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%20-%20Earth%2016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6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%20-%20Earth%2017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7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6:45:16Z</dcterms:created>
  <dc:creator>Ney Deluiz</dc:creator>
  <dc:description/>
  <dc:language>en-US</dc:language>
  <cp:lastModifiedBy>Ney</cp:lastModifiedBy>
  <dcterms:modified xsi:type="dcterms:W3CDTF">2007-06-22T19:56:37Z</dcterms:modified>
  <cp:revision>69</cp:revision>
  <dc:subject>Sol da Meia-Noite</dc:subject>
  <dc:title>Apresentação do PowerPoint</dc:title>
</cp:coreProperties>
</file>