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6F9-68C5-4D0F-BD12-DE7B386D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4638-6E59-449C-8632-7AB0EDA5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483-30EB-4AF4-86D4-15AFEC53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386-DC64-4B4C-9123-8EDA5864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ED29-4D77-4B76-A26C-DE602D52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24A-5098-4706-8E28-10E7CAC4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1CAE-716E-4628-812B-0B8DBB5A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E149-C354-45E3-B2A0-EF37A1AC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91A-FCE4-46FE-8030-C3B2372E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A64-B327-4EA0-B927-782534EA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B9F-C727-429F-B2C9-DA91BF64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9356-860E-4AD9-A887-4B355856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E9B6-BE6E-440A-BBFE-CC63AC246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1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5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-11160"/>
            <a:ext cx="810108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95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15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14:53:27Z</dcterms:created>
  <dc:creator>D.S.I.</dc:creator>
  <dc:description/>
  <dc:language>en-US</dc:language>
  <cp:lastModifiedBy>D.S.I.</cp:lastModifiedBy>
  <dcterms:modified xsi:type="dcterms:W3CDTF">2009-12-28T14:55:03Z</dcterms:modified>
  <cp:revision>2</cp:revision>
  <dc:subject/>
  <dc:title>Diapositiva 1</dc:title>
</cp:coreProperties>
</file>