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DE30-C573-4CA8-85C5-131314F6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A05-4553-440A-AD2C-F5FE3C77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FD8F-FEBA-432C-86A0-D3EA4FF6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69B3-AC2A-4906-9867-0DB4D115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A16-9996-41BD-883E-25C6D91A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F809-4A84-4270-B7C2-24F4330D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8217-3E62-499E-9CEC-14615467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3436-BDF9-4135-8086-5AE028F0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91FD-3026-45D7-B28A-6A06E7E5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0E98-E953-430A-86AD-635F1385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5969-0505-499A-845E-4BF1181F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EF7D-579B-49C1-8F56-7DDF3F0E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B89E-1F44-4599-855D-F34C837A9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5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1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5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-11160"/>
            <a:ext cx="810108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95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15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14:53:27Z</dcterms:created>
  <dc:creator>D.S.I.</dc:creator>
  <dc:description/>
  <dc:language>en-US</dc:language>
  <cp:lastModifiedBy>D.S.I.</cp:lastModifiedBy>
  <dcterms:modified xsi:type="dcterms:W3CDTF">2009-12-28T14:55:03Z</dcterms:modified>
  <cp:revision>2</cp:revision>
  <dc:subject/>
  <dc:title>Diapositiva 1</dc:title>
</cp:coreProperties>
</file>