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426-D25B-4BEE-9B39-E12419FA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AED-606E-464D-96AC-5020011C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4AC-41E0-47AB-AB15-D2292959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403-D29B-4635-BAD9-BF02DF02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A6D-A41F-41E4-ABA2-DFEDE15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5DC-B277-47A5-BA65-94E81108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007-BDBA-4C06-870E-FD31909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64E-5EA8-4D3E-B389-02A84703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78A-1BEB-408A-8D80-74D96A48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B75-51D1-45AF-904F-66D79C2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F36-C770-46D9-80C8-2E76A7B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1C9-C910-4F31-A192-DFFFF20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5FE2-36DA-4F6A-8E7A-BB9190728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404640"/>
            <a:ext cx="3456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lhor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to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326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6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1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3248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252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1040" y="-9360"/>
            <a:ext cx="798192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87280" y="96840"/>
            <a:ext cx="67694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-39600"/>
            <a:ext cx="6912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12600"/>
            <a:ext cx="63579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9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9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76720" y="1989000"/>
            <a:ext cx="2544480" cy="21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32720" y="6453360"/>
            <a:ext cx="151128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T 20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134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0:12:38Z</dcterms:created>
  <dc:creator>NUNES TEIXEIRA</dc:creator>
  <dc:description/>
  <dc:language>en-US</dc:language>
  <cp:lastModifiedBy>NUNES TEIXEIRA</cp:lastModifiedBy>
  <dcterms:modified xsi:type="dcterms:W3CDTF">2012-03-04T20:51:53Z</dcterms:modified>
  <cp:revision>8</cp:revision>
  <dc:subject/>
  <dc:title>Diapositivo 1</dc:title>
</cp:coreProperties>
</file>