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10.jpeg" ContentType="image/jpeg"/>
  <Override PartName="/ppt/media/image29.jpeg" ContentType="image/jpeg"/>
  <Override PartName="/ppt/media/image35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7.jpeg" ContentType="image/jpeg"/>
  <Override PartName="/ppt/media/image38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B2E7A-34DB-4DDC-B539-9A3BDBFE1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86CDA-6B57-40E6-814C-7278DEDB9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702D3-581F-432E-883E-FE85533E6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D5804-D9AD-4A8D-AB6D-D5A880C65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23682-F84C-48A3-BBF9-647D16948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86215-7F21-4F03-9170-E309A39DC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8E303-2DD8-4376-852C-EE0E1C3E7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E226B-F337-4BEB-9B7E-A78F5EEE3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301EB-1A56-46A4-AB64-F88EB9B91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34A3B-245C-409C-A2A7-4B518AB3E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20909-6CC5-4476-82E1-226A2C547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A6653-C1A4-4332-9A09-363E47C7C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4D209-09D6-4A11-91E4-FD14B7191E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987640" y="404640"/>
            <a:ext cx="3456000" cy="324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As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melhores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fotos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da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916360" y="4365720"/>
            <a:ext cx="326700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124000" y="0"/>
            <a:ext cx="5165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333360"/>
            <a:ext cx="914400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835280" y="0"/>
            <a:ext cx="5314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268360" y="0"/>
            <a:ext cx="4632480" cy="694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605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4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765000"/>
            <a:ext cx="9252000" cy="514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81040" y="-9360"/>
            <a:ext cx="7981920" cy="68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187280" y="96840"/>
            <a:ext cx="6769440" cy="676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8964720" cy="672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333360"/>
            <a:ext cx="9144000" cy="609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116000" y="-39600"/>
            <a:ext cx="6912000" cy="689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116000" y="0"/>
            <a:ext cx="6840720" cy="68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649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476280"/>
            <a:ext cx="9144000" cy="607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333360"/>
            <a:ext cx="9144000" cy="61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476360" y="12600"/>
            <a:ext cx="6357960" cy="684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333360"/>
            <a:ext cx="9144000" cy="60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835280" y="0"/>
            <a:ext cx="5391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835280" y="0"/>
            <a:ext cx="5511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556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333360"/>
            <a:ext cx="9144000" cy="608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2195640" y="0"/>
            <a:ext cx="4593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763640" y="0"/>
            <a:ext cx="5284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333360"/>
            <a:ext cx="914400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3276720" y="1989000"/>
            <a:ext cx="2544480" cy="2192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Fim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7632720" y="6453360"/>
            <a:ext cx="1511280" cy="206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NT 201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33360"/>
            <a:ext cx="9144000" cy="618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268360" y="0"/>
            <a:ext cx="45752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258920" y="0"/>
            <a:ext cx="6913440" cy="69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195640" y="0"/>
            <a:ext cx="4559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4T20:12:38Z</dcterms:created>
  <dc:creator>NUNES TEIXEIRA</dc:creator>
  <dc:description/>
  <dc:language>en-US</dc:language>
  <cp:lastModifiedBy>NUNES TEIXEIRA</cp:lastModifiedBy>
  <dcterms:modified xsi:type="dcterms:W3CDTF">2012-03-04T20:51:53Z</dcterms:modified>
  <cp:revision>8</cp:revision>
  <dc:subject/>
  <dc:title>Diapositivo 1</dc:title>
</cp:coreProperties>
</file>