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68A0-D6F5-4036-ADC6-1C828500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B708-8C1B-4BBE-A9D7-E24F444A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9BB9-996A-4E31-A322-5C7E4B0B6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9DBA-16A7-4845-88FC-7BEA6CA71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FA2D-0C5B-4013-951B-C2612E93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1D41-581D-4585-9293-995D4C3F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89A9-5785-45CB-BB76-02C9CEEF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13CF-A642-4804-9149-C1C87BD1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C8F5-3C0A-4B12-B36B-CE3C9E00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268A-6620-4DAD-B354-718C6231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25D5-DCE6-42E9-9537-7228BFFE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F01F-74D4-4F72-866E-323D29A9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0E0C-740D-440E-AFA7-0BC94E78F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588960"/>
            <a:ext cx="861048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43080" y="270000"/>
            <a:ext cx="845820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353880"/>
            <a:ext cx="8686800" cy="61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6760" y="409680"/>
            <a:ext cx="861048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0880" y="290520"/>
            <a:ext cx="838224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546120"/>
            <a:ext cx="868680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480" y="471600"/>
            <a:ext cx="7925040" cy="59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401760"/>
            <a:ext cx="8382240" cy="60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7760" y="615960"/>
            <a:ext cx="844848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71680" y="333360"/>
            <a:ext cx="800100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" y="835200"/>
            <a:ext cx="8686800" cy="51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290520"/>
            <a:ext cx="838224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3280" y="539640"/>
            <a:ext cx="867744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250920"/>
            <a:ext cx="8534160" cy="63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19040" y="660240"/>
            <a:ext cx="8305920" cy="553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74840" y="0"/>
            <a:ext cx="459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623880"/>
            <a:ext cx="853416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0440" y="514440"/>
            <a:ext cx="876312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4920" y="239760"/>
            <a:ext cx="853416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2120" y="528480"/>
            <a:ext cx="7619760" cy="58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440" y="507960"/>
            <a:ext cx="876312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66760" y="574560"/>
            <a:ext cx="8610480" cy="57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519120"/>
            <a:ext cx="86868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1680" y="414360"/>
            <a:ext cx="800100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95360" y="382680"/>
            <a:ext cx="815328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412920"/>
            <a:ext cx="8076960" cy="60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299880"/>
            <a:ext cx="838224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13:59:46Z</dcterms:created>
  <dc:creator/>
  <dc:description/>
  <dc:language>en-US</dc:language>
  <cp:lastModifiedBy>Jaime Caballero Arriaga</cp:lastModifiedBy>
  <dcterms:modified xsi:type="dcterms:W3CDTF">2007-05-22T14:02:12Z</dcterms:modified>
  <cp:revision>1</cp:revision>
  <dc:subject/>
  <dc:title>Diapositiva 1</dc:title>
</cp:coreProperties>
</file>