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B2F-08B5-401E-B07F-001DBA08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175-F3BB-4117-A972-51608B3B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A19-B629-45CC-9AC7-815C7566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C97-A94C-4353-B6CB-EC80AB6E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1F7-5CE1-4766-8C29-B7B83DAA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D9C-0855-4EA8-8BAC-55154699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25E-5C30-40A0-9270-8AC142F3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CC7-CF5B-4AF7-8D76-1954E1D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D91-CBC7-4313-B1D4-FE76271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A89-9083-4281-A535-58BF76D0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E46-85FD-4A0E-88EB-BF15FB8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8A3-ADB8-4AFC-A1D1-2314F86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903-707B-4F51-B071-837E9D4BA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588960"/>
            <a:ext cx="86104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3080" y="270000"/>
            <a:ext cx="84582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760" y="409680"/>
            <a:ext cx="861048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546120"/>
            <a:ext cx="86868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471600"/>
            <a:ext cx="792504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401760"/>
            <a:ext cx="838224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7760" y="615960"/>
            <a:ext cx="84484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1680" y="33336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835200"/>
            <a:ext cx="86868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3280" y="539640"/>
            <a:ext cx="86774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0920"/>
            <a:ext cx="853416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040" y="660240"/>
            <a:ext cx="830592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623880"/>
            <a:ext cx="85341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440" y="514440"/>
            <a:ext cx="87631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39760"/>
            <a:ext cx="85341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440" y="507960"/>
            <a:ext cx="8763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760" y="574560"/>
            <a:ext cx="86104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519120"/>
            <a:ext cx="8686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414360"/>
            <a:ext cx="8001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360" y="382680"/>
            <a:ext cx="815328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12920"/>
            <a:ext cx="80769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99880"/>
            <a:ext cx="83822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3:59:46Z</dcterms:created>
  <dc:creator/>
  <dc:description/>
  <dc:language>en-US</dc:language>
  <cp:lastModifiedBy>Jaime Caballero Arriaga</cp:lastModifiedBy>
  <dcterms:modified xsi:type="dcterms:W3CDTF">2007-05-22T14:02:12Z</dcterms:modified>
  <cp:revision>1</cp:revision>
  <dc:subject/>
  <dc:title>Diapositiva 1</dc:title>
</cp:coreProperties>
</file>