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Papa%20was%20a%20rollin'%20stone-EDIT.wav" ContentType="audio/x-wav"/>
  <Override PartName="/ppt/media/image2.gif" ContentType="image/gif"/>
  <Override PartName="/ppt/media/MUTTLEY-EDI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04B-00C7-4798-A9FA-6DEEBB6D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3CB-54A8-44A6-9B12-3348712B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F77-C84C-4813-AD8C-890A0AF4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1DE-22FE-4CB4-9CFB-85463EA9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695-E888-47E5-A55E-4EC48CF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780-EF85-47D2-9EFC-ACEA2A21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085-A04C-418C-877F-82F88590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B5A-EE6B-41BE-9EB6-84C188C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880-6B18-481F-8C6B-91855FA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EB8-8627-4197-9750-B9C3FB7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41E-782D-43BB-AE4E-92E0ADC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93C-EB39-46A7-92EE-0FC1982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FF1D-DAFD-4D83-BFE1-C831D6885F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apa%20was%20a%20rollin&apos;%20stone-EDI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MUTTLEY-EDIT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Atentado ao S</a:t>
            </a:r>
            <a:r>
              <a:rPr b="1" lang="pt-BR" sz="4400" spc="-1" strike="noStrike">
                <a:solidFill>
                  <a:srgbClr val="ffff00"/>
                </a:solidFill>
                <a:latin typeface="바탕"/>
              </a:rPr>
              <a:t>antuário de Fátima.</a:t>
            </a: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(Paris - Interpol Special)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Papa%20was%20a%20rollin'%20stone-EDI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Na segunda-feira, às 12h33m, graças ao treino de guerrilha no Afeganistão, conseguiram chegar a Fátima para estudar o melhor ponto de impacto no santuário de Fáti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pós o estudo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lugaram um carro e voltaram ao aeroporto em Lisboa, determinados a desviar logo um avião e a fazê-lo explodir contra o </a:t>
            </a: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Santuár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caminho do aeroporto deram com um  congestionamento monstruoso, devido a uma manifestação gigante de professo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Ficaram 3 horas parados na Av. da República.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br>
              <a:rPr sz="4000"/>
            </a:b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Fartos, saíram do carro para estudar a situação, mas logo que entraram no meio da manifestação gamaram-lhes</a:t>
            </a:r>
            <a:r>
              <a:rPr b="1" i="1" lang="pt-PT" sz="3600" spc="-1" strike="noStrike">
                <a:solidFill>
                  <a:srgbClr val="ffff00"/>
                </a:solidFill>
                <a:latin typeface="바탕"/>
              </a:rPr>
              <a:t> os relógios sem darem conta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Às 18h45 chegaram à Portela para desviar um avião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0066"/>
                </a:solidFill>
                <a:latin typeface="바탕"/>
              </a:rPr>
              <a:t>mas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                                                                                                                                                                                              os pilotos da TAP estavam em greve por mais salário e menos impos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controladores aéreos também (queriam equiparação aos pilotos)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O único avião na pista era da Portugália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mas ...</a:t>
            </a:r>
            <a:br>
              <a:rPr sz="4000"/>
            </a:br>
            <a:r>
              <a:rPr b="1" i="1" lang="pt-PT" sz="4400" spc="-1" strike="noStrike">
                <a:solidFill>
                  <a:srgbClr val="cc3300"/>
                </a:solidFill>
                <a:latin typeface="바탕"/>
              </a:rPr>
              <a:t>Estava sem combustível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!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No Aeroporto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grupos de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controladores e passageiros agitavam cartazes e gritavam slogans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- uns contra o Governo            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  - outros  contra  a  TAP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polícia de choque entretanto chegou para intervir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e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bateu em todo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inclusive nos 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terroristas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árabe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ão descobertos, detidos e levados até à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legação da Polícia do Aeropo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Às 20 horas,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proveitando-se dum momento de confusão na Delegação, 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0" i="1" lang="pt-BR" sz="4400" spc="-1" strike="noStrike">
                <a:solidFill>
                  <a:srgbClr val="ff0066"/>
                </a:solidFill>
                <a:latin typeface="바탕"/>
              </a:rPr>
              <a:t>fo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Documentos mantidos em segredo pela Interpol revelam  que a Al Qaeda, de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Osama bin Laden, ordenou a  execução dum atentado 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em Portug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21h05m, os muçulmanos, meio desorientados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dirigem-se ao balcão da TAP para comprar passage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funcionári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ende-lhes bilhetes e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informa-os que os voos da companhia estão suspensos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or </a:t>
            </a:r>
            <a:br>
              <a:rPr sz="4000"/>
            </a:br>
            <a:br>
              <a:rPr sz="4000"/>
            </a:br>
            <a:r>
              <a:rPr b="1" i="1" lang="pt-PT" sz="4400" spc="-1" strike="noStrike">
                <a:solidFill>
                  <a:srgbClr val="ff0066"/>
                </a:solidFill>
                <a:latin typeface="바탕"/>
              </a:rPr>
              <a:t>tempo indeterminado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Os mujahedins olham-se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reciprocamente e trocam impressões.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 Assalta-os a dúvida sobre se: </a:t>
            </a:r>
            <a:br>
              <a:rPr sz="3200"/>
            </a:br>
            <a:br>
              <a:rPr sz="3200"/>
            </a:br>
            <a:r>
              <a:rPr b="1" lang="pt-PT" sz="3600" spc="-1" strike="noStrike">
                <a:solidFill>
                  <a:srgbClr val="ffff00"/>
                </a:solidFill>
                <a:latin typeface="바탕"/>
              </a:rPr>
              <a:t>Um ataque terrorista neste país seria um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</a:t>
            </a:r>
            <a:br>
              <a:rPr sz="4000"/>
            </a:b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Acto terrorista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ou uma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                            </a:t>
            </a:r>
            <a:r>
              <a:rPr b="1" lang="pt-PT" sz="3600" spc="-1" strike="noStrike">
                <a:solidFill>
                  <a:srgbClr val="ff0066"/>
                </a:solidFill>
                <a:latin typeface="바탕"/>
              </a:rPr>
              <a:t>Obra de</a:t>
            </a:r>
            <a:r>
              <a:rPr b="1" lang="pt-PT" sz="3600" spc="-1" strike="noStrike">
                <a:solidFill>
                  <a:srgbClr val="00cc99"/>
                </a:solidFill>
                <a:latin typeface="바탕"/>
              </a:rPr>
              <a:t> </a:t>
            </a:r>
            <a:r>
              <a:rPr b="1" lang="pt-PT" sz="3600" spc="-1" strike="noStrike">
                <a:solidFill>
                  <a:srgbClr val="ff0066"/>
                </a:solidFill>
                <a:latin typeface="바탕"/>
              </a:rPr>
              <a:t>caridade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23h30m, sujos, cansados e mortos de fome, decidiram comer alguma  coisa, numa roulotte perto do aeropor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edem quatro hambúrgueres, dois para cada 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ó na terça-feira, às 4h35m,  conseguiram recuperar da intoxicação alimentar de grandes proporções, em resultado da ingestão de carne estragada, usada nos hambúrgu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Foram levados ao serviço de urgência do Hospital de Stª Maria, onde esperaram oito horas para serem atendidos e depois   internado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No domingo seguinte,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ainda debilitados, </a:t>
            </a:r>
            <a:br>
              <a:rPr sz="4400"/>
            </a:br>
            <a:r>
              <a:rPr b="1" lang="pt-PT" sz="4400" spc="-1" strike="noStrike">
                <a:solidFill>
                  <a:srgbClr val="ffff00"/>
                </a:solidFill>
                <a:latin typeface="바탕"/>
              </a:rPr>
              <a:t>tiveram alta hospitala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omingo, 18h20h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homens de bin Laden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passam  perto do estádio do Benf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Benfica acabara de perder com o Porto, por 3x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alvo da acção seria o </a:t>
            </a:r>
            <a:br>
              <a:rPr sz="4000"/>
            </a:br>
            <a:br>
              <a:rPr sz="4000"/>
            </a:br>
            <a:r>
              <a:rPr b="1" i="1" lang="pt-PT" sz="4800" spc="-1" strike="noStrike">
                <a:solidFill>
                  <a:srgbClr val="ff0066"/>
                </a:solidFill>
                <a:latin typeface="바탕"/>
              </a:rPr>
              <a:t> Santuário de Fátima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Bin  Laden destacou dois mujahedins</a:t>
            </a:r>
            <a:br>
              <a:rPr sz="4000"/>
            </a:b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 para desviar um avião e lançá-lo contra o símbolo cristão dos infié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claque das Águias confunde os terroristas com malta da claque nortenha e espeta-lhes uma surra sem precedentes.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Um dos membros da claque, um tal com alcunha de “O quecas”, ainda abusa sexualmente d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s 19h45m, finalmente, são deixados em paz, com dores terríveis pelo corpo, em especial na área do ân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o verem uma barraca de venda de bebida, nas proximidades, decidem embriagar-se uma vez na vida                                                     </a:t>
            </a:r>
            <a:r>
              <a:rPr b="1" lang="pt-PT" sz="4000" spc="-1" strike="noStrike">
                <a:solidFill>
                  <a:srgbClr val="ffffff"/>
                </a:solidFill>
                <a:latin typeface="바탕"/>
              </a:rPr>
              <a:t>( mesmo que seja pecado,                        Alá que se lixe )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Beberam bagaço, adulterado com álcool etílico, e têm de voltar ao Stª Maria.                                         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médicos também diagnosticam gonorreia no rabo inchado   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( “</a:t>
            </a:r>
            <a:r>
              <a:rPr b="1" lang="pt-PT" sz="4000" spc="-1" strike="noStrike">
                <a:solidFill>
                  <a:srgbClr val="ff0066"/>
                </a:solidFill>
                <a:latin typeface="Lucida Console"/>
              </a:rPr>
              <a:t>O quecas” não perdoa</a:t>
            </a:r>
            <a:r>
              <a:rPr b="1" lang="pt-PT" sz="4000" spc="-1" strike="noStrike">
                <a:solidFill>
                  <a:srgbClr val="ff0066"/>
                </a:solidFill>
                <a:latin typeface="바탕"/>
              </a:rPr>
              <a:t> ) !</a:t>
            </a: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egunda-feira, 23h42m:                                 os dois terroristas fugiram de Lisboa, escondidos numa carrinha de electrodomésticos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É assaltada às portas de Setúb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Desnorteados, famintos, 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sem poder andar e sentar-se,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 os mujahedins são transportados,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numa carrinha duma ONG ligada aos direitos humanos, </a:t>
            </a:r>
            <a:br>
              <a:rPr sz="3200"/>
            </a:br>
            <a:r>
              <a:rPr b="1" lang="pt-PT" sz="3200" spc="-1" strike="noStrike">
                <a:solidFill>
                  <a:srgbClr val="ffff00"/>
                </a:solidFill>
                <a:latin typeface="바탕"/>
              </a:rPr>
              <a:t>para Lisbo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iajam  deitados de lado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   Na capital lisboeta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ambulam o dia inteiro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à cata de com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Cansados, acabam por adormecer num banco da Avenida da Liber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Polícia ainda não revelou o hospital onde foram internados em estado grave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pois de espancados, quase até a morte, por um grup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skin-h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s informações da Interpol                        referem  que os dois terroristas chegaram a Lisboa no Sábado, 30 de Maio,  às 21h47m, num voo da TA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 porta-voz da Polícia declarou que, depois de saírem dos cuidados intensivos,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ficarão à guarda do  SEF(Serviço de Estrangeiros e Fronteir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nde permanecerão até o Ministério da Justiça autorizar a deportação dos dois infelizes, se houver verbas, claro!!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바탕"/>
              </a:rPr>
              <a:t>Os mujahedins apavorados, só pensam em regressar ao Afeganistão.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바탕"/>
              </a:rPr>
              <a:t>E falam em estabelecer um novo método de treino: </a:t>
            </a:r>
            <a:br>
              <a:rPr sz="3600"/>
            </a:br>
            <a:br>
              <a:rPr sz="3600"/>
            </a:br>
            <a:r>
              <a:rPr b="1" i="1" lang="pt-PT" sz="4000" spc="-1" strike="noStrike">
                <a:solidFill>
                  <a:srgbClr val="ff3300"/>
                </a:solidFill>
                <a:latin typeface="Academy Engraved LET"/>
              </a:rPr>
              <a:t>Mandar pessoal da Al Qaeda passar um mês em</a:t>
            </a:r>
            <a:br>
              <a:rPr sz="4000"/>
            </a:br>
            <a:r>
              <a:rPr b="1" i="1" lang="pt-PT" sz="4000" spc="-1" strike="noStrike">
                <a:solidFill>
                  <a:srgbClr val="ff3300"/>
                </a:solidFill>
                <a:latin typeface="Academy Engraved LET"/>
              </a:rPr>
              <a:t>P</a:t>
            </a:r>
            <a:r>
              <a:rPr b="1" i="1" lang="pt-PT" sz="4800" spc="-1" strike="noStrike">
                <a:solidFill>
                  <a:srgbClr val="ff3300"/>
                </a:solidFill>
                <a:latin typeface="Academy Engraved LET"/>
              </a:rPr>
              <a:t>ortugal</a:t>
            </a:r>
            <a:r>
              <a:rPr b="1" i="1" lang="pt-PT" sz="4000" spc="-1" strike="noStrike">
                <a:solidFill>
                  <a:srgbClr val="ffffff"/>
                </a:solidFill>
                <a:latin typeface="바탕"/>
              </a:rPr>
              <a:t>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STÃO FALANDO DE VC 111"/>
          <p:cNvPicPr/>
          <p:nvPr/>
        </p:nvPicPr>
        <p:blipFill>
          <a:blip r:embed="rId1"/>
          <a:stretch/>
        </p:blipFill>
        <p:spPr>
          <a:xfrm>
            <a:off x="1905120" y="11430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MUTTLEY-EDI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missão dos terroristas começou a sofrer embaraços  logo no desembarque.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 sua bagagem extraviou-se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e seguiu no voo 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Lisboa-Pa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Após 4 horas de peregrinação por vários  guichés e  dificuldades de comunicação, dado o seu inglês muito básico, os 2 homens saíram do aeroporto, depois de  aconselhados a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voltar no dia seguinte, com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um intérpre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Os dois terroristas apanharam um táxi à saída do aeroporto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O motorista, ao notar que eram  estrangeiros, deu umas voltas pela  cidade e depois deixou-os em Monsa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Depois de se deslocarem a pé e sem rumo, acabaram por ir parar à Buraca, onde foram assaltados por 3 “marmanjos”</a:t>
            </a:r>
            <a:br>
              <a:rPr sz="4000"/>
            </a:br>
            <a:r>
              <a:rPr b="1" lang="pt-PT" sz="4000" spc="-1" strike="noStrike">
                <a:solidFill>
                  <a:srgbClr val="ffff00"/>
                </a:solidFill>
                <a:latin typeface="바탕"/>
              </a:rPr>
              <a:t> que  ainda por cima lhes deram “porrad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os </a:t>
            </a:r>
            <a:r>
              <a:rPr b="1" lang="pt-BR" sz="3600" spc="-1" strike="noStrike">
                <a:solidFill>
                  <a:srgbClr val="ffff00"/>
                </a:solidFill>
                <a:latin typeface="바탕"/>
              </a:rPr>
              <a:t>mujahedins</a:t>
            </a: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 ainda sobraram alguns dólares que tinham escondidos numa bolsa falsa que tinham nos cintos.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바탕"/>
              </a:rPr>
              <a:t>Apanharam um autocarro  até à baixa lisbo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23:04:24Z</dcterms:created>
  <dc:creator>.</dc:creator>
  <dc:description/>
  <dc:language>en-US</dc:language>
  <cp:lastModifiedBy> </cp:lastModifiedBy>
  <dcterms:modified xsi:type="dcterms:W3CDTF">2009-11-28T01:42:08Z</dcterms:modified>
  <cp:revision>57</cp:revision>
  <dc:subject/>
  <dc:title>Slide 1</dc:title>
</cp:coreProperties>
</file>