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RomHier%20Encore.wav" ContentType="audio/x-wav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F5D-7431-45F3-BA7B-0E908306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6DA-4F51-45CF-9C1A-2078218C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D42-ECC9-4CC6-89C6-23270357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129-B47E-43DB-BBEF-0E35EC79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8E7-CB4E-405E-9411-A70C58F8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C07-D6C6-4A97-9F58-41D2CE1C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AAC-56AD-421B-8AC0-BB1AFECC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F8E-00EB-4E74-B5B8-FBD2DD08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5D5-241D-4270-B08D-9C1E2C1D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331-D0C8-423D-9D28-0EB9CC4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0F2-62FA-436A-A51C-DE19F42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3F3-0CAF-44AD-88AC-AE8DB7C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9058-8E0A-4855-A64D-6A676325A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omHier%20Encor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680" y="1611360"/>
            <a:ext cx="8594640" cy="363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95680" y="5410080"/>
            <a:ext cx="4648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Arc de Triom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t oui, cette place est déserte parfois ... très tôt le mati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DESPEDIDA DUM GÉ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RomHier%20Encor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343400" y="5943600"/>
            <a:ext cx="4648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is depuis le Pont des Arts au lever de l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3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Deus me presenteasse com um pedaço de vi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itava-me ao sol, deixando a descober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ão sómente o meu corpo, como também a minha al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2080" y="1611360"/>
            <a:ext cx="8618400" cy="3635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62520" y="579132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parvis du Forum des Ha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os homens, eu provaria quão equivocados estão ao pensar que deixam de se enamorar quando envelhecem, sem saberem que envelhecem quando deixam de se enamor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29000" y="57913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Hôtel de Ville de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m menino eu daria-lhe asas,                                                        apenas lhe pediria que aprendesse a voar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2080" y="1650960"/>
            <a:ext cx="8618400" cy="3554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53080" y="563868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 Pont N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ack &amp;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0464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os velhos ensinaria que a morte não chega com o fim da vida,           mas sim com o esquec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40720" cy="3600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62720" y="601992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Institut de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as coisas aprendi com Vós homens…. Aprendi que todo o mundo quer viver no cimo da montanha, sem saber que a verdadeira felicidade está na forma de subir a escar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14800" y="60199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Institut de France &amp; le Pont Neuf depuis le Pont des 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rendi que quando um recém nascido aperta com a sua pequena mão, pela primeira vez, o dedo do seu pai, agarrou-o para sempr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952880" y="594360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uis le Pont des Arts au petit 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76280"/>
            <a:ext cx="85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rendi que um homem só tem direito a olhar o outro de cima para baixo, quando está a ajudá-lo a levantar-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080" y="1611360"/>
            <a:ext cx="8618400" cy="3635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62720" y="609588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rdin du Luxembo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ão tantas as coisas que pude aprender com Vocês, mas agora, realmente de pouco me irão servir, porque quando me guardarem dentro dessa caixa, infelizmente estarei morren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1593720"/>
            <a:ext cx="8640720" cy="3668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52880" y="594360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as de la Seine depuis l'Ile Saint Lo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pre diz o que sentes e faz o que pens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00800" y="5638680"/>
            <a:ext cx="2590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Pont N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33360"/>
            <a:ext cx="80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pondo que hoje seria a última vez que te vou ver dormir, te abraçaria fortemente e rezaria ao Senhor para poder ser o guardião da tua al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680" y="1674720"/>
            <a:ext cx="8594640" cy="3508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14800" y="5867280"/>
            <a:ext cx="4648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evet de Notre Dame de Paris depuis le Quai d'Orlé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Gabriel Garcia Marquez retirou-se da vida pública por razões de saúde: cancro linfático. Agora, parece que está cada vez mais grave.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2080" y="2033640"/>
            <a:ext cx="8618400" cy="278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62520" y="5791320"/>
            <a:ext cx="5181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çade de la rue de Rivoli depuis le jardin des Tuil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pondo que estes são os últimos minutos que te vejo, diria-te “Amo-te” e não assumiria, loucamente, que já o sa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102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ntmar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053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pre existe um amanhã em que a vida nos dá outra oportunidade para fazermos as coisas bem, mas pensando que hoje é tudo o que nos resta, gostaria de dizer-te o quanto te quero, que nunca te esquecer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324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807160"/>
            <a:ext cx="4038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Chevet de Saint-Eustache</a:t>
            </a:r>
            <a:br>
              <a:rPr sz="2400"/>
            </a:b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&amp; rue Montorgue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6980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 amanhã não está assegurado a ninguém, jovens ou velhos. Hoje pode ser a última vez que vejas aqueles que amas. Por isso, não esperes mais, fá-lo hoje, porque o amanhã pode nunca chegar. Senão, lamentarás o dia em que não tiveste tempo para um sorriso, um abraço, um beijo e o teres estado muito ocupado para atenderes esse último dese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579132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Ile de la Cité et Notre-Dame de Pari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uis le Port de l'Hôtel-de-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ntém os que amas junto de ti, diz-lhes ao ouvido o muito que precisas deles, o quanto lhes queres e trata-os bem, aproveita para lhes dizer, “perdoa-me”, “por favor”, “obrigado” e todas as palavras de amor que conhe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2080" y="1611360"/>
            <a:ext cx="8618400" cy="3635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95680" y="6019920"/>
            <a:ext cx="4648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otre-Dame de Paris depuis le Pont de l'Archevé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ão serás recordado pelos teus pensamentos secretos. Pede ao Senhor a força e a sabedoria para os expres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64072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10080" y="594360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as de la Seine depuis l'Ile Saint Lo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monstra aos teus amigos e seres queridos                                o quanto são importantes para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080" y="1679400"/>
            <a:ext cx="8618400" cy="3497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29200" y="5867280"/>
            <a:ext cx="4114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ue panoramique de Paris et La Dé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VIA ISTO A QUEM ENT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680" y="1690560"/>
            <a:ext cx="8594640" cy="347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638680" y="6019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ed de la Tour Eiff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não o fazes hoje, amanhã também não o fa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91320" y="56386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ce des Petits-Pères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us la plu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 se o não fizeres…  não import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5840" y="1657440"/>
            <a:ext cx="8572320" cy="3543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29200" y="5943600"/>
            <a:ext cx="4114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 Conciergerie et la place du Châtel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 momento de o enviar é 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680" y="1617840"/>
            <a:ext cx="8594640" cy="36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00600" y="5943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Pont des Arts au petit 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3080" y="40464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viou uma carta de despedida aos seus amigos, e graças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ternet está sendo difundida pelo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2080" y="1622520"/>
            <a:ext cx="8618400" cy="3611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67280" y="60199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Pont Alexandre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ara ti com muito Carinho e am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81480" y="5867280"/>
            <a:ext cx="3810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e du Quai de Bourbon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e de la 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pero e desejo que te agrade m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24280" y="60958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Sacré Cœur de Montmar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4680" y="1639800"/>
            <a:ext cx="8594640" cy="3578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15000" y="59436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ai de Bou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4680" y="1628640"/>
            <a:ext cx="8594640" cy="360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29200" y="601992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uis l'île Saint-Lo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410080" y="5791320"/>
            <a:ext cx="358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is depuis le toit de la Samarit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4120" y="5867280"/>
            <a:ext cx="3809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 Tour Eiffel depuis le jardin du Trocadé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4680" y="1628640"/>
            <a:ext cx="859464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404640"/>
            <a:ext cx="280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rminus du métro, lig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5943600"/>
            <a:ext cx="4495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La Concièrgerie depuis le pont au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comendo a sua leitura, porque é verdadeiramente comovedor este curto texto escrito por um dos latinoamericanos mais brilhantes dos últimos tem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9880" y="56386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ce de la Concorde, au crépuscu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por um instante Deus se esquece-se de que sou uma marioneta de trapos e me presenteasse com mais um pedaço de vida, eu aproveitaria esse tempo o mais que pudess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9880" y="57913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5715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ce de la Concorde au petit 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ssivelmente não diria tudo o que penso, mas definitivamente pensaria tudo o que dig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586728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is depuis le Quai du Lou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3336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aria valor às coisas, não por aquilo que valem,                           mas pelo que  signific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95480" y="57150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çade du Quai de Bourbon &amp; son ref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ormiria pouco, sonharia mais, porque entendo que por cada minuto que fechamos os olhos, perdemos sessenta segundos de lu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080" y="1639800"/>
            <a:ext cx="8618400" cy="3578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95680" y="5715000"/>
            <a:ext cx="4648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ntaine Médicis,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rdin du Luxembo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daria quando os demais se detivessem,                        acordaria quando os demais dormissem.</a:t>
            </a:r>
            <a:br>
              <a:rPr sz="24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1:26:16Z</dcterms:created>
  <dc:creator> UNKNOWN</dc:creator>
  <dc:description/>
  <dc:language>en-US</dc:language>
  <cp:lastModifiedBy>Rui</cp:lastModifiedBy>
  <dcterms:modified xsi:type="dcterms:W3CDTF">2007-07-30T17:58:17Z</dcterms:modified>
  <cp:revision>15</cp:revision>
  <dc:subject/>
  <dc:title>FRANCE</dc:title>
</cp:coreProperties>
</file>