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9.jpeg" ContentType="image/jpeg"/>
  <Override PartName="/ppt/media/image42.jpeg" ContentType="image/jpeg"/>
  <Override PartName="/ppt/media/IL%20DIVO%20Unchained%20M%C3%A9lody...wav" ContentType="audio/x-wav"/>
  <Override PartName="/ppt/media/image26.jpeg" ContentType="image/jpeg"/>
  <Override PartName="/ppt/media/image23.jpeg" ContentType="image/jpeg"/>
  <Override PartName="/ppt/media/image49.png" ContentType="image/png"/>
  <Override PartName="/ppt/media/image2.jpeg" ContentType="image/jpeg"/>
  <Override PartName="/ppt/media/image36.jpeg" ContentType="image/jpeg"/>
  <Override PartName="/ppt/media/image32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29.jpeg" ContentType="image/jpeg"/>
  <Override PartName="/ppt/media/image1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17BE-4398-488B-844E-601558A24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D06F-0F70-4B43-A298-59556246F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BBFC-26E1-4DC5-BF71-463A76A8C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B34B-F207-4B35-9968-597CA0783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2B46-0DC5-4C24-AB66-C5815761B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C5C5-B338-4D54-B5C0-BD9E6EF68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9F3A-8308-4CB0-8473-B470F7F19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AB63-E78D-4C23-924C-A3982B694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A43A-FE58-4369-9A46-24E60D9FE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25ED-3677-441A-A56A-4DB3B0C0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4D1F-2806-482E-B801-68E944A7E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7EFA-B998-40EF-B6A1-671D0C5DE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C3878-7311-4D12-B550-06A0F17877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IL%20DIVO%20Unchained%20M&#233;lody..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2.jpeg"/><Relationship Id="rId3" Type="http://schemas.openxmlformats.org/officeDocument/2006/relationships/image" Target="../media/image42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8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284720" y="2565360"/>
            <a:ext cx="3959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00000" y="20520"/>
            <a:ext cx="7201080" cy="6837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6165720"/>
            <a:ext cx="7380360" cy="69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189000"/>
            <a:ext cx="345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¿Era un geni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¿Era un loc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867280" y="260280"/>
            <a:ext cx="34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Esa es la pregu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492360" y="1916280"/>
            <a:ext cx="3240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50920" y="-12600"/>
            <a:ext cx="8642160" cy="691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Scale>
                                      <p:cBhvr>
                                        <p:cTn id="84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95280" y="5157720"/>
            <a:ext cx="396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68360" y="-3240"/>
            <a:ext cx="8280360" cy="689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50920" y="260280"/>
            <a:ext cx="8713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640720" cy="6899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219640" y="3357720"/>
            <a:ext cx="3673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919160" y="0"/>
            <a:ext cx="538956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2637000"/>
            <a:ext cx="2449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24000" y="41400"/>
            <a:ext cx="8496000" cy="682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556000" y="260280"/>
            <a:ext cx="3744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340000" y="17640"/>
            <a:ext cx="5062680" cy="684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68360" y="5373720"/>
            <a:ext cx="4319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90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50920" y="260280"/>
            <a:ext cx="8713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841400" y="0"/>
            <a:ext cx="55008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227640" y="2781360"/>
            <a:ext cx="2737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50920" y="42840"/>
            <a:ext cx="8569080" cy="685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308720" y="0"/>
            <a:ext cx="1835280" cy="54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372360" y="620640"/>
            <a:ext cx="252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8675640" cy="681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340000" y="1125360"/>
            <a:ext cx="144360" cy="4608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411280" y="5661000"/>
            <a:ext cx="4537080" cy="73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77080" y="1197000"/>
            <a:ext cx="71280" cy="4608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40000" y="1125360"/>
            <a:ext cx="4680000" cy="142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9280" y="260280"/>
            <a:ext cx="360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955880" y="0"/>
            <a:ext cx="5715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79280" y="5373720"/>
            <a:ext cx="3097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992240" y="0"/>
            <a:ext cx="53388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925640" y="0"/>
            <a:ext cx="51674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093080" y="5300640"/>
            <a:ext cx="1726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4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39640" y="3500280"/>
            <a:ext cx="360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58316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076720" y="2781360"/>
            <a:ext cx="3816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50920" y="-17640"/>
            <a:ext cx="8642160" cy="695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50920" y="260280"/>
            <a:ext cx="5473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832040" y="0"/>
            <a:ext cx="576108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403280" y="5805360"/>
            <a:ext cx="6337440" cy="144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76360" y="1341360"/>
            <a:ext cx="6264360" cy="71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524720" y="1413000"/>
            <a:ext cx="71640" cy="453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260280"/>
            <a:ext cx="8424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162000"/>
            <a:ext cx="8964720" cy="67215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826920" y="765000"/>
            <a:ext cx="216000" cy="5543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39640" y="3645000"/>
            <a:ext cx="4824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986120" y="0"/>
            <a:ext cx="551016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6524640"/>
            <a:ext cx="7812000" cy="333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901880" y="0"/>
            <a:ext cx="54068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556000" y="6308640"/>
            <a:ext cx="287280" cy="289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1125360"/>
            <a:ext cx="316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973160" y="0"/>
            <a:ext cx="546264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627280" y="260280"/>
            <a:ext cx="6516720" cy="21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964720" y="404640"/>
            <a:ext cx="179280" cy="6453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4076640"/>
            <a:ext cx="3816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562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476360" y="1052640"/>
            <a:ext cx="287280" cy="4681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24000" y="6021360"/>
            <a:ext cx="849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860480" y="0"/>
            <a:ext cx="584064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403280" y="5373720"/>
            <a:ext cx="244800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5877000"/>
            <a:ext cx="8569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50920" y="14400"/>
            <a:ext cx="8569080" cy="685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32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6597720"/>
            <a:ext cx="5184720" cy="71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219640" y="0"/>
            <a:ext cx="144360" cy="6669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4000" y="0"/>
            <a:ext cx="5184720" cy="404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788000" y="3249720"/>
            <a:ext cx="3816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73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372360" y="5300640"/>
            <a:ext cx="259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97640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68360" y="260280"/>
            <a:ext cx="8280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79280" y="14400"/>
            <a:ext cx="8713800" cy="688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144880" y="0"/>
            <a:ext cx="5476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900000" y="260280"/>
            <a:ext cx="6912000" cy="289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4000" y="5734080"/>
            <a:ext cx="5040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627120"/>
            <a:ext cx="9144000" cy="562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643280" y="2997360"/>
            <a:ext cx="4105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803240" y="0"/>
            <a:ext cx="544356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24000" y="260280"/>
            <a:ext cx="849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712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627280" y="6021360"/>
            <a:ext cx="3816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55640" y="39600"/>
            <a:ext cx="7777080" cy="681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716360" y="6021360"/>
            <a:ext cx="1441440" cy="21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64000" y="4724280"/>
            <a:ext cx="360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017800" y="0"/>
            <a:ext cx="5148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851280" y="260280"/>
            <a:ext cx="1081080" cy="144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0" y="1268280"/>
            <a:ext cx="4248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68360" y="42840"/>
            <a:ext cx="8207280" cy="686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3816360" cy="28623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003640" y="0"/>
            <a:ext cx="3745080" cy="2808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755640" y="4211640"/>
            <a:ext cx="3529080" cy="26463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24000" y="2421000"/>
            <a:ext cx="3311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5076720" y="4156200"/>
            <a:ext cx="3602160" cy="270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5076720" y="3068640"/>
            <a:ext cx="3743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50920" y="2637000"/>
            <a:ext cx="1800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544760" y="0"/>
            <a:ext cx="598788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95280" y="5950080"/>
            <a:ext cx="842472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26920" y="260280"/>
            <a:ext cx="7921800" cy="865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79280" y="144360"/>
            <a:ext cx="8964720" cy="672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0" y="2492280"/>
            <a:ext cx="3492360" cy="8226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3132000" y="1125360"/>
            <a:ext cx="5796000" cy="46738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5940360" y="6021360"/>
            <a:ext cx="2808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7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24000" y="260280"/>
            <a:ext cx="8208720" cy="45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 u="sng">
                <a:solidFill>
                  <a:srgbClr val="ff0000"/>
                </a:solidFill>
                <a:uFillTx/>
                <a:latin typeface="Comic Sans MS"/>
              </a:rPr>
              <a:t>Déjame por un instante, sumergirme en la locura de los artistas. Olvidar las reglas que impone el hombre para no transgredir todo aquello que conocemos. No le temo a la aventura de vivir en un mundo surrealista porque mi espíritu, no conoce otra verdad que la que me eleva hasta las fronteras de lo imposible.</a:t>
            </a:r>
            <a:r>
              <a:rPr b="0" i="1" lang="es-ES" sz="3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i="1" lang="es-ES" sz="3200" spc="-1" strike="noStrike" u="sng">
                <a:solidFill>
                  <a:srgbClr val="ff0000"/>
                </a:solidFill>
                <a:uFillTx/>
                <a:latin typeface="Comic Sans MS"/>
              </a:rPr>
              <a:t>El día que deje de soñar, mándame flores blancas…</a:t>
            </a:r>
            <a:r>
              <a:rPr b="0" lang="es-ES" sz="3600" spc="-1" strike="noStrike">
                <a:solidFill>
                  <a:srgbClr val="ff0000"/>
                </a:solidFill>
                <a:latin typeface="Comic Sans MS"/>
              </a:rPr>
              <a:t>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7020000" y="6165720"/>
            <a:ext cx="191448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José Carlos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4" name=""/>
          <p:cNvSpPr/>
          <p:nvPr/>
        </p:nvSpPr>
        <p:spPr>
          <a:xfrm>
            <a:off x="395280" y="5950080"/>
            <a:ext cx="2808360" cy="907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Comic Sans MS"/>
              </a:rPr>
              <a:t>Ponteved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Comic Sans MS"/>
              </a:rPr>
              <a:t>7-1-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30500"/>
                            </p:stCondLst>
                            <p:childTnLst>
                              <p:par>
                                <p:cTn id="39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30500"/>
                            </p:stCondLst>
                            <p:childTnLst>
                              <p:par>
                                <p:cTn id="40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408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000"/>
                            </p:stCondLst>
                            <p:childTnLst>
                              <p:par>
                                <p:cTn id="41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2000"/>
                            </p:stCondLst>
                            <p:childTnLst>
                              <p:par>
                                <p:cTn id="41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7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4000"/>
                            </p:stCondLst>
                            <p:childTnLst>
                              <p:par>
                                <p:cTn id="41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4360" y="2852640"/>
            <a:ext cx="3600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7777080" cy="686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835280" y="549360"/>
            <a:ext cx="5329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4360" y="55440"/>
            <a:ext cx="7848360" cy="680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292720" y="2637000"/>
            <a:ext cx="3527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24000" y="-1440"/>
            <a:ext cx="8569080" cy="688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79640" y="0"/>
            <a:ext cx="655308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132000" y="-531720"/>
            <a:ext cx="3600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11280" y="58680"/>
            <a:ext cx="7921440" cy="686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Motion origin="layout" path="M 0 0 L 0 0.33295 E">
                                      <p:cBhvr>
                                        <p:cTn id="68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95280" y="2708280"/>
            <a:ext cx="3600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732040" y="0"/>
            <a:ext cx="41148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0T20:34:15Z</dcterms:created>
  <dc:creator>José Carlos</dc:creator>
  <dc:description/>
  <dc:language>en-US</dc:language>
  <cp:lastModifiedBy>BENITO FIDALGO</cp:lastModifiedBy>
  <dcterms:modified xsi:type="dcterms:W3CDTF">2010-01-08T01:06:38Z</dcterms:modified>
  <cp:revision>0</cp:revision>
  <dc:subject/>
  <dc:title>dali</dc:title>
</cp:coreProperties>
</file>