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42.jpeg" ContentType="image/jpeg"/>
  <Override PartName="/ppt/media/IL%20DIVO%20Unchained%20M%C3%A9lody...wav" ContentType="audio/x-wav"/>
  <Override PartName="/ppt/media/image26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1B8-399C-4006-BE92-2DD4EE8D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057-AB4B-436F-A86D-B8E5D382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75F-9668-49FC-8D16-6E4F319F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0A6-B487-440C-8F19-E1A5B4A3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1E0-21D9-461E-A59A-D37BF42B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293-8F4E-457D-A344-36F8CA86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C9C-4FAE-42AB-8B04-FCF88BB7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29A-8DC6-4110-9A73-1D03CB13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7E0-42B7-41E5-ABDB-BDE2AEB6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F0D-63C3-4A0F-9437-F3642BAE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EBE-B1E4-4013-901F-2F87E6C9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8DF-CFB1-4163-A6D4-2D6DB530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12BF-76A6-49A0-AC49-D60804F53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L%20DIVO%20Unchained%20M&#233;lody..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84720" y="2565360"/>
            <a:ext cx="395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20520"/>
            <a:ext cx="720108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165720"/>
            <a:ext cx="7380360" cy="6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8900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Era un gen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Era un lo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26028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Esa es la preg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92360" y="1916280"/>
            <a:ext cx="324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-12600"/>
            <a:ext cx="8642160" cy="69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-3240"/>
            <a:ext cx="82803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0720" cy="689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219640" y="3357720"/>
            <a:ext cx="367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19160" y="0"/>
            <a:ext cx="5389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637000"/>
            <a:ext cx="244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41400"/>
            <a:ext cx="8496000" cy="68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56000" y="260280"/>
            <a:ext cx="37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40000" y="17640"/>
            <a:ext cx="5062680" cy="68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5373720"/>
            <a:ext cx="431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90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26028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4140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227640" y="2781360"/>
            <a:ext cx="27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42840"/>
            <a:ext cx="856908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08720" y="0"/>
            <a:ext cx="1835280" cy="54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620640"/>
            <a:ext cx="25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675640" cy="681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40000" y="1125360"/>
            <a:ext cx="144360" cy="460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5661000"/>
            <a:ext cx="453708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7080" y="1197000"/>
            <a:ext cx="71280" cy="46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125360"/>
            <a:ext cx="468000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60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558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5373720"/>
            <a:ext cx="3097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92240" y="0"/>
            <a:ext cx="5338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167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093080" y="5300640"/>
            <a:ext cx="172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3500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83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76720" y="2781360"/>
            <a:ext cx="38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-17640"/>
            <a:ext cx="8642160" cy="695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260280"/>
            <a:ext cx="54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3204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03280" y="5805360"/>
            <a:ext cx="63374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341360"/>
            <a:ext cx="626436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24720" y="1413000"/>
            <a:ext cx="71640" cy="453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6028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8964720" cy="6721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765000"/>
            <a:ext cx="216000" cy="554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3645000"/>
            <a:ext cx="482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86120" y="0"/>
            <a:ext cx="5510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524640"/>
            <a:ext cx="781200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01880" y="0"/>
            <a:ext cx="5406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56000" y="6308640"/>
            <a:ext cx="28728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12536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3160" y="0"/>
            <a:ext cx="5462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260280"/>
            <a:ext cx="6516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964720" y="404640"/>
            <a:ext cx="179280" cy="645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076640"/>
            <a:ext cx="38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1052640"/>
            <a:ext cx="287280" cy="46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6021360"/>
            <a:ext cx="84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60480" y="0"/>
            <a:ext cx="5840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5373720"/>
            <a:ext cx="2448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877000"/>
            <a:ext cx="856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400"/>
            <a:ext cx="8569080" cy="685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597720"/>
            <a:ext cx="51847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0"/>
            <a:ext cx="144360" cy="666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0"/>
            <a:ext cx="518472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249720"/>
            <a:ext cx="38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3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372360" y="530064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7640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260280"/>
            <a:ext cx="82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4400"/>
            <a:ext cx="8713800" cy="688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547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00000" y="260280"/>
            <a:ext cx="6912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5734080"/>
            <a:ext cx="504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627120"/>
            <a:ext cx="914400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43280" y="2997360"/>
            <a:ext cx="410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03240" y="0"/>
            <a:ext cx="5443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260280"/>
            <a:ext cx="84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27280" y="6021360"/>
            <a:ext cx="38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39600"/>
            <a:ext cx="7777080" cy="681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716360" y="6021360"/>
            <a:ext cx="144144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4724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17800" y="0"/>
            <a:ext cx="5148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1280" y="260280"/>
            <a:ext cx="108108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268280"/>
            <a:ext cx="424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42840"/>
            <a:ext cx="8207280" cy="686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55640" y="4211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2421000"/>
            <a:ext cx="331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076720" y="4156200"/>
            <a:ext cx="3602160" cy="27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076720" y="306864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2637000"/>
            <a:ext cx="180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44760" y="0"/>
            <a:ext cx="5987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5950080"/>
            <a:ext cx="842472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260280"/>
            <a:ext cx="792180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4360"/>
            <a:ext cx="89647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3492360" cy="822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132000" y="1125360"/>
            <a:ext cx="5796000" cy="4673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940360" y="6021360"/>
            <a:ext cx="280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260280"/>
            <a:ext cx="8208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Comic Sans MS"/>
              </a:rPr>
              <a:t>Déjame por un instante, sumergirme en la locura de los artistas. Olvidar las reglas que impone el hombre para no transgredir todo aquello que conocemos. No le temo a la aventura de vivir en un mundo surrealista porque mi espíritu, no conoce otra verdad que la que me eleva hasta las fronteras de lo imposible.</a:t>
            </a:r>
            <a:r>
              <a:rPr b="0" i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Comic Sans MS"/>
              </a:rPr>
              <a:t>El día que deje de soñar, mándame flores blancas…</a:t>
            </a: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020000" y="6165720"/>
            <a:ext cx="19144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osé Carlo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5950080"/>
            <a:ext cx="280836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Ponteve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7-1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500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500"/>
                            </p:stCondLst>
                            <p:childTnLst>
                              <p:par>
                                <p:cTn id="4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1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285264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777080" cy="686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35280" y="549360"/>
            <a:ext cx="532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55440"/>
            <a:ext cx="7848360" cy="680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92720" y="2637000"/>
            <a:ext cx="352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-1440"/>
            <a:ext cx="8569080" cy="68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79640" y="0"/>
            <a:ext cx="655308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-531720"/>
            <a:ext cx="360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8680"/>
            <a:ext cx="7921440" cy="686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 0.33295 E">
                                      <p:cBhvr>
                                        <p:cTn id="6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270828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3204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0:34:15Z</dcterms:created>
  <dc:creator>José Carlos</dc:creator>
  <dc:description/>
  <dc:language>en-US</dc:language>
  <cp:lastModifiedBy>BENITO FIDALGO</cp:lastModifiedBy>
  <dcterms:modified xsi:type="dcterms:W3CDTF">2010-01-08T01:06:38Z</dcterms:modified>
  <cp:revision>0</cp:revision>
  <dc:subject/>
  <dc:title>dali</dc:title>
</cp:coreProperties>
</file>