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celine_dion_because_of_you_loved_me%5B1%5D%20peso%20reduzido%5B1%5D.wav" ContentType="audio/x-wav"/>
  <Override PartName="/ppt/media/image9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F33-41E2-4D8B-8679-F0162935D2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o com som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6D9-4ADC-44A1-B468-905E06A2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EDE-49D3-4586-854C-7ADA2CB6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86C-3BAB-40FE-BE53-04D4D7D4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C48-511C-41C9-BA6B-FEDBBC8F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194-5291-4AD9-A66B-DA81008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F74-DC91-4C48-8780-6E2C3A8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E68-48E4-4382-AE56-84EC7AA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8C6-F066-40AA-9869-66EF1B80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589-3562-4493-84E7-DECC978B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763-D861-42F5-AF31-15C22531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E56-FA07-4B0C-A052-CDBF7F9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228-F220-4C56-B87A-B84BF28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9268-1EE3-4255-BB98-DB2639B1E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eline_dion_because_of_you_loved_me%5B1%5D%20peso%20reduzido%5B1%5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0"/>
            <a:ext cx="7010280" cy="825120"/>
          </a:xfrm>
          <a:prstGeom prst="rect">
            <a:avLst/>
          </a:prstGeom>
          <a:noFill/>
          <a:ln w="0">
            <a:noFill/>
          </a:ln>
          <a:effectLst>
            <a:outerShdw dist="63504" dir="13016092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Arial Black"/>
                <a:ea typeface="Tahoma"/>
              </a:rPr>
              <a:t>Hoje recebi flores!...</a:t>
            </a:r>
            <a:r>
              <a:rPr b="1" lang="en-US" sz="4800" spc="-1" strike="noStrike">
                <a:solidFill>
                  <a:srgbClr val="cc3300"/>
                </a:solidFill>
                <a:latin typeface="Arial Black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jurgarden0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47242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Tahoma"/>
              </a:rPr>
              <a:t>DENUNCIEM A VIOLÊNCIA... !!!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Verdana"/>
                <a:ea typeface="Arial"/>
              </a:rPr>
              <a:t>Violência contra 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DÊ UM BAST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41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é o meu aniversário ou nenhum outro dia especial; Tivemos a nossa primeira discussão ontem à noite e ele me disse muitas coisas cruéis que me ofenderam de verda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sei que está arrependido e não as disse a sério, porque ele me enviou flores hoje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o nosso aniversário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001" descr=""/>
          <p:cNvPicPr/>
          <p:nvPr/>
        </p:nvPicPr>
        <p:blipFill>
          <a:blip r:embed="rId1"/>
          <a:stretch/>
        </p:blipFill>
        <p:spPr>
          <a:xfrm>
            <a:off x="2114640" y="228600"/>
            <a:ext cx="4895640" cy="36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00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88620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ele atirou-me contra a parede e começou a asfixiar-me. Parecia um pesadelo, mas dos pesadelos acordamos e sabemos que não são rea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acordei cheia de dores e com golpes em todos lados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as eu sei que ele está arrependido, porque me enviou flores h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E não é Dia dos Namorados ou nenhum outro dia especial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003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bateu-me e ameaço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em a maquiagem ou as mangas comprid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poderiam ocultar os cortes e golpes que 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casionou desta ve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Não pude ir ao empreg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porque não queria que percebessem. Mas eu sei que está arrependido porque e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me enviou flores hoje. E não era Dia das Mães ou nenhum outro dia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004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3981600"/>
            <a:ext cx="807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à noite ele voltou a bater-me, mas desta vez foi muito pior. Se conseguir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deixá-lo, o que é vou fazer? Como poderi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eu sozinha manter os meus filhos?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O que acontecerá se faltar o dinheir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33"/>
                </a:solidFill>
                <a:latin typeface="Tahoma"/>
                <a:ea typeface="Tahoma"/>
              </a:rPr>
              <a:t>Tenho tanto medo dele! Mas dependo tanto dele que tenho medo de o deixar. Mas eu sei que está arrependido, porque ele me enviou flores hoje.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64771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8862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Hoje é um dia muito especial: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É o dia do meu funeral.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Ontem finalmente conseguiu matar-m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Bateu-me até eu morr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00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962520"/>
            <a:ext cx="754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ao menos eu tivesse tido a coragem e a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força para o deixa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ahoma"/>
                <a:ea typeface="Tahoma"/>
              </a:rPr>
              <a:t>Se tivesse pedido ajuda profissiona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ahoma"/>
                <a:ea typeface="Tahoma"/>
              </a:rPr>
              <a:t>Hoje não teria recebido flo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ietaniemi-cemetery06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667560" cy="4444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80"/>
                </a:solidFill>
                <a:uFillTx/>
                <a:latin typeface="Tahoma"/>
                <a:ea typeface="Tahoma"/>
              </a:rPr>
              <a:t>Por uma vida sem violência!!!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ahoma"/>
                <a:ea typeface="Tahoma"/>
              </a:rPr>
              <a:t>Partilhem essa mensagem para criar consciência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enard_06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42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3520" y="45720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PARA QUE SE TENHA RESPEITO PARA COM A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MULHER, COM AS CRIANÇAS, COM O IDOSO, ENFI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QUERIDOS AMIGOS... QUE SE TENHA RESPEITO COM 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Tahoma"/>
                <a:ea typeface="Tahoma"/>
              </a:rPr>
              <a:t>O PRÓXIMO, SEJA QUEM FOR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32448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ccff"/>
                </a:solidFill>
                <a:latin typeface="Times New Roman"/>
              </a:rPr>
              <a:t>Ajude uma vítima da violência contra a mulher, faça um depósito no,  Bradesco Ag. 2777-4 – Cc. 00118702 - Tatiana Cerruti  Li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10:21Z</dcterms:created>
  <dc:creator>Falcao</dc:creator>
  <dc:description/>
  <dc:language>en-US</dc:language>
  <cp:lastModifiedBy>jroberto</cp:lastModifiedBy>
  <dcterms:modified xsi:type="dcterms:W3CDTF">2007-09-05T12:30:48Z</dcterms:modified>
  <cp:revision>11</cp:revision>
  <dc:subject/>
  <dc:title>Apresentação do PowerPoint</dc:title>
</cp:coreProperties>
</file>