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celine_dion_because_of_you_loved_me%5B1%5D%20peso%20reduzido%5B1%5D.wav" ContentType="audio/x-wav"/>
  <Override PartName="/ppt/media/image9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4958-585D-44A7-A40B-B8647691C98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cio com som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2A6-011C-42D0-B0F6-0CB17613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0AF-5BA8-4026-B58F-8B77C3B0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7D6-8F07-4027-BE37-3BCAAD70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F19-E8F7-488E-885C-0CF5E086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3E0-26C2-49B7-8329-AD0F6B57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150-9D27-4B89-9901-485ECBB7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950-0C04-4BBC-9CC8-AA834EB5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ADC-435F-44D1-9E70-70E8F646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DCF-198D-4B06-83CD-D26CB582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76C-E478-4D18-9E06-4D4E9B6E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833-B51E-4F5B-B0F4-C9EB868B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3AA-E08F-44E7-90D5-7E8AEDAC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FCBC-10B9-4BBE-B06D-923043C55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eline_dion_because_of_you_loved_me%5B1%5D%20peso%20reduzido%5B1%5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4572000"/>
            <a:ext cx="7010280" cy="825120"/>
          </a:xfrm>
          <a:prstGeom prst="rect">
            <a:avLst/>
          </a:prstGeom>
          <a:noFill/>
          <a:ln w="0">
            <a:noFill/>
          </a:ln>
          <a:effectLst>
            <a:outerShdw dist="63504" dir="13016092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Arial Black"/>
                <a:ea typeface="Tahoma"/>
              </a:rPr>
              <a:t>Hoje recebi flores!...</a:t>
            </a:r>
            <a:r>
              <a:rPr b="1" lang="en-US" sz="4800" spc="-1" strike="noStrike">
                <a:solidFill>
                  <a:srgbClr val="cc3300"/>
                </a:solidFill>
                <a:latin typeface="Arial Black"/>
                <a:ea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jurgarden01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667560" cy="4444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4724280"/>
            <a:ext cx="7238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Verdana"/>
                <a:ea typeface="Tahoma"/>
              </a:rPr>
              <a:t>DENUNCIEM A VIOLÊNCIA... !!!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80"/>
                </a:solidFill>
                <a:latin typeface="Verdana"/>
                <a:ea typeface="Arial"/>
              </a:rPr>
              <a:t>Violência contra to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Verdana"/>
                <a:ea typeface="Arial"/>
              </a:rPr>
              <a:t>DÊ UM BASTA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041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ão é o meu aniversário ou nenhum outro dia especial; Tivemos a nossa primeira discussão ontem à noite e ele me disse muitas coisas cruéis que me ofenderam de verdad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as sei que está arrependido e não as disse a sério, porque ele me enviou flores hoje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E não é o nosso aniversário ou nenhum outro dia especial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age001" descr=""/>
          <p:cNvPicPr/>
          <p:nvPr/>
        </p:nvPicPr>
        <p:blipFill>
          <a:blip r:embed="rId1"/>
          <a:stretch/>
        </p:blipFill>
        <p:spPr>
          <a:xfrm>
            <a:off x="2114640" y="228600"/>
            <a:ext cx="4895640" cy="367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002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88620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ele atirou-me contra a parede e começou a asfixiar-me. Parecia um pesadelo, mas dos pesadelos acordamos e sabemos que não são rea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acordei cheia de dores e com golpes em todos lados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as eu sei que ele está arrependido, porque me enviou flores ho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E não é Dia dos Namorados ou nenhum outro dia especial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003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8862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à noite bateu-me e ameaçou matar-m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em a maquiagem ou as mangas comprid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poderiam ocultar os cortes e golpes que m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casionou desta ve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ão pude ir ao empreg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porque não queria que percebessem. Mas eu sei que está arrependido porque e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e enviou flores hoje. E não era Dia das Mães ou nenhum outro dia espe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004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39816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à noite ele voltou a bater-me, mas desta vez foi muito pior. Se conseguir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deixá-lo, o que é vou fazer? Como poderi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eu sozinha manter os meus filhos?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O que acontecerá se faltar o dinheir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Tenho tanto medo dele! Mas dependo tanto dele que tenho medo de o deixar. Mas eu sei que está arrependido, porque ele me enviou flores hoje.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64771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00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388620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é um dia muito especial: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É o dia do meu funeral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finalmente conseguiu matar-m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Bateu-me até eu morrer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00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3962520"/>
            <a:ext cx="754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Se ao menos eu tivesse tido a coragem e a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força para o deixar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Se tivesse pedido ajuda profissiona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ahoma"/>
                <a:ea typeface="Tahoma"/>
              </a:rPr>
              <a:t>Hoje não teria recebido flore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hietaniemi-cemetery06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667560" cy="4444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80"/>
                </a:solidFill>
                <a:uFillTx/>
                <a:latin typeface="Tahoma"/>
                <a:ea typeface="Tahoma"/>
              </a:rPr>
              <a:t>Por uma vida sem violência!!!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ahoma"/>
                <a:ea typeface="Tahoma"/>
              </a:rPr>
              <a:t>Partilhem essa mensagem para criar consciência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enard_06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324480" cy="4219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457200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PARA QUE SE TENHA RESPEITO PARA COM A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MULHER, COM AS CRIANÇAS, COM O IDOSO, ENFIM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QUERIDOS AMIGOS... QUE SE TENHA RESPEITO COM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O PRÓXIMO, SEJA QUEM FOR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7:10:21Z</dcterms:created>
  <dc:creator>Falcao</dc:creator>
  <dc:description/>
  <dc:language>en-US</dc:language>
  <cp:lastModifiedBy>jroberto</cp:lastModifiedBy>
  <dcterms:modified xsi:type="dcterms:W3CDTF">2007-09-05T12:30:48Z</dcterms:modified>
  <cp:revision>11</cp:revision>
  <dc:subject/>
  <dc:title>Apresentação do PowerPoint</dc:title>
</cp:coreProperties>
</file>