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Magic%20Moments%20-Burt%20%20Bacharach%20Moods-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17D-E41E-4281-A423-C0F23111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302-CE60-45B2-AB5B-B2BA7215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34C-E5DD-461B-BC15-66953C6F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1A8-9D13-4BE8-A9B6-DDCF42E2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EDC-A3F3-4765-BDA5-0294846E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D56-CC2C-4702-B8C5-B95F6947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E5C-70D2-4A66-8F48-8814878D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7DE-D5C4-4922-9203-3730B784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5B5-6B1B-4E8F-8016-EDF74FD8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78D-3CB1-4F76-BE3B-61A3E827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D75-5E9C-4187-96EE-E6E5EF00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B17-7516-4F05-9495-589E194B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676B-D794-43E1-BC3C-48E62A74E1C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agic%20Moments%20-Burt%20%20Bacharach%20Moods-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54936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f0000"/>
                </a:solidFill>
                <a:latin typeface="Ravie"/>
              </a:rPr>
              <a:t>É triste quando sentimos que  estamos velho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92360" y="1639800"/>
            <a:ext cx="5790960" cy="485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63640" y="189000"/>
            <a:ext cx="3353040" cy="1295280"/>
          </a:xfrm>
          <a:prstGeom prst="wedgeRoundRectCallout">
            <a:avLst>
              <a:gd name="adj1" fmla="val 51087"/>
              <a:gd name="adj2" fmla="val 8884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ancisco, há já muitos anos que não estão a essa 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6648480" cy="531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89320" y="228600"/>
            <a:ext cx="4919760" cy="1676520"/>
          </a:xfrm>
          <a:prstGeom prst="wedgeRoundRectCallout">
            <a:avLst>
              <a:gd name="adj1" fmla="val -36449"/>
              <a:gd name="adj2" fmla="val 9517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rido, por favor, deixa-te disso. Eu sei muito bem  que é a tua bengal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4981680" cy="576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03640" y="549360"/>
            <a:ext cx="3429000" cy="1371600"/>
          </a:xfrm>
          <a:prstGeom prst="wedgeRoundRectCallout">
            <a:avLst>
              <a:gd name="adj1" fmla="val -76203"/>
              <a:gd name="adj2" fmla="val 9236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</a:rPr>
              <a:t>Façamos um acordo: eu deixo de usar vestidos curtos  e tu deixas de usar  bermudas. O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1811160"/>
            <a:ext cx="7864560" cy="4354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08360" y="260280"/>
            <a:ext cx="4343400" cy="1447920"/>
          </a:xfrm>
          <a:prstGeom prst="wedgeRoundRectCallout">
            <a:avLst>
              <a:gd name="adj1" fmla="val -38305"/>
              <a:gd name="adj2" fmla="val 138925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ão te ofendas, Alzira, mas nós éramos amigos, parentes ou espos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1600" y="6094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Mas o mais importante..., como diriam os espanhó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2565360"/>
            <a:ext cx="77677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5000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Ravie"/>
              </a:rPr>
              <a:t>Es estar vivo 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5000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Ravie"/>
              <a:ea typeface="Ravi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5000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Ravie"/>
              </a:rPr>
              <a:t>disfrutar la vida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5000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Ravie"/>
              <a:ea typeface="Ravie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35280" y="1557360"/>
            <a:ext cx="5759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cc"/>
                </a:solidFill>
                <a:latin typeface="Comic Sans MS"/>
              </a:rPr>
              <a:t>Com o maior dos afectos para os meus amigos mais velhos, e para os mais novos, para que tenham em mente que... fatalmente, um dia isto lhes vai dizer respe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76360" y="1052640"/>
            <a:ext cx="632448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66ff"/>
                </a:solidFill>
                <a:latin typeface="Ravie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Ravie"/>
              </a:rPr>
              <a:t>Magic Mo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66ff"/>
                </a:solidFill>
                <a:latin typeface="Ravie"/>
              </a:rPr>
              <a:t>Intérpre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Ravie"/>
              </a:rPr>
              <a:t>Burt Bachar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66cc"/>
                </a:solidFill>
                <a:latin typeface="Ravie"/>
              </a:rPr>
              <a:t>Álb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Ravie"/>
              </a:rPr>
              <a:t>M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2781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Comic Sans MS"/>
              </a:rPr>
              <a:t>Como usar um preservativo depois dos 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2743200" cy="2721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1413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imeiro, preparar para a ac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2743200" cy="265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58920" y="1700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Depois, selecionar o preserv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76720" y="2421000"/>
            <a:ext cx="2570040" cy="259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32000" y="1413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, finalmente,dar-lhe o uso adequ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19280" y="2276640"/>
            <a:ext cx="5638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cc"/>
                </a:solidFill>
                <a:latin typeface="Comic Sans MS"/>
              </a:rPr>
              <a:t>O risco que se cor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cc"/>
                </a:solidFill>
                <a:latin typeface="Comic Sans MS"/>
              </a:rPr>
              <a:t>na casa de ban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1052640"/>
            <a:ext cx="370368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19280" y="24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cc"/>
                </a:solidFill>
                <a:latin typeface="Comic Sans MS"/>
              </a:rPr>
              <a:t>Outras situaçõe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562720" cy="5176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27640" y="138240"/>
            <a:ext cx="4267080" cy="914400"/>
          </a:xfrm>
          <a:prstGeom prst="wedgeRoundRectCallout">
            <a:avLst>
              <a:gd name="adj1" fmla="val -48662"/>
              <a:gd name="adj2" fmla="val 135939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rita mais forte que não te escuto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2:07:11Z</dcterms:created>
  <dc:creator>Fred</dc:creator>
  <dc:description/>
  <dc:language>en-US</dc:language>
  <cp:lastModifiedBy> </cp:lastModifiedBy>
  <dcterms:modified xsi:type="dcterms:W3CDTF">2007-04-07T21:53:14Z</dcterms:modified>
  <cp:revision>27</cp:revision>
  <dc:subject/>
  <dc:title>A Idade não Perdoa</dc:title>
</cp:coreProperties>
</file>