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agic%20Moments%20-Burt%20%20Bacharach%20Moods-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103-AD8F-4587-8051-8C4A4B6B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9DC-124D-4397-8FF8-6458667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140-D276-4FF7-80A9-3C997576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43E-67A1-4753-8E54-E9BDF92F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95B-7BC4-46B8-8F8E-A5D1481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CE3-04BF-461D-B759-5FA54DB3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346-583C-4BCE-AB86-1468567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A59-8C30-4C59-9348-6D0F9FC0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FD6-A358-40E8-A212-B040234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3F5-C118-4024-949F-5DCFC7A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41C-62DC-4EB6-A72C-CB5C20D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0F5-B0E8-4999-83CA-81FC390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C63F-C7EA-4E0D-930E-C446AF4DCB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gic%20Moments%20-Burt%20%20Bacharach%20Moods-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54936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Ravie"/>
              </a:rPr>
              <a:t>É triste quando sentimos que  estamos velho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1639800"/>
            <a:ext cx="5790960" cy="485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189000"/>
            <a:ext cx="3353040" cy="1295280"/>
          </a:xfrm>
          <a:prstGeom prst="wedgeRoundRectCallout">
            <a:avLst>
              <a:gd name="adj1" fmla="val 51087"/>
              <a:gd name="adj2" fmla="val 8884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ancisco, há já muitos anos que não estão a ess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6648480" cy="53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89320" y="228600"/>
            <a:ext cx="4919760" cy="1676520"/>
          </a:xfrm>
          <a:prstGeom prst="wedgeRoundRectCallout">
            <a:avLst>
              <a:gd name="adj1" fmla="val -36449"/>
              <a:gd name="adj2" fmla="val 9517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erido, por favor, deixa-te disso. Eu sei muito bem  que é a tua bengal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4981680" cy="576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03640" y="549360"/>
            <a:ext cx="3429000" cy="1371600"/>
          </a:xfrm>
          <a:prstGeom prst="wedgeRoundRectCallout">
            <a:avLst>
              <a:gd name="adj1" fmla="val -76203"/>
              <a:gd name="adj2" fmla="val 9236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</a:rPr>
              <a:t>Façamos um acordo: eu deixo de usar vestidos curtos  e tu deixas de usar  bermudas. O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811160"/>
            <a:ext cx="7864560" cy="435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360" y="260280"/>
            <a:ext cx="4343400" cy="1447920"/>
          </a:xfrm>
          <a:prstGeom prst="wedgeRoundRectCallout">
            <a:avLst>
              <a:gd name="adj1" fmla="val -38305"/>
              <a:gd name="adj2" fmla="val 138925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ão te ofendas, Alzira, mas nós éramos amigos, parentes ou espos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6094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Mas o mais importante..., como diriam os espanhó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2565360"/>
            <a:ext cx="77677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5000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Ravie"/>
              </a:rPr>
              <a:t>Es estar vivo 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5000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Ravie"/>
              <a:ea typeface="Rav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5000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Ravie"/>
              </a:rPr>
              <a:t>disfrutar la vid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5000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Ravie"/>
              <a:ea typeface="Ravie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1557360"/>
            <a:ext cx="5759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cc"/>
                </a:solidFill>
                <a:latin typeface="Comic Sans MS"/>
              </a:rPr>
              <a:t>Com o maior dos afectos para os meus amigos mais velhos, e para os mais novos, para que tenham em mente que... fatalmente, um dia isto lhes vai dizer respe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6360" y="1052640"/>
            <a:ext cx="63244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ff"/>
                </a:solidFill>
                <a:latin typeface="Ravie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Magic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ff"/>
                </a:solidFill>
                <a:latin typeface="Ravie"/>
              </a:rPr>
              <a:t>Intérpr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Burt Bachar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66cc"/>
                </a:solidFill>
                <a:latin typeface="Ravie"/>
              </a:rPr>
              <a:t>Álb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33cc"/>
                </a:solidFill>
                <a:latin typeface="Ravie"/>
              </a:rPr>
              <a:t>M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781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Comic Sans MS"/>
              </a:rPr>
              <a:t>Como usar um preservativo depois dos 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2743200" cy="272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1413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imeiro, preparar para a ac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743200" cy="265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pois, selecionar o preserv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2421000"/>
            <a:ext cx="2570040" cy="259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1413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, finalmente,dar-lhe o uso adequ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2276640"/>
            <a:ext cx="563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O risco que se cor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na casa de ban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7036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24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cc"/>
                </a:solidFill>
                <a:latin typeface="Comic Sans MS"/>
              </a:rPr>
              <a:t>Outras situaçõ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62720" cy="517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7640" y="138240"/>
            <a:ext cx="4267080" cy="914400"/>
          </a:xfrm>
          <a:prstGeom prst="wedgeRoundRectCallout">
            <a:avLst>
              <a:gd name="adj1" fmla="val -48662"/>
              <a:gd name="adj2" fmla="val 135939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rita mais forte que não te escut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2:07:11Z</dcterms:created>
  <dc:creator>Fred</dc:creator>
  <dc:description/>
  <dc:language>en-US</dc:language>
  <cp:lastModifiedBy> </cp:lastModifiedBy>
  <dcterms:modified xsi:type="dcterms:W3CDTF">2007-04-07T21:53:14Z</dcterms:modified>
  <cp:revision>27</cp:revision>
  <dc:subject/>
  <dc:title>A Idade não Perdoa</dc:title>
</cp:coreProperties>
</file>