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E66-0598-4A21-98CE-A7EE6A03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E37D-7DC4-4378-A2C2-A84D9BAB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0E1-F152-4DB7-BFB4-2EFA934C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B6E-7121-4228-8F15-CDFDE253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BB4-6E06-42AD-A96C-D263A19D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E8A-CC60-4F95-84A6-F7D7057E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B28-70D3-4A96-A594-D4A498DA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9A0-943E-4C24-9264-5066AF20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03AF-9F10-415B-8E3C-520C9947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1F6-6CBB-4DA5-8EA9-FEA1C3FE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ECF0-2C80-4D7B-B420-B46895B5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67B8-E29E-4566-9F87-A3BE6E11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AF1E-D4E7-4C19-B820-7DBA2C7630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Vangelis%20-Love%20Theme%20From%20Bladerunner.wav" TargetMode="External"/><Relationship Id="rId3" Type="http://schemas.microsoft.com/office/2007/relationships/media" Target="file:///tmp/home/.config/libreoffice/4/user/gallery/Vangelis%20-Love%20Theme%20From%20Bladerunner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521000">
            <a:off x="1258200" y="4508280"/>
            <a:ext cx="57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cc"/>
                </a:solidFill>
                <a:latin typeface="Cooper Black"/>
              </a:rPr>
              <a:t>“</a:t>
            </a:r>
            <a:r>
              <a:rPr b="0" lang="es-ES" sz="6000" spc="-1" strike="noStrike">
                <a:solidFill>
                  <a:srgbClr val="0000cc"/>
                </a:solidFill>
                <a:latin typeface="Cooper Black"/>
              </a:rPr>
              <a:t>Saber reagir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47640" y="1236600"/>
            <a:ext cx="669636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 Black"/>
              </a:rPr>
              <a:t>Roberto perdoa-me, mas não consigo lembrar-me de quem és tu, por favor procura a tua foto no envelope e devolve-me o r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 Black"/>
              </a:rPr>
              <a:t>Con a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 Black"/>
              </a:rPr>
              <a:t>Clau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98100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6600"/>
                </a:solidFill>
                <a:uFillTx/>
                <a:latin typeface="Arial Black"/>
              </a:rPr>
              <a:t>MORAL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198900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6600"/>
                </a:solidFill>
                <a:latin typeface="Arial Black"/>
              </a:rPr>
              <a:t>Mesmo derrotadas … temos que saber  FODER o INIMIGO 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2720" y="2363760"/>
            <a:ext cx="35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cc"/>
                </a:solidFill>
                <a:latin typeface="Arial Black"/>
              </a:rPr>
              <a:t>Tens que reenviar esta mensagem só a mulhere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2060640"/>
            <a:ext cx="381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3300"/>
                </a:solidFill>
                <a:latin typeface="Arial Black"/>
              </a:rPr>
              <a:t>¡¡¡ SÊ forte sempre. Mesmo que doa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rot="1525800">
            <a:off x="1762920" y="364500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oper Black"/>
              </a:rPr>
              <a:t>“</a:t>
            </a:r>
            <a:r>
              <a:rPr b="0" lang="es-ES" sz="4000" spc="-1" strike="noStrike">
                <a:solidFill>
                  <a:srgbClr val="000000"/>
                </a:solidFill>
                <a:latin typeface="Cooper Black"/>
              </a:rPr>
              <a:t>Com amor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42920" y="836640"/>
            <a:ext cx="720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oper Black"/>
              </a:rPr>
              <a:t>Uma mulher executiva, destacada a trabalho temporáriamente em Pari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71640" y="404640"/>
            <a:ext cx="712764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oper Black"/>
              </a:rPr>
              <a:t>Recebe uma carta do seu noivo que ficara na Argentin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5823000"/>
            <a:ext cx="727236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oper Black"/>
              </a:rPr>
              <a:t>A carta dizia o segui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6000" y="404640"/>
            <a:ext cx="741672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99"/>
                </a:solidFill>
                <a:latin typeface="Arial Black"/>
              </a:rPr>
              <a:t>Querida Claudia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99"/>
                </a:solidFill>
                <a:latin typeface="Arial Black"/>
              </a:rPr>
              <a:t>Já não posso continuar com esta relaçã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99"/>
                </a:solidFill>
                <a:latin typeface="Arial Black"/>
              </a:rPr>
              <a:t>A distãncia que nos separa é demasiado grande. Devo admitir que te fui infiel dez vezes desde que te foste e creio que nem tu nem eu merecemos isto. Sinto muit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99"/>
                </a:solidFill>
                <a:latin typeface="Arial Black"/>
              </a:rPr>
              <a:t>Por favor devolve-me a foto que te envie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99"/>
                </a:solidFill>
                <a:latin typeface="Arial Black"/>
              </a:rPr>
              <a:t>Com am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99"/>
                </a:solidFill>
                <a:latin typeface="Arial Black"/>
              </a:rPr>
              <a:t>Robe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2679480" cy="3936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24360" y="1182600"/>
            <a:ext cx="460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A mulher muito ferida, pediu a todas as suas companheiras de trabalho que lhe dessem fotos dos seus noivos, irmãos, amigos, primo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563840"/>
            <a:ext cx="3699000" cy="3736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84360" y="2852640"/>
            <a:ext cx="1371600" cy="2190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56000" y="1916280"/>
            <a:ext cx="44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3300"/>
                </a:solidFill>
                <a:latin typeface="Cooper Black"/>
              </a:rPr>
              <a:t>Junto con a foto de Roberto, incluiu todas as fotos que tinha recolhido das suas amigas e enviou-lh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11560" y="2492280"/>
            <a:ext cx="2784600" cy="439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2857320" cy="2495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172404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300720" y="0"/>
            <a:ext cx="2692440" cy="414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278160" cy="4437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619280" y="4437000"/>
            <a:ext cx="1606680" cy="2421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037200" y="2421000"/>
            <a:ext cx="3106800" cy="4437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49600" cy="378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2670120" cy="3816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627280" y="0"/>
            <a:ext cx="3262320" cy="4437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815080" y="0"/>
            <a:ext cx="3328920" cy="4437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627280" y="4437000"/>
            <a:ext cx="162864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4211640" y="4405320"/>
            <a:ext cx="3024360" cy="2479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215120" y="4032360"/>
            <a:ext cx="1928880" cy="285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734160" y="0"/>
            <a:ext cx="2409840" cy="364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906720"/>
            <a:ext cx="2530440" cy="2951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25760" cy="39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737400" y="3357720"/>
            <a:ext cx="2406600" cy="3500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0360" y="1341360"/>
            <a:ext cx="3816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ddddd"/>
                </a:solidFill>
                <a:latin typeface="Cooper Black"/>
              </a:rPr>
              <a:t>Além das fotos, no envelope, juntou uma nota que dizia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22:38:28Z</dcterms:created>
  <dc:creator>parlott@</dc:creator>
  <dc:description/>
  <dc:language>en-US</dc:language>
  <cp:lastModifiedBy>cst</cp:lastModifiedBy>
  <dcterms:modified xsi:type="dcterms:W3CDTF">2008-05-17T11:42:47Z</dcterms:modified>
  <cp:revision>8</cp:revision>
  <dc:subject/>
  <dc:title>saber reaccionar</dc:title>
</cp:coreProperties>
</file>