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Chopin%20-%20Tristesse%20(piano).wav" ContentType="audio/x-wav"/>
  <Override PartName="/ppt/media/image1.png" ContentType="image/png"/>
  <Override PartName="/ppt/media/image13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A0E2-C5A4-471F-A9C6-452283EBFF9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6264-9D67-4CEC-A254-1AF7938E55D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41EF-DE06-41C2-8686-09EDD702E2D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0FE1-4FCB-439E-B548-B6983F58547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293F-95B2-4B92-A3B7-F88070C1C60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C3F1-30BD-4193-892E-3E4D318B5A6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11F9-BCCF-452F-A25A-96D9C1307F0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8201-238E-4757-835A-376E46355E6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E3CC-FC84-4FEF-AD39-8B909551F02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1E06-8EFF-4067-AD4C-D860DC33DC0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E33E-7B19-40EF-B9B6-E317BF8035B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E44C-5952-4EEB-AC3F-8E483D22B69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5485-8DBC-4B5E-9966-C995D612D7E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D9FE-6FB7-4874-9238-303C17BED6E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7564-D6FC-4665-8285-36FB868AF56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6D89-0CC2-4FBE-B321-DDE337A4B65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D29E-8047-4904-BF39-85A054B2E3D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2ED3-F051-4D4F-95D6-3B3E712D75F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7518-C9E6-4AC1-9662-0A5D5DDC0AA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5417-6EF3-48B1-A3B5-2486D4A61AD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4E1E-0A79-441C-B10A-E5A4A848C10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895F-F867-4FA9-9766-2CADC2E5B9E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5DAE-5CC6-4D0D-946F-4DF5322BAC1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C857-24CB-4B93-B594-133A40E0BB2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0235-C0B4-456B-9A38-CFEB621FC2A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5ED0-F49F-4F98-9BB6-73941CBC510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9FE3-8A26-47C8-9409-ACC6C0A2561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A0F9-011D-4118-A8F9-2F54B2B6DAA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80B2-7C15-4784-B939-487A1F2B071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ECF0-03F7-407F-82E3-03824C04885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D3B3-8A18-4D3F-A7C3-A69E0FFFAC9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3C83-6FE0-4D5A-B2E3-F3D0ADA8DD6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0DC6-D5E6-46F3-B21D-FAAC177FD85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0B04-C9CB-4E34-985A-89FAA93DCE4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2BBA-2AAF-4261-A18D-F08F3F19416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62E7-305D-40A0-9B24-8D312D924FA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20C7-1B0C-420D-B9D3-AEA2E93CC12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2CD7-CCED-4028-9FDA-E6B708486F5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B9A6-571E-4C6D-AB2F-41D39BC072C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605F-DCA9-4619-B98A-E4F31B99AFC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AD3A-B22E-44EB-968F-25520342A7F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F833-7E8D-496E-8552-17C07541D9A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E56A-5EDE-4D16-82C7-19F7373DE7D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E0C5-D28E-4B48-B469-FAF66BFE163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ED32-86B9-4C7A-809E-70A8CDA36CA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740-9F6C-4CC3-B959-FF912D33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31C-5256-4BB6-9025-A6FBEB91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083D-3753-4D5B-A83D-544FC822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04AC-FF01-47DD-A440-5C125490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675F-AD78-40A4-A81D-B626511B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00E7-CE0E-4566-A29E-351C4F91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B6CA-1C79-4484-976D-E83007B7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FB3B-A96D-4CB7-A23A-E0A1DB38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3BC5-8979-41DF-A31B-45B0C727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EF78-205E-456D-A22B-4EB41F4E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1C3D-CEB7-4889-BDCA-F9EC3BAD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386-8E83-4E46-B54C-02184C8B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2182-B42B-4D14-9C70-6A2099C1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1F1A-4C62-4D21-9BBF-25A20472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B79F-BA52-4AF8-AEED-7345670B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137D-3A30-490D-8256-0EC1A239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2CD7-A106-4572-8A05-556A1EDD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A6FE-4525-4251-826B-472282E0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2C71-160E-4BE0-B46E-CB9F8B83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6E96-3349-4597-ABE6-3DB3F0EF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50F-7718-4DE3-BD66-6FDDA7DE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244-119C-4B40-BA86-031FA1E7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F965-30FC-473F-AC42-DDCBD6D0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245-74F4-454D-A6F7-D9F7BE6F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66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66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66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666699"/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F0DC-5FFF-4CFD-B17F-43E7FC9BB91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666699"/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66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66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66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CAE5-1CFE-43EF-9B75-99DF137BF58F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opin%20-%20Tristesse%20(piano)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611280" y="2781360"/>
            <a:ext cx="784836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matciems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 paraíso desconhecido da Letônia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2 Imagen" descr="10.jpg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8 Imagen" descr="2.jpg"/>
          <p:cNvPicPr/>
          <p:nvPr/>
        </p:nvPicPr>
        <p:blipFill>
          <a:blip r:embed="rId1"/>
          <a:stretch/>
        </p:blipFill>
        <p:spPr>
          <a:xfrm>
            <a:off x="0" y="571680"/>
            <a:ext cx="916452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1 Rectángulo"/>
          <p:cNvSpPr/>
          <p:nvPr/>
        </p:nvSpPr>
        <p:spPr>
          <a:xfrm>
            <a:off x="428760" y="3357720"/>
            <a:ext cx="835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ão utilizados três tipos de estruturas - esquadrias d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deira, troncos e alvenaria que complementa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 fachadas de pedra natural, madeira compensad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corativa, gesso ou cristal pintado nas paredes exterior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Imagen" descr="9.jpg"/>
          <p:cNvPicPr/>
          <p:nvPr/>
        </p:nvPicPr>
        <p:blipFill>
          <a:blip r:embed="rId1"/>
          <a:stretch/>
        </p:blipFill>
        <p:spPr>
          <a:xfrm>
            <a:off x="0" y="500040"/>
            <a:ext cx="9242280" cy="585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9 Imagen" descr="4.jpg"/>
          <p:cNvPicPr/>
          <p:nvPr/>
        </p:nvPicPr>
        <p:blipFill>
          <a:blip r:embed="rId1"/>
          <a:stretch/>
        </p:blipFill>
        <p:spPr>
          <a:xfrm>
            <a:off x="0" y="500040"/>
            <a:ext cx="912960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Rectángulo"/>
          <p:cNvSpPr/>
          <p:nvPr/>
        </p:nvSpPr>
        <p:spPr>
          <a:xfrm>
            <a:off x="928800" y="3214800"/>
            <a:ext cx="7286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 conceito de cada casa se permite quatr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ipos de coberturas - telhados de palha, troncos talhados, cerâmica o telhas de cimento. Isto não quer dizer que estão limitados em sua escolha. As novas idéias são sempre bem-vindas…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1 Imagen" descr="5.jpg"/>
          <p:cNvPicPr/>
          <p:nvPr/>
        </p:nvPicPr>
        <p:blipFill>
          <a:blip r:embed="rId1"/>
          <a:stretch/>
        </p:blipFill>
        <p:spPr>
          <a:xfrm>
            <a:off x="0" y="571680"/>
            <a:ext cx="914076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1 Imagen" descr="8.jpg"/>
          <p:cNvPicPr/>
          <p:nvPr/>
        </p:nvPicPr>
        <p:blipFill>
          <a:blip r:embed="rId1"/>
          <a:stretch/>
        </p:blipFill>
        <p:spPr>
          <a:xfrm>
            <a:off x="0" y="642960"/>
            <a:ext cx="914076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1 Imagen" descr="6.jpg"/>
          <p:cNvPicPr/>
          <p:nvPr/>
        </p:nvPicPr>
        <p:blipFill>
          <a:blip r:embed="rId1"/>
          <a:stretch/>
        </p:blipFill>
        <p:spPr>
          <a:xfrm>
            <a:off x="0" y="642960"/>
            <a:ext cx="9145440" cy="579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1 Imagen" descr="15.jpg"/>
          <p:cNvPicPr/>
          <p:nvPr/>
        </p:nvPicPr>
        <p:blipFill>
          <a:blip r:embed="rId1"/>
          <a:stretch/>
        </p:blipFill>
        <p:spPr>
          <a:xfrm>
            <a:off x="0" y="428760"/>
            <a:ext cx="9132840" cy="608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8 Imagen" descr="3.jpg"/>
          <p:cNvPicPr/>
          <p:nvPr/>
        </p:nvPicPr>
        <p:blipFill>
          <a:blip r:embed="rId1"/>
          <a:stretch/>
        </p:blipFill>
        <p:spPr>
          <a:xfrm>
            <a:off x="0" y="571680"/>
            <a:ext cx="912960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1 Imagen" descr="7.jpg"/>
          <p:cNvPicPr/>
          <p:nvPr/>
        </p:nvPicPr>
        <p:blipFill>
          <a:blip r:embed="rId1"/>
          <a:stretch/>
        </p:blipFill>
        <p:spPr>
          <a:xfrm>
            <a:off x="0" y="500040"/>
            <a:ext cx="914076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3 Imagen" descr="1maja22.jpg"/>
          <p:cNvPicPr/>
          <p:nvPr/>
        </p:nvPicPr>
        <p:blipFill>
          <a:blip r:embed="rId1"/>
          <a:stretch/>
        </p:blipFill>
        <p:spPr>
          <a:xfrm>
            <a:off x="-1440" y="571680"/>
            <a:ext cx="9145440" cy="579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2 Imagen" descr="1maja7.jpg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1 Rectángulo"/>
          <p:cNvSpPr/>
          <p:nvPr/>
        </p:nvSpPr>
        <p:spPr>
          <a:xfrm>
            <a:off x="928800" y="3357720"/>
            <a:ext cx="71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da parcela está conectada à rede de serviços públicos - fornecimento de água, esgoto, eletricidade e cabo de fibra ótic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1 Imagen" descr="017.jpg"/>
          <p:cNvPicPr/>
          <p:nvPr/>
        </p:nvPicPr>
        <p:blipFill>
          <a:blip r:embed="rId1"/>
          <a:stretch/>
        </p:blipFill>
        <p:spPr>
          <a:xfrm>
            <a:off x="0" y="571680"/>
            <a:ext cx="912960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3 Imagen" descr="1maja23.jpg"/>
          <p:cNvPicPr/>
          <p:nvPr/>
        </p:nvPicPr>
        <p:blipFill>
          <a:blip r:embed="rId1"/>
          <a:stretch/>
        </p:blipFill>
        <p:spPr>
          <a:xfrm>
            <a:off x="0" y="642960"/>
            <a:ext cx="912960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2 Imagen" descr="1maja24.jpg"/>
          <p:cNvPicPr/>
          <p:nvPr/>
        </p:nvPicPr>
        <p:blipFill>
          <a:blip r:embed="rId1"/>
          <a:stretch/>
        </p:blipFill>
        <p:spPr>
          <a:xfrm>
            <a:off x="0" y="571680"/>
            <a:ext cx="9145440" cy="579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3 Imagen" descr="2a.jpg"/>
          <p:cNvPicPr/>
          <p:nvPr/>
        </p:nvPicPr>
        <p:blipFill>
          <a:blip r:embed="rId1"/>
          <a:stretch/>
        </p:blipFill>
        <p:spPr>
          <a:xfrm>
            <a:off x="0" y="357120"/>
            <a:ext cx="9134640" cy="6072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2 Imagen" descr="irina2.jpg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3 Imagen" descr="vide-7.jpg"/>
          <p:cNvPicPr/>
          <p:nvPr/>
        </p:nvPicPr>
        <p:blipFill>
          <a:blip r:embed="rId1"/>
          <a:stretch/>
        </p:blipFill>
        <p:spPr>
          <a:xfrm>
            <a:off x="0" y="500040"/>
            <a:ext cx="914076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2 Imagen" descr="karte.jpg"/>
          <p:cNvPicPr/>
          <p:nvPr/>
        </p:nvPicPr>
        <p:blipFill>
          <a:blip r:embed="rId2"/>
          <a:stretch/>
        </p:blipFill>
        <p:spPr>
          <a:xfrm>
            <a:off x="214200" y="642960"/>
            <a:ext cx="4214880" cy="5824440"/>
          </a:xfrm>
          <a:prstGeom prst="rect">
            <a:avLst/>
          </a:prstGeom>
          <a:ln w="0">
            <a:noFill/>
          </a:ln>
        </p:spPr>
      </p:pic>
      <p:pic>
        <p:nvPicPr>
          <p:cNvPr id="95" name="3 Imagen" descr="plans.png"/>
          <p:cNvPicPr/>
          <p:nvPr/>
        </p:nvPicPr>
        <p:blipFill>
          <a:blip r:embed="rId3"/>
          <a:stretch/>
        </p:blipFill>
        <p:spPr>
          <a:xfrm>
            <a:off x="1500120" y="4786200"/>
            <a:ext cx="2430360" cy="15717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"/>
          <p:cNvSpPr/>
          <p:nvPr/>
        </p:nvSpPr>
        <p:spPr>
          <a:xfrm>
            <a:off x="4572000" y="2357280"/>
            <a:ext cx="4214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matciems 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se encontra a 80 Km de Riga, a capital da Letônia, 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a 12 Km de Cēsis que tem uns 20.000 habitantes, se desejar comprar uma casa em um lugar separado do mundo e pouco conhecido, este é seu lugar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or menos de 200.000 € você poderá comprar uma casa situada em um espetacular paisagem natural de indescritível belez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2 Imagen" descr="vide-11.jpg"/>
          <p:cNvPicPr/>
          <p:nvPr/>
        </p:nvPicPr>
        <p:blipFill>
          <a:blip r:embed="rId1"/>
          <a:stretch/>
        </p:blipFill>
        <p:spPr>
          <a:xfrm>
            <a:off x="0" y="571680"/>
            <a:ext cx="914076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4 Imagen" descr="vide-14.jpg"/>
          <p:cNvPicPr/>
          <p:nvPr/>
        </p:nvPicPr>
        <p:blipFill>
          <a:blip r:embed="rId1"/>
          <a:stretch/>
        </p:blipFill>
        <p:spPr>
          <a:xfrm>
            <a:off x="0" y="500040"/>
            <a:ext cx="914076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1 Rectángulo"/>
          <p:cNvSpPr/>
          <p:nvPr/>
        </p:nvSpPr>
        <p:spPr>
          <a:xfrm>
            <a:off x="1143000" y="3143160"/>
            <a:ext cx="702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Amatciems tem reservas naturais de água doce - represas, lagos e riachos. Todos os depósitos estão interconectados para alimentar uns aos outros pelos canais e evitar as inundações em períodos de chuva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1 Imagen" descr="18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2 Imagen" descr="vide-8.jpg"/>
          <p:cNvPicPr/>
          <p:nvPr/>
        </p:nvPicPr>
        <p:blipFill>
          <a:blip r:embed="rId1"/>
          <a:stretch/>
        </p:blipFill>
        <p:spPr>
          <a:xfrm>
            <a:off x="3240" y="571680"/>
            <a:ext cx="914076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1 Rectángulo"/>
          <p:cNvSpPr/>
          <p:nvPr/>
        </p:nvSpPr>
        <p:spPr>
          <a:xfrm>
            <a:off x="1214280" y="2428920"/>
            <a:ext cx="678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s habitantes podem admirar veados, raposas, aves e outros animais em movimento sem cercas através da zona, ou ter tempo para caminhar pelo bosque, talvez em busca de morangos, amoras e groselha no caminho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2 Rectángulo"/>
          <p:cNvSpPr/>
          <p:nvPr/>
        </p:nvSpPr>
        <p:spPr>
          <a:xfrm>
            <a:off x="1285920" y="3786120"/>
            <a:ext cx="657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ravilhosas vistas de colinas, lagos, campos e bosques que produzem sentimentos de paz e tranquilidad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3 Rectángulo"/>
          <p:cNvSpPr/>
          <p:nvPr/>
        </p:nvSpPr>
        <p:spPr>
          <a:xfrm>
            <a:off x="1143000" y="471492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O povo tem atraído aqueles que valorizam a simplicidade e a vida natural. A comunidade de Amatciem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é totalmente internacional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5 Imagen" descr="zc7v5977.jpg"/>
          <p:cNvPicPr/>
          <p:nvPr/>
        </p:nvPicPr>
        <p:blipFill>
          <a:blip r:embed="rId1"/>
          <a:stretch/>
        </p:blipFill>
        <p:spPr>
          <a:xfrm>
            <a:off x="-7920" y="500040"/>
            <a:ext cx="9151920" cy="608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1 Imagen" descr="11.jpg"/>
          <p:cNvPicPr/>
          <p:nvPr/>
        </p:nvPicPr>
        <p:blipFill>
          <a:blip r:embed="rId1"/>
          <a:stretch/>
        </p:blipFill>
        <p:spPr>
          <a:xfrm>
            <a:off x="0" y="642960"/>
            <a:ext cx="9242280" cy="585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 Imagen" descr="052.jpg"/>
          <p:cNvPicPr/>
          <p:nvPr/>
        </p:nvPicPr>
        <p:blipFill>
          <a:blip r:embed="rId1"/>
          <a:stretch/>
        </p:blipFill>
        <p:spPr>
          <a:xfrm>
            <a:off x="0" y="571680"/>
            <a:ext cx="912960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1 Imagen" descr="12.jpg"/>
          <p:cNvPicPr/>
          <p:nvPr/>
        </p:nvPicPr>
        <p:blipFill>
          <a:blip r:embed="rId1"/>
          <a:stretch/>
        </p:blipFill>
        <p:spPr>
          <a:xfrm>
            <a:off x="-1440" y="500040"/>
            <a:ext cx="9145440" cy="579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8 Imagen" descr="13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8 Imagen" descr="17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2 Imagen" descr="16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7 Rectángulo"/>
          <p:cNvSpPr/>
          <p:nvPr/>
        </p:nvSpPr>
        <p:spPr>
          <a:xfrm>
            <a:off x="714240" y="1214280"/>
            <a:ext cx="4714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ugar para aqueles que estão disposto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 compartir sua vida com a natureza, coexistir em harmonia que lhes permitirá atualizar seu ser com as energias dos aromas naturais e os son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9 Rectángulo"/>
          <p:cNvSpPr/>
          <p:nvPr/>
        </p:nvSpPr>
        <p:spPr>
          <a:xfrm>
            <a:off x="714240" y="2643120"/>
            <a:ext cx="4857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Um lugar para aqueles que gostam d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lhar os pássaros, os animais, amanhecer e por do sol que refletirão nas águas virgens dos arredores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10 Rectángulo"/>
          <p:cNvSpPr/>
          <p:nvPr/>
        </p:nvSpPr>
        <p:spPr>
          <a:xfrm>
            <a:off x="857160" y="3714840"/>
            <a:ext cx="464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Um lugar para aqueles que podem se permitir desfrutar da beleza natural de cada dia nas quatro estações do ano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11 Rectángulo"/>
          <p:cNvSpPr/>
          <p:nvPr/>
        </p:nvSpPr>
        <p:spPr>
          <a:xfrm>
            <a:off x="785880" y="4714920"/>
            <a:ext cx="442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Uma forma natural de vida, um projeto único, uma obra mestra de um gênio ecológico, o Sr. Aivars Zvirbulis, que pensa que a vida urbana é uma perda de tempo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1" name="14 Imagen" descr="Aivars Zvirbulis.jpg"/>
          <p:cNvPicPr/>
          <p:nvPr/>
        </p:nvPicPr>
        <p:blipFill>
          <a:blip r:embed="rId2"/>
          <a:stretch/>
        </p:blipFill>
        <p:spPr>
          <a:xfrm>
            <a:off x="5572080" y="1500120"/>
            <a:ext cx="2814840" cy="3929040"/>
          </a:xfrm>
          <a:prstGeom prst="rect">
            <a:avLst/>
          </a:prstGeom>
          <a:ln w="0">
            <a:noFill/>
          </a:ln>
        </p:spPr>
      </p:pic>
      <p:sp>
        <p:nvSpPr>
          <p:cNvPr id="142" name="15 Rectángulo"/>
          <p:cNvSpPr/>
          <p:nvPr/>
        </p:nvSpPr>
        <p:spPr>
          <a:xfrm>
            <a:off x="5572080" y="542916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ff"/>
                </a:solidFill>
                <a:latin typeface="Verdana"/>
              </a:rPr>
              <a:t>Aivars Zvirbuli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3 Imagen" descr="000rexxa.jpg"/>
          <p:cNvPicPr/>
          <p:nvPr/>
        </p:nvPicPr>
        <p:blipFill>
          <a:blip r:embed="rId2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2714760" y="4869000"/>
            <a:ext cx="321444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im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5 Rectángulo"/>
          <p:cNvSpPr/>
          <p:nvPr/>
        </p:nvSpPr>
        <p:spPr>
          <a:xfrm>
            <a:off x="928800" y="3929040"/>
            <a:ext cx="735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uitos arquitetos famosos já reconheceram em Amatciems um monumento cultural do futuro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3 Rectángulo"/>
          <p:cNvSpPr/>
          <p:nvPr/>
        </p:nvSpPr>
        <p:spPr>
          <a:xfrm>
            <a:off x="857160" y="3000240"/>
            <a:ext cx="742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Verdana"/>
              </a:rPr>
              <a:t>Amatciems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é uma comunidade residencial, ma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arece mais com uma reserva natura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8 Imagen" descr="14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Rectángulo"/>
          <p:cNvSpPr/>
          <p:nvPr/>
        </p:nvSpPr>
        <p:spPr>
          <a:xfrm>
            <a:off x="928800" y="3357720"/>
            <a:ext cx="735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Não há estradas asfaltadas em Amatciem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o lugar para que se construir uma casa é selecionado cuidadosamente para encaixar na paisagem existente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 Imagen" descr="1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9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1 Rectángulo"/>
          <p:cNvSpPr/>
          <p:nvPr/>
        </p:nvSpPr>
        <p:spPr>
          <a:xfrm>
            <a:off x="1071720" y="3286080"/>
            <a:ext cx="7143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vem ser cumpridos dois critérios principais - uma casa nova não deve ocultar as belas paisagens naturais e permitir aos proprietários de cada parcela desfrutar de seu próprio pedacinho de bosque e do reservatório de água doce natura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 Imagen" descr="022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9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4:44:10Z</dcterms:created>
  <dc:creator/>
  <dc:description/>
  <dc:language>en-US</dc:language>
  <cp:lastModifiedBy>NIETMANN</cp:lastModifiedBy>
  <dcterms:modified xsi:type="dcterms:W3CDTF">2010-01-11T01:12:15Z</dcterms:modified>
  <cp:revision>23</cp:revision>
  <dc:subject/>
  <dc:title>Slide 1</dc:title>
</cp:coreProperties>
</file>