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Chopin%20-%20Tristesse%20(piano).wav" ContentType="audio/x-wav"/>
  <Override PartName="/ppt/media/image1.png" ContentType="image/pn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F7A-95DD-4CF0-815A-B90C00281C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AC8C-1C8B-4D34-B320-AF227EBF593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AD5-72DF-4326-8F60-82ED5D7C1E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AD94-899D-4DDF-8E1F-049E1566D04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2625-92C4-4CA0-AC62-C596BF3B35A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50F-D267-4744-B35C-D0A3302D63E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901A-9BAF-4959-8046-3FF813404F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7E51-07F5-40C1-975B-38CFA9D6A4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7090-B95C-4721-A163-44C4AAF88B3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1ABE-0226-4281-BDC4-7BCFD77D09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6684-5762-423E-9BD7-E1B78DB8AEA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C884-E97A-4C17-A771-1C14CDDFDAC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5C23-E982-42A2-9C6C-2545A656F5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BFC6-0BF0-4D8A-804C-06311637F04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38C3-C829-4C1A-8B07-3291B3721E3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1436-0B6A-4DBC-B0B6-235BAFAA86A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33F-A4B6-4CC7-8EF7-22CBB9BA8EF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A7F-0D30-48F5-BAC9-C16A4015CFA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2834-D6F7-4072-8052-A1511E24091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5071-6A88-407B-B941-11B7377F9D3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114A-456F-4C31-B981-4C1F6D79DA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A35-D542-4C30-B6A8-91F5F9E7691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0D13-6EB2-44C2-B97C-737697201DA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0AA8-3B4A-41BE-B71B-61C3B827486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0C87-899B-40A0-A369-3E06BAB04F3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39F0-6F7B-4B63-B4CF-4F32E3E036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7CE5-124F-4A24-9261-E74B873053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7F4-BB46-4EEF-A8CB-84A23A797DF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45B-455D-4A73-8500-672C2068919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D3EC-F805-4BC9-9417-63340AB7D50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7873-5807-49E6-B085-BFBB8589436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F197-5C45-4A0F-ACCC-F5D22A45118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8DE-FAF9-4250-8775-E1115074E9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A95-DD45-4768-AC82-ECD38D44E9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34BC-8774-4B36-A0DB-E0B7FC10B8D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A967-86DE-4FFF-8860-BED1E0D68EC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DBF0-61E9-49A4-A58E-9A4E1A8766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BF19-8FA2-4560-B819-921F7388EF8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D4E0-A362-43D3-935C-16A4893A5D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B9C-F525-43FC-BE7C-7C7B211F9E6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EB81-AD1D-4852-AA65-A8F2D725ACC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B78F-997A-465D-B63E-224821BB463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068F-5653-4BDE-A1C9-EE54D899FCB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6410-F835-468B-A1B7-A2A9A44CD6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01B-1E13-413E-B17A-59E6CB7B65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13E-A4F9-4BAC-8A6E-E500E02E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21D-CA54-42B9-B273-9CEA8C9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A7C-63BA-432E-9333-53B154A6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EA5-A747-4E00-84A4-E96C6830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D7C4-D0BE-4200-88BD-D17CE67C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276-BFA1-4279-A2D7-4073711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4514-36C1-4CC2-98FE-50B840AD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BA2F-A042-4DE6-A8B4-850142FA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49C2-325A-4751-86FC-1B80FF7C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E683-A344-4C99-A796-E374DAA7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4B69-60C1-48C7-B782-1953165D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1D1-1A64-46C9-A290-BA88693F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1812-82AA-4CF7-92BF-2C08CD2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74F3-85B7-4E33-A472-BED389E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EF43-8361-4C0A-A6D1-806646AC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0C10-79EB-48A6-8CEB-8B7D03FB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0F57-1DAE-4507-9EF3-55DB3E38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71C-00BB-4E98-97B6-3140EAE4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6AD-B8B9-4442-AC36-C03F9191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DE5-C95A-4A05-A823-3A2231AF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86F-E2E6-446C-BE22-AE4B0AD9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AC0-CD2F-4BF3-903F-C5EA907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7E4-5C7E-42B9-B6BC-836F9C8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BF7-8D03-4033-9881-8A932839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B886-6740-497B-B956-B4579662D1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AF5-E569-44CD-8B87-0E84ECC96D17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611280" y="2781360"/>
            <a:ext cx="7848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atciems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 paraíso desconhecido da Letônia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 Imagen" descr="10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8 Imagen" descr="2.jpg"/>
          <p:cNvPicPr/>
          <p:nvPr/>
        </p:nvPicPr>
        <p:blipFill>
          <a:blip r:embed="rId1"/>
          <a:stretch/>
        </p:blipFill>
        <p:spPr>
          <a:xfrm>
            <a:off x="0" y="571680"/>
            <a:ext cx="916452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428760" y="335772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ão utilizados três tipos de estruturas - esquadrias 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eira, troncos e alvenaria que complementa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fachadas de pedra natural, madeira compensad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orativa, gesso ou cristal pintado nas paredes exterior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9.jpg"/>
          <p:cNvPicPr/>
          <p:nvPr/>
        </p:nvPicPr>
        <p:blipFill>
          <a:blip r:embed="rId1"/>
          <a:stretch/>
        </p:blipFill>
        <p:spPr>
          <a:xfrm>
            <a:off x="0" y="50004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9 Imagen" descr="4.jpg"/>
          <p:cNvPicPr/>
          <p:nvPr/>
        </p:nvPicPr>
        <p:blipFill>
          <a:blip r:embed="rId1"/>
          <a:stretch/>
        </p:blipFill>
        <p:spPr>
          <a:xfrm>
            <a:off x="0" y="500040"/>
            <a:ext cx="912960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928800" y="3214800"/>
            <a:ext cx="72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conceito de cada casa se permite quatr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pos de coberturas - telhados de palha, troncos talhados, cerâmica o telhas de cimento. Isto não quer dizer que estão limitados em sua escolha. As novas idéias são sempre bem-vindas…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 Imagen" descr="5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8.jpg"/>
          <p:cNvPicPr/>
          <p:nvPr/>
        </p:nvPicPr>
        <p:blipFill>
          <a:blip r:embed="rId1"/>
          <a:stretch/>
        </p:blipFill>
        <p:spPr>
          <a:xfrm>
            <a:off x="0" y="64296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6.jpg"/>
          <p:cNvPicPr/>
          <p:nvPr/>
        </p:nvPicPr>
        <p:blipFill>
          <a:blip r:embed="rId1"/>
          <a:stretch/>
        </p:blipFill>
        <p:spPr>
          <a:xfrm>
            <a:off x="0" y="64296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15.jpg"/>
          <p:cNvPicPr/>
          <p:nvPr/>
        </p:nvPicPr>
        <p:blipFill>
          <a:blip r:embed="rId1"/>
          <a:stretch/>
        </p:blipFill>
        <p:spPr>
          <a:xfrm>
            <a:off x="0" y="428760"/>
            <a:ext cx="913284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8 Imagen" descr="3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 Imagen" descr="1maja22.jpg"/>
          <p:cNvPicPr/>
          <p:nvPr/>
        </p:nvPicPr>
        <p:blipFill>
          <a:blip r:embed="rId1"/>
          <a:stretch/>
        </p:blipFill>
        <p:spPr>
          <a:xfrm>
            <a:off x="-144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 Imagen" descr="1maja7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Rectángulo"/>
          <p:cNvSpPr/>
          <p:nvPr/>
        </p:nvSpPr>
        <p:spPr>
          <a:xfrm>
            <a:off x="928800" y="335772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da parcela está conectada à rede de serviços públicos - fornecimento de água, esgoto, eletricidade e cabo de fibra ót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 Imagen" descr="017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 Imagen" descr="1maja23.jpg"/>
          <p:cNvPicPr/>
          <p:nvPr/>
        </p:nvPicPr>
        <p:blipFill>
          <a:blip r:embed="rId1"/>
          <a:stretch/>
        </p:blipFill>
        <p:spPr>
          <a:xfrm>
            <a:off x="0" y="64296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2 Imagen" descr="1maja24.jpg"/>
          <p:cNvPicPr/>
          <p:nvPr/>
        </p:nvPicPr>
        <p:blipFill>
          <a:blip r:embed="rId1"/>
          <a:stretch/>
        </p:blipFill>
        <p:spPr>
          <a:xfrm>
            <a:off x="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 Imagen" descr="2a.jpg"/>
          <p:cNvPicPr/>
          <p:nvPr/>
        </p:nvPicPr>
        <p:blipFill>
          <a:blip r:embed="rId1"/>
          <a:stretch/>
        </p:blipFill>
        <p:spPr>
          <a:xfrm>
            <a:off x="0" y="357120"/>
            <a:ext cx="913464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2 Imagen" descr="irina2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3 Imagen" descr="vide-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 Imagen" descr="karte.jpg"/>
          <p:cNvPicPr/>
          <p:nvPr/>
        </p:nvPicPr>
        <p:blipFill>
          <a:blip r:embed="rId2"/>
          <a:stretch/>
        </p:blipFill>
        <p:spPr>
          <a:xfrm>
            <a:off x="214200" y="642960"/>
            <a:ext cx="4214880" cy="5824440"/>
          </a:xfrm>
          <a:prstGeom prst="rect">
            <a:avLst/>
          </a:prstGeom>
          <a:ln w="0">
            <a:noFill/>
          </a:ln>
        </p:spPr>
      </p:pic>
      <p:pic>
        <p:nvPicPr>
          <p:cNvPr id="95" name="3 Imagen" descr="plans.png"/>
          <p:cNvPicPr/>
          <p:nvPr/>
        </p:nvPicPr>
        <p:blipFill>
          <a:blip r:embed="rId3"/>
          <a:stretch/>
        </p:blipFill>
        <p:spPr>
          <a:xfrm>
            <a:off x="1500120" y="4786200"/>
            <a:ext cx="2430360" cy="15717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"/>
          <p:cNvSpPr/>
          <p:nvPr/>
        </p:nvSpPr>
        <p:spPr>
          <a:xfrm>
            <a:off x="4572000" y="2357280"/>
            <a:ext cx="4214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matciems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e encontra a 80 Km de Riga, a capital da Letônia, 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12 Km de Cēsis que tem uns 20.000 habitantes, se desejar comprar uma casa em um lugar separado do mundo e pouco conhecido, este é seu lugar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or menos de 200.000 € você poderá comprar uma casa situada em um espetacular paisagem natural de indescritível belez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 Imagen" descr="vide-11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 Imagen" descr="vide-14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 Rectángulo"/>
          <p:cNvSpPr/>
          <p:nvPr/>
        </p:nvSpPr>
        <p:spPr>
          <a:xfrm>
            <a:off x="1143000" y="3143160"/>
            <a:ext cx="70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matciems tem reservas naturais de água doce - represas, lagos e riachos. Todos os depósitos estão interconectados para alimentar uns aos outros pelos canais e evitar as inundações em períodos de chuv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18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2 Imagen" descr="vide-8.jpg"/>
          <p:cNvPicPr/>
          <p:nvPr/>
        </p:nvPicPr>
        <p:blipFill>
          <a:blip r:embed="rId1"/>
          <a:stretch/>
        </p:blipFill>
        <p:spPr>
          <a:xfrm>
            <a:off x="324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1214280" y="2428920"/>
            <a:ext cx="678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s habitantes podem admirar veados, raposas, aves e outros animais em movimento sem cercas através da zona, ou ter tempo para caminhar pelo bosque, talvez em busca de morangos, amoras e groselha no caminho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2 Rectángulo"/>
          <p:cNvSpPr/>
          <p:nvPr/>
        </p:nvSpPr>
        <p:spPr>
          <a:xfrm>
            <a:off x="1285920" y="3786120"/>
            <a:ext cx="65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avilhosas vistas de colinas, lagos, campos e bosques que produzem sentimentos de paz e tranquilidad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1143000" y="47149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O povo tem atraído aqueles que valorizam a simplicidade e a vida natural. A comunidade de Amatcie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é totalmente internacion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5 Imagen" descr="zc7v5977.jpg"/>
          <p:cNvPicPr/>
          <p:nvPr/>
        </p:nvPicPr>
        <p:blipFill>
          <a:blip r:embed="rId1"/>
          <a:stretch/>
        </p:blipFill>
        <p:spPr>
          <a:xfrm>
            <a:off x="-7920" y="500040"/>
            <a:ext cx="91519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Imagen" descr="11.jpg"/>
          <p:cNvPicPr/>
          <p:nvPr/>
        </p:nvPicPr>
        <p:blipFill>
          <a:blip r:embed="rId1"/>
          <a:stretch/>
        </p:blipFill>
        <p:spPr>
          <a:xfrm>
            <a:off x="0" y="64296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 Imagen" descr="052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 Imagen" descr="12.jpg"/>
          <p:cNvPicPr/>
          <p:nvPr/>
        </p:nvPicPr>
        <p:blipFill>
          <a:blip r:embed="rId1"/>
          <a:stretch/>
        </p:blipFill>
        <p:spPr>
          <a:xfrm>
            <a:off x="-1440" y="50004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8 Imagen" descr="13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8 Imagen" descr="17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2 Imagen" descr="1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7 Rectángulo"/>
          <p:cNvSpPr/>
          <p:nvPr/>
        </p:nvSpPr>
        <p:spPr>
          <a:xfrm>
            <a:off x="714240" y="1214280"/>
            <a:ext cx="471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ugar para aqueles que estão dispos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 compartir sua vida com a natureza, coexistir em harmonia que lhes permitirá atualizar seu ser com as energias dos aromas naturais e os son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9 Rectángulo"/>
          <p:cNvSpPr/>
          <p:nvPr/>
        </p:nvSpPr>
        <p:spPr>
          <a:xfrm>
            <a:off x="714240" y="2643120"/>
            <a:ext cx="485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gostam d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lhar os pássaros, os animais, amanhecer e por do sol que refletirão nas águas virgens dos arredores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10 Rectángulo"/>
          <p:cNvSpPr/>
          <p:nvPr/>
        </p:nvSpPr>
        <p:spPr>
          <a:xfrm>
            <a:off x="857160" y="3714840"/>
            <a:ext cx="464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podem se permitir desfrutar da beleza natural de cada dia nas quatro estações do an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11 Rectángulo"/>
          <p:cNvSpPr/>
          <p:nvPr/>
        </p:nvSpPr>
        <p:spPr>
          <a:xfrm>
            <a:off x="785880" y="4714920"/>
            <a:ext cx="44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ma forma natural de vida, um projeto único, uma obra mestra de um gênio ecológico, o Sr. Aivars Zvirbulis, que pensa que a vida urbana é uma perda de temp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14 Imagen" descr="Aivars Zvirbulis.jpg"/>
          <p:cNvPicPr/>
          <p:nvPr/>
        </p:nvPicPr>
        <p:blipFill>
          <a:blip r:embed="rId2"/>
          <a:stretch/>
        </p:blipFill>
        <p:spPr>
          <a:xfrm>
            <a:off x="5572080" y="1500120"/>
            <a:ext cx="2814840" cy="3929040"/>
          </a:xfrm>
          <a:prstGeom prst="rect">
            <a:avLst/>
          </a:prstGeom>
          <a:ln w="0">
            <a:noFill/>
          </a:ln>
        </p:spPr>
      </p:pic>
      <p:sp>
        <p:nvSpPr>
          <p:cNvPr id="142" name="15 Rectángulo"/>
          <p:cNvSpPr/>
          <p:nvPr/>
        </p:nvSpPr>
        <p:spPr>
          <a:xfrm>
            <a:off x="5572080" y="5429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ff"/>
                </a:solidFill>
                <a:latin typeface="Verdana"/>
              </a:rPr>
              <a:t>Aivars Zvirbul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3 Imagen" descr="000rexxa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714760" y="4869000"/>
            <a:ext cx="321444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m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5 Rectángulo"/>
          <p:cNvSpPr/>
          <p:nvPr/>
        </p:nvSpPr>
        <p:spPr>
          <a:xfrm>
            <a:off x="928800" y="392904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uitos arquitetos famosos já reconheceram em Amatciems um monumento cultural do futur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3 Rectángulo"/>
          <p:cNvSpPr/>
          <p:nvPr/>
        </p:nvSpPr>
        <p:spPr>
          <a:xfrm>
            <a:off x="857160" y="300024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Verdana"/>
              </a:rPr>
              <a:t>Amatciems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é uma comunidade residencial, ma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arece mais com uma reserva natura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Imagen" descr="14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928800" y="335772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ão há estradas asfaltadas em Amatciem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 lugar para que se construir uma casa é selecionado cuidadosamente para encaixar na paisagem existent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1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Rectángulo"/>
          <p:cNvSpPr/>
          <p:nvPr/>
        </p:nvSpPr>
        <p:spPr>
          <a:xfrm>
            <a:off x="1071720" y="3286080"/>
            <a:ext cx="714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m ser cumpridos dois critérios principais - uma casa nova não deve ocultar as belas paisagens naturais e permitir aos proprietários de cada parcela desfrutar de seu próprio pedacinho de bosque e do reservatório de água doce natu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Imagen" descr="02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4:44:10Z</dcterms:created>
  <dc:creator/>
  <dc:description/>
  <dc:language>en-US</dc:language>
  <cp:lastModifiedBy>NIETMANN</cp:lastModifiedBy>
  <dcterms:modified xsi:type="dcterms:W3CDTF">2010-01-11T01:12:15Z</dcterms:modified>
  <cp:revision>23</cp:revision>
  <dc:subject/>
  <dc:title>Slide 1</dc:title>
</cp:coreProperties>
</file>