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FA7F-C433-4CA6-8C62-D86F143B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7C2A-38B1-4DFB-8CEB-8E345B9D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AA2-6B2F-4F7E-9985-ED0C3E38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2D6-108B-4277-AF26-5B79735A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0EB9-9FE0-4CCF-97F2-4F0812C2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3227-6D99-4416-A57A-586EE9CE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FA9B-6F81-457E-927A-6F2386CE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6E17-E02A-48BC-9680-7C8DC803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4BE4-4E21-4399-9224-70148140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A8DA-004C-4D53-B00F-462410BB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5526-5E0F-4274-A4BC-5FBC370E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E9C7-BF49-48AD-A6DE-35648203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04DF-B6BD-4A48-AD47-6914A4D97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8.to/boyband" TargetMode="External"/><Relationship Id="rId2" Type="http://schemas.openxmlformats.org/officeDocument/2006/relationships/hyperlink" Target="http://98.to/boyban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ong"/>
                <a:ea typeface="Times New Roman"/>
              </a:rPr>
              <a:t>瑋柏： 看希望加速度繞過地球，一聲一聲的呼喚我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阿弟： 白色的時光帶走我們全力出動為每一個夢加油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慧欣： 緊緊牽著我的手，踏上快轉的宇宙，我的心跳和你取得連絡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書偉： 愛是慢慢開在我心裡的聖誕紅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書＋慧： 讓每個細胞蠢蠢欲動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合：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Dance bo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看著我一起加油快樂行動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Universal lov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在天空閃爍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Dance gir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伸出手微笑的人都是朋友這世界充滿了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Universal love </a:t>
            </a:r>
            <a:br>
              <a:rPr sz="1600"/>
            </a:b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Ra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坤達： 唷，什麼事情讓你比我還怕？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 </a:t>
            </a:r>
            <a:br>
              <a:rPr sz="16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牛奶： 一顆兩顆三顆流星划過你的身旁 </a:t>
            </a:r>
            <a:br>
              <a:rPr sz="16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瑋柏： 快雙手合十許下個心願因為你的夢想所以你更強！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Give me give me love(x5)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加起來等於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Universal love that</a:t>
            </a:r>
            <a:r>
              <a:rPr b="0" lang="en-AU" sz="1600" spc="-1" strike="noStrike">
                <a:solidFill>
                  <a:srgbClr val="000000"/>
                </a:solidFill>
                <a:latin typeface="MS Song"/>
                <a:ea typeface="MS Song"/>
              </a:rPr>
              <a:t>’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s why (xxxx) dance it up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Everbody let it go it</a:t>
            </a:r>
            <a:r>
              <a:rPr b="0" lang="en-AU" sz="1600" spc="-1" strike="noStrike">
                <a:solidFill>
                  <a:srgbClr val="000000"/>
                </a:solidFill>
                <a:latin typeface="MS Song"/>
                <a:ea typeface="MS Song"/>
              </a:rPr>
              <a:t>’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s Christime time! </a:t>
            </a:r>
            <a:br>
              <a:rPr sz="1600"/>
            </a:br>
            <a:br>
              <a:rPr sz="16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準備好了我們就抬起頭，不要讓幸福一閃而過。看著白雪飄落，覺得很美的時候，實在適合擁抱的時候。。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 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家長自打，正確度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80% </a:t>
            </a:r>
            <a:br>
              <a:rPr sz="16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轉載請注：</a:t>
            </a:r>
            <a:r>
              <a:rPr b="0" lang="en-AU" sz="1600" spc="-1" strike="noStrike" u="sng">
                <a:solidFill>
                  <a:srgbClr val="ccccff"/>
                </a:solidFill>
                <a:uFillTx/>
                <a:latin typeface="Times New Roman"/>
                <a:ea typeface="MS Song"/>
                <a:hlinkClick r:id="rId1"/>
              </a:rPr>
              <a:t>http://98.to/</a:t>
            </a:r>
            <a:r>
              <a:rPr b="0" lang="en-AU" sz="1600" spc="-1" strike="noStrike" u="sng">
                <a:solidFill>
                  <a:srgbClr val="ccccff"/>
                </a:solidFill>
                <a:uFillTx/>
                <a:latin typeface="Times New Roman"/>
                <a:ea typeface="MS Song"/>
                <a:hlinkClick r:id="rId2"/>
              </a:rPr>
              <a:t>boy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got it from the net abo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y*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psb no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Song"/>
              </a:rPr>
              <a:t>http://groups.yahoo.com/group/pan_shuai_b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2:45:02Z</dcterms:created>
  <dc:creator>apple</dc:creator>
  <dc:description/>
  <dc:language>en-US</dc:language>
  <cp:lastModifiedBy>apple</cp:lastModifiedBy>
  <dcterms:modified xsi:type="dcterms:W3CDTF">2003-12-12T12:45:23Z</dcterms:modified>
  <cp:revision>1</cp:revision>
  <dc:subject/>
  <dc:title>PowerPoint Presentation</dc:title>
</cp:coreProperties>
</file>