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240" y="383220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240" y="383220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36920" y="383220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240" y="383220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21840" y="383220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2800" y="383220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65 Helvetica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65 Helvetica 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383220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65 Helvetica Mediu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6920" y="383220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383220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383220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383220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6920" y="383220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383220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21840" y="383220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72800" y="383220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65 Helvetica 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240" y="383220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36920" y="383220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240" y="383220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523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-293760" y="1143000"/>
            <a:ext cx="158904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69200" y="65372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2120" y="6076800"/>
          <a:ext cx="696960" cy="78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6076800"/>
                    <a:ext cx="6969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3907080" y="6613560"/>
            <a:ext cx="28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idential &amp; Proprietary – Nov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76520"/>
            <a:ext cx="8381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-293760" y="1143000"/>
            <a:ext cx="1589040" cy="57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6000840"/>
          <a:ext cx="765360" cy="85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6000840"/>
                    <a:ext cx="765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bala@eprocorp.com" TargetMode="External"/><Relationship Id="rId2" Type="http://schemas.openxmlformats.org/officeDocument/2006/relationships/hyperlink" Target="http://www.eprocorp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Calligraphy"/>
              </a:rPr>
              <a:t>E*Pro Inc. – My kind Of Place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00280" y="1262160"/>
            <a:ext cx="4332240" cy="4852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Calligraphy"/>
              </a:rPr>
              <a:t>Get in Touch with us Now!!!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18040" y="1523520"/>
            <a:ext cx="5697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E*Pro Inc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1000 Route 9 North, Suite 303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Woodbridge, NJ 07095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Contact: (732) 283-0499 / Ext. 213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Fax: (732) 783-0439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E-Mail: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Lucida Calligraphy"/>
                <a:hlinkClick r:id="rId1"/>
              </a:rPr>
              <a:t>bala@eprocorp.com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Lucida Calligraphy"/>
              </a:rPr>
              <a:t>URL: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Lucida Calligraphy"/>
                <a:hlinkClick r:id="rId2"/>
              </a:rPr>
              <a:t>www.eprocorp.com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92000" y="1382760"/>
            <a:ext cx="1444680" cy="161748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Calligraphy"/>
              </a:rPr>
              <a:t>Make IT Your Kind Of Place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97240" y="1243080"/>
            <a:ext cx="4056120" cy="454176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Calligraphy"/>
              </a:rPr>
              <a:t>E*Pro – Overview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Started in the Year 1999.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Headed By Technocrats Experienced in the IT industry.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Guided by the principles of honesty, transparency and fair-play.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Two Development Centers in the USA at NJ and NE.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100 Consultants placed with our clients across the US.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Lucida Calligraphy"/>
              </a:rPr>
              <a:t>70 plus employees at our Off-Shore Development Center in Chennai, Indi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Calligraphy"/>
              </a:rPr>
              <a:t>Benefits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4422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Lucida Calligraphy"/>
              </a:rPr>
              <a:t>Revenue Sharing opportunity with 70% going to the consultant on W2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Lucida Calligraphy"/>
              </a:rPr>
              <a:t>80% if the consultant Comes with project.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Lucida Calligraphy"/>
              </a:rPr>
              <a:t>Green Card Processing.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Lucida Calligraphy"/>
              </a:rPr>
              <a:t>Opportunity to Grow with our Team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Our </a:t>
            </a:r>
            <a:r>
              <a:rPr b="1" lang="en-US" sz="4000" spc="-1" strike="noStrike">
                <a:solidFill>
                  <a:srgbClr val="990000"/>
                </a:solidFill>
                <a:latin typeface="Lucida Calligraphy"/>
              </a:rPr>
              <a:t>Vision</a:t>
            </a:r>
            <a:br>
              <a:rPr sz="4400"/>
            </a:b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Lucida Calligraphy"/>
              </a:rPr>
              <a:t>Is to be the process driven and the Top tier  Information Technology Service provider in which every person and organization contributes positively to life, enjoys a sense of fulfillment, and lives abundantly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5400" y="-360"/>
            <a:ext cx="869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Lucida Calligraphy"/>
              </a:rPr>
              <a:t>E*Pro Associate Referral Program - Recruitment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798560"/>
            <a:ext cx="7543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00"/>
                </a:solidFill>
                <a:latin typeface="Lucida Calligraphy"/>
              </a:rPr>
              <a:t>Eligi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Lucida Calligraphy"/>
              </a:rPr>
              <a:t>All E*Pro’s technical current and ex-employees are eligible to participate in the program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Lucida Calligraphy"/>
              </a:rPr>
              <a:t>Projects with minimum $15 margin are eligibl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990000"/>
                </a:solidFill>
                <a:latin typeface="Lucida Calligraphy"/>
              </a:rPr>
              <a:t>New Hire or Placement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Lucida Calligraphy"/>
              </a:rPr>
              <a:t>Referral Award Amount</a:t>
            </a:r>
            <a:br>
              <a:rPr sz="4000"/>
            </a:br>
            <a:endParaRPr b="1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71600" y="1523880"/>
          <a:ext cx="7543800" cy="454212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New Hire or Plac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Referral Award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Referring a resume who joins as an Employ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$760 per year for 2 years or the period which referred employee is employed with E*Pro, which ever is small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Referring and ensuring that referral joins E*Pro with minimal efforts from Recruitment depart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$1520 per year for 2 years or the period which referred employee is employed with E*Pro, which ever is smalle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24000"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Lucida Calligraphy"/>
              </a:rPr>
              <a:t>E*Pro Associate Referral Program - Placement</a:t>
            </a:r>
            <a:endParaRPr b="1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71600" y="1523880"/>
          <a:ext cx="7543800" cy="50356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Placement Referral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Referral Award Am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1.  Referring a Placement (Contract Position only) which gets fulfilled by E*Pr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$2 for every hour that E*pro’s consultant continues at the referred placement as contracto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2.  Referring a Placement (Contract Position only) and candidate fulfilling the same placem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$3 for every hour that E*pro’s consultant continues at the referred placem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3.  Referring a Placement (Full-Time Position only) which gets fulfilled by E*Pr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20% of Placement fee collected by E*Pro based referred positi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4.  Referring a Placement (Full-time Position only) and also the candi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Lucida Calligraphy"/>
                        </a:rPr>
                        <a:t>40% of Placement fee collected by E*Pro based referred positi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29000">
    <p:wheel spokes="8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02680"/>
            <a:ext cx="84582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Lucida Calligraphy"/>
              </a:rPr>
              <a:t>E*Pro Inc Thanks you &amp; looking forward to you joining us in all our programmes…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79800" y="1738440"/>
            <a:ext cx="3259080" cy="3649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lu</cp:lastModifiedBy>
  <dcterms:modified xsi:type="dcterms:W3CDTF">2005-11-18T01:02:21Z</dcterms:modified>
  <cp:revision>204</cp:revision>
  <dc:subject/>
  <dc:title> E*PRO Presentation for The First American Corporation</dc:title>
</cp:coreProperties>
</file>