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F43-18DE-4838-82BC-2964464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250-AA25-451D-B6AA-1385F5A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99E-3410-41A2-9651-4C65C0D0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F52-6EE7-45DE-9372-D3AF9BCB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71D2-DFE6-460B-9C57-2600D2AB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558-9980-47F4-800E-ED0F0EE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8ED0-6BF3-4A1B-9CFB-00AE2D9E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2FE5-7413-4B3D-A04B-17E60B46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A8EB-D5DE-4F12-9ECC-A299061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23B-52E5-4CB0-9A4A-9EBFB0BE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EB1-AA60-473D-BEC2-65869A5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1C7-B198-4A71-89ED-512FC95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2987-672A-4B94-8C9A-B6658A8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0B8D-294C-42AC-94E9-7BCAA10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E0C-A75C-4B07-85D9-50FA0A9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828E-A48A-47FE-BA7E-34FACF16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29FC-614E-4EC6-B802-F94B011F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CC1B-97CC-43E9-A832-52AB4121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5865-CC09-464A-99F4-7A8CC616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6C5F-8B69-4AC7-9815-4BDF157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3D69-0BAC-47FA-B512-4159CBA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2EB9-B7AE-46CA-8DE9-EDD9B340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DB5-7201-4A67-947B-D6F8933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D05F-71B8-4AF3-97E2-99496B9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7580-5505-46A5-8AE3-69C138C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8747-E354-4DB6-935C-12099D6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0F04-0FCF-4970-ACBD-CF6021D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E594-4709-4C90-BF58-468FA65B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45E4-66F8-49CE-A241-63DB6916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E11B-38B7-4021-9468-45F27C45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A04D-ED3C-4B13-A474-1598D178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E1EF-8546-4868-8490-1DD2973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E3573-88CC-4939-9BE7-27D6314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373-B1B6-46F3-8967-4DFBFBE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917F-F0C9-421C-ADCC-A5FE1FB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0A4F-7D3A-4784-98F8-D8B0712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ABAE-F72A-4309-BA3B-5193EE7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514C-20FE-452B-9F03-742A214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1EA0-84FB-4CC6-9E0F-3B9B5F9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13E8-5709-4653-B033-5A57C15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B748-B420-45AC-AFBD-25075E2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24FE-11AC-4FB2-9047-AC15BA68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134C-0CE6-41D2-BABB-B7BA4957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D00-9223-4901-BF2E-2B1F5BB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60D-E1E0-4F80-8F32-91DD55C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C94-BBC8-4215-A690-E7B98B4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46A-E4BA-4D9C-A625-EB70C85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F2F-C349-4BA5-B588-A1BED9C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927-8A90-49E9-9C6C-A1B9B5C00A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61C-1B79-4924-B4CC-845D949EABA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9D7-5611-4DEB-BE55-AED2562B3B3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D58-F65D-4ACA-A912-A1BA70D6862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ercises 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e a module nestedLoop1.ja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re's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1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1, K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2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2, K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1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1, K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2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2, K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ercises 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e a module nestedLoop2.ja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re's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1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1, J: 2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1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: 2, J: 2, K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1143000"/>
            <a:ext cx="82296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nestedF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 3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j = 1; j &lt; 3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k = 1; k &lt; 3; k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 "I: "+ i +", J:"+ j +", K: "+k+"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533520"/>
            <a:ext cx="82296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nestedFor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nestedFor2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 3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j = 1; j &lt; 3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k = 1; k &lt; 3; k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I: "+i+ ",J: "+j+",K: "+k+"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ercises 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odule WhileCount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ept numeric data via console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eredReader in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Line =in.read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alidate entry, it should be between 1 to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f data is within range print 1 to enter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valid value print "That number was not between 0 and 10!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umber to count to between 0 and 1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ercises 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e module iteration.ja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ogram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cept NUMERIC input via console 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eredReader br = new BufferedReader (new InputStreamReader(System.in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 = Integer.parseInt(br.readLine());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m from 1 to entered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module must have the capability to process data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For loop, While loop, or DoWhile loo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creen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a number: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from the Iteration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-For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-DoWhil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choic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-Whil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um of the nos.from 1 to 12 is 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28600" y="3049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Iteration.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Itera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(String arg[])throws IOException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eredReader br = new BufferedReader (new InputStreamReader(System.in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num = 0, sum = 0, ct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 cho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a number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 = Integer.parseInt(br.readLin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Choose from the Iteration Statement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F-For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W-While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D-DoWhile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E-Exi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Enter choice 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ice =(cha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ystem.in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in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(choice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f'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F' : {System.out.println("For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( ctr =1; ctr &lt;=num; ctr++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sum+c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The sum of the nos.from 1 to "+num+" is "+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w'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W' : {System.out.println("While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=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ctr&lt;=n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sum+c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r = ctr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The sum of the nos.from 1 to "+num+"is"+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d'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D' : {System.out.println("Do-While Loop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=sum+c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r=ctr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while(ctr&lt;=n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The sum of the nos.from 1 to "+num+"is"+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e'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'E' : System.out.println("Terminating..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: System.out.println("Not in the choice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reakWithLabelDemo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[][] arrayOfInts = { { 32, 87, 3, 589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12, 1076, 2000, 8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622, 127, 77, 955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searchfor = 1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j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oundIt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( ; i &lt; arrayOfInts.leng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(j = 0; j &lt; arrayOfInts[i].length; j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arrayOfInts[i][j] == searchfor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t = tr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sear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foundI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Found " + searchfor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 at " + i + ", " + j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search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"not in the array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3:27:46Z</dcterms:created>
  <dc:creator>x</dc:creator>
  <dc:description/>
  <dc:language>en-US</dc:language>
  <cp:lastModifiedBy>x</cp:lastModifiedBy>
  <dcterms:modified xsi:type="dcterms:W3CDTF">2010-12-18T08:27:07Z</dcterms:modified>
  <cp:revision>35</cp:revision>
  <dc:subject/>
  <dc:title>Java (SE) Programming Course</dc:title>
</cp:coreProperties>
</file>