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078-05B4-4018-961F-89053848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64D-95E2-4753-A9DE-F4A17129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38A-3411-4C3E-BB1F-AC1296F9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BB8-F335-4DC4-BF2E-761CBDBA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250-759E-41CB-B13C-7EE5507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9C0-E185-4182-8C01-A612CB61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0F7-FC8C-47D9-A6F6-C485E782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F13-56F8-447C-8F99-EFCEAB2D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5F8-399D-44C5-9DCD-2458B802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E50-55CF-4CD7-AB2F-A18E1F3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56C-8E05-4B52-A0D1-F0859ED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6F6-1266-4314-80EF-9C2384D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2F64-70FA-43A0-84A5-CA80CA4A7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61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(SE) Programm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L Update Code Snip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 strval = txtNum1.getT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2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ptionPane.showMessageDialog(null,"Record Updated ID no. "+strval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ch(Exception e2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ptionPane.showMessageDialog(null,"Exception:"+e2.getMessage()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L Delete Code Snip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 con2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 no2 = (txtNum1.getText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 xnull=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(no2.compareTo(xnull)==0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ptionPane.showMessageDialog(null,"Select a Record to delet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;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2=DriverManager.getConnection("jdbc:odbc:MY_ACCES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Statement stat=con2.prepareStatement("DELETE from HY_Address WHERE ID = ?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.setInt(1,Integer.parseInt(no2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.executeUpdate(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L Delete Code Snip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 strval = txtNum1.getT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tNum1.setText("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tNum2.setText("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tNum3.setText("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2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ptionPane.showMessageDialog(null,"Record Deleted ID no. "+strval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ch(Exception e2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ptionPane.showMessageDialog(null,"Exception:"+e2.getMessage()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necting to MS Acces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sql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lass OdbcAccessConnec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con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=DriverManager.getConnection("jdbc:odbc:oneworld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Connection ok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ch(Exception e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err.println("Exception:"+e.getMessag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S ACCESS Database and Driv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void connectme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on con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=DriverManager.getConnection("jdbc:odbc:oneworl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Connection o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MetaData meta = con.getMetaData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Server Name:" + meta.getDatabaseProduct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Server Version:" + meta.getDatabaseProductVers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Driver Name:" + meta.getDriver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Driver Version:" + meta.getDriverVers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JDBC major Version:" + meta.getJDBCMajorVers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out.println("JDBC minor Version:" + meta.getJDBCMinorVers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strval = "Server Name. "+ meta.getDatabaseProductName() +"\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"Server Version:" + meta.getDatabaseProductVersion() +"\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"Driver Name:" + meta.getDriverName()+"\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"Driver Version:" + meta.getDriverVersion()+"\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"JDBC major Version:" + meta.getJDBCMajorVersion() +"\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"JDBC minor Version:" + meta.getJDBCMinorVersion()+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 strval = "Server Name. "+ meta.getDatabaseProductName() +"\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"Server Version:" + meta.getDatabaseProductVersion() +"\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"Driver Name:" + meta.getDriverName()+"\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"Driver Version:" + meta.getDriverVersion()+"\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"JDBC major Version:" + meta.getJDBCMajorVersion() +"\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"JDBC minor Version:" + meta.getJDBCMinorVersion()+"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ptionPane.showMessageDialog(null,strval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blNum1.setText("Server Name:" + meta.getDatabaseProductNam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blNum2.setText("Server Name:" + meta.getDatabaseProductVersion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blNum3.setText("Server Name:" + meta.getDriverNam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blNum4.setText("Server Name:" + meta.getDriverVersion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blNum5.setText("Server Name:" + meta.getJDBCMajorVersion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blNum6.setText("Server Name:" + meta.getJDBCMinorVersion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ch(Exception e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.err.println("Exception:"+e.getMessag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L Query Code Snip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void RetRecord(String no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on con2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 no2 = Integer.parseInt(n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2=DriverManager.getConnection("jdbc:odbc:MY_ACCES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=con2.prepareStatement("SELECT *  from HY_Address WHERE ID = ?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setInt(1,no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Set res = stat.executeQuer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strval = "List of Address:"+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strval2,strval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L Query Code Snip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le(res.next()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val = String.valueOf(res.getInt("ID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val2 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.getString("StreetNam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val3 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.getString("Cit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tNum1.setText(str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tNum2.setText(strva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xtNum3.setText(strval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clo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2.clo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ptionPane.showMessageDialog(null,"Record Retrieve ID no. "+strval)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ch(Exception e2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ptionPane.showMessageDialog(null,"Exception:"+e2.getMessage())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L Insert Code Snip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on con2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no2 = (txtNum1.getT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xStreet = (txtNum2.getT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xCity = (txtNum3.getT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xnull=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(no2.compareTo(xnull)==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ptionPane.showMessageDialog(null,"ID number currently empt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;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(xStreet.compareTo(xnull)==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ptionPane.showMessageDialog(null,"Street Address currently empt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;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(xCity.compareTo(xnull)==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ptionPane.showMessageDialog(null,"City Address currently empt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;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QL Insert Code Snip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2=DriverManager.getConnection("jdbc:odbc:MY_ACCES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dStatement stat=con2.prepareStatement("INSERT INTO HY_Addres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"(ID,StreetName,City)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"VALUES(?,?,?)")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setInt(1,Integer.parseInt(no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setString(2,xStre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setString(3,xCit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executeUpdat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strval = txtNum1.getT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clo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2.clo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ptionPane.showMessageDialog(null,"Record Inserted ID no. "+strval)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ch(Exception e2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ptionPane.showMessageDialog(null,"Exception:"+e2.getMessage())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QL Update Code Snip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on con2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no2 = (txtNum1.getT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 xnull=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(no2.compareTo(xnull)==0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ptionPane.showMessageDialog(null,"Select a Record to updat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;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2=DriverManager.getConnection("jdbc:odbc:MY_ACCES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dStatement stat=con2.prepareStatement("UPDATE HY_Address SET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=[?],StreetName=[?],City=[?] WHERE ID = ?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setInt(1,Integer.parseInt(no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setString(2,txtNum2.getT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setString(3,txtNum3.getT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setInt(4,Integer.parseInt(no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.executeUpdat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3:27:46Z</dcterms:created>
  <dc:creator>x</dc:creator>
  <dc:description/>
  <dc:language>en-US</dc:language>
  <cp:lastModifiedBy>xxx</cp:lastModifiedBy>
  <dcterms:modified xsi:type="dcterms:W3CDTF">2011-01-24T05:11:24Z</dcterms:modified>
  <cp:revision>20</cp:revision>
  <dc:subject/>
  <dc:title>Java (SE) Programming Course</dc:title>
</cp:coreProperties>
</file>