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FE7-4C4A-40F8-87DD-F4C13385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726-CA27-448C-A55B-CAE6E17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FF7-CE8E-4FD3-B417-03E1A216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C29-0350-4D34-96F2-EB56CB2D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F78D-628D-439C-9396-05A70EB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F28B-5ECE-4259-8AD6-017608F1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FD5-B75F-45A6-BC7A-EF5E10D1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1355-C1F9-4458-B45D-A7870F1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4D4-0A49-49DE-8063-369E1EF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46B-CFA9-411C-861C-E492FA4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22EC-1A2A-4937-81A6-E51BB1A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852-C7CD-4EF9-BFF3-CE815C7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992-A88E-4DBD-BF3A-C00DC3B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BBB-E929-4FAF-81A4-B575F7DF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CA95-EA25-40F2-8F34-F65FF82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DB4-ACBD-4109-807E-4C9D45C1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000-752C-4322-AD17-73184247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52E-FFD2-4DA6-9F54-E033AEB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071-0D44-4F5F-A11F-FCED6E3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183-17EB-4FF3-96E3-1CE2A3CF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8F1-6DAB-4A92-BA5B-C7FBC25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8B8-B1E9-421A-B442-2245295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31E-EB57-4ACB-9BE3-1F2618B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031-A24F-425A-9580-E7632C6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4B17-8E31-4F02-AFE2-4C92A21308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17EF-637B-4F1B-8F4C-05B7A88DB8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cm.org/constitution/code.html" TargetMode="External"/><Relationship Id="rId2" Type="http://schemas.openxmlformats.org/officeDocument/2006/relationships/hyperlink" Target="http://www1.bcs.org.uk/DocsRepository/03200/3224/default.htm" TargetMode="External"/><Relationship Id="rId3" Type="http://schemas.openxmlformats.org/officeDocument/2006/relationships/hyperlink" Target="http://www.acm.org/about/se-code" TargetMode="External"/><Relationship Id="rId4" Type="http://schemas.openxmlformats.org/officeDocument/2006/relationships/hyperlink" Target="http://www.acm.org/about/se-code" TargetMode="External"/><Relationship Id="rId5" Type="http://schemas.openxmlformats.org/officeDocument/2006/relationships/hyperlink" Target="http://www.acm.org/about/se-code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fessional Ethic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CS 4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yptography and Computer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sham Al-Am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F9B-6EA7-4E2A-AED8-157C2C3016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Why Have Professional Ethics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 Software Developme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controls many aspects of our l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s: ABS and Air Ba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/Air Traffic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n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nking: Interest Calcul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x Filing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think about every piece of software that effects you life and who developed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814-A4CD-4443-B430-5F152A5BAA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Exists Today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ACM Code of Condu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IEEE-CS/ACM Software Engineering Code of Ethics and Professional Prac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tish Computer Society Code of Condu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nter For Computing And Social Respons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D69-E010-4E64-A2A6-728AC5229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cc66"/>
                </a:solidFill>
                <a:latin typeface="Times New Roman"/>
              </a:rPr>
              <a:t>IEEE-CS/ACM Software Engineering Code of Ethics and Professional Practice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 on 8 princip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ublic Interes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Client and Employ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Judgmen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rofessio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Colleagu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Self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inciple of Public Interest is central to the c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0AC-1D24-408E-8BA3-CBB56C2D9B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M/IEEE Software Engineering Code of Conduct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 PUBLIC - Software engineers shall act consistently with the public intere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CLIENT AND EMPLOYER - Software engineers shall act in a manner that is in the best interests of their client and employer consistent with the public intere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PRODUCT - Software engineers shall ensure that their products and related modifications meet the highest professional standards possi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4. JUDGMENT - Software engineers shall maintain integrity and independence in their professional judgmen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 MANAGEMENT - Software engineering managers and leaders shall subscribe to and promote an ethical approach to the management of software development and maintenan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 PROFESSION - Software engineers shall advance the integrity and reputation of the profession consistent with the public intere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 COLLEAGUES - Software engineers shall be fair to and supportive of their colleagu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 SELF - Software engineers shall participate in lifelong learning regarding the practice of their profession and shall promote an ethical approach to the practice of the profess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B26-7DC5-4812-8BD9-CD2ADDCAE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Public Inter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Software engineers shall act consistently with the public intere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Approve software only if they have a well-founded belief that it is safe, meets standards, passes tests and does not diminsh quality of life, privacy or harm the enviro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Disclose any actual or potential danger to the us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Be fair an davoid deception in all statements concerning softwa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8A0-E82F-4DB7-AA1E-6BDBBDBD65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Client and Employ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engineers shall act in a manner that is in the best interests of their client and employer, consistent with</a:t>
            </a: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ublic intere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Be honest about any limitation of their experience and educ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Keep private any confidential information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istent with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ublic interest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 and the law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knowingly use software that is obtained or retained either illegally or unethical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06E-1C0D-4435-B9EB-A0E3821CD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Produ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engineers shall ensure that their products and related modifications meet the highest professional standards possi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rive for high quality, acceptable cost, and a reasonable schedule, ensuring significant tradeoffs are clear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sure adequate testing, debugging, and review of software and related documents on which they wor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eat all forms of  software maintenance with the same professionalism as new develop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C20-03C4-44CC-976D-C60EE9701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Jud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engineers shall maintain integrity and independence in their professional judg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engage in deceptive financial practices</a:t>
            </a: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lose to all concerned parties those conflicts of interest that cannot reasonably be avoided or escap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324-D028-4458-A9F9-8153F2502D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Mana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engineering managers and leaders shall subscribe to and promote an ethical approach to the management of</a:t>
            </a: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development and mainten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ure that software engineers are informed of standards before being held to th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fer fair and just remuner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punish anyone for expressing ethical concerns about a proj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698-D67C-4B07-9BC0-23503298B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Profe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engineers shall advance the integrity and reputation of the profession consistent with the public intere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mote public knowledge of software engineer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 accurate in stating the characteristics of software on which they work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ke responsibility for detecting, correcting, and reporting errors in software and associated documents on which they wor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296-8551-4C63-ACFA-DE9D8AA5B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Brief Introduction to Ethical Thoe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ory 1. Moral Objec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Moral Objectivism: 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What is morally right or wrong doesn’t depend on what anyone </a:t>
            </a:r>
            <a:r>
              <a:rPr b="0" i="1" lang="en-CA" sz="2800" spc="-1" strike="noStrike">
                <a:solidFill>
                  <a:srgbClr val="ffffcc"/>
                </a:solidFill>
                <a:latin typeface="Times New Roman"/>
              </a:rPr>
              <a:t>thinks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is right or wrong. 'Moral facts' are like 'physical' facts in that what the facts are does not depend on what anyone thinks they are.  They simply have to be discove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CF9-32CC-4577-828C-46432885C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Colleagu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engineers shall be fair to and supportive of their colleag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edit fully the work of others and refrain from taking undue cred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 a fair hearing to the opinions, concerns, or complaints of a colleag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situations outside of their own areas of competence, call upon the opinions of other professionals who have competence in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are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7E1-BA5A-4142-9A43-2032C40073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Sel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engineers shall participate in lifelong learning regarding the practice of their profession and shall promote an ethical</a:t>
            </a: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proach to the practice of the prof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rther their knowled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Improve their ability to create safe, reliable, and useful quality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Improve their ability to produce accurate, informative, and well-written document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F98-E512-4F65-9E27-E05394AB6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Problems with codes of condu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They don’t cover every case (nor should they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Can a list of rules define a behaviour that everyone considers righ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Little penalty for non-compli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Requires a Personal Code of Ethics that is broadly in line with the Professional Co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DF6-F00B-4F92-9F35-BA987DD3CD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Ethical Delemma 1:</a:t>
            </a:r>
            <a:br>
              <a:rPr sz="4400"/>
            </a:b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Reverse Engineer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When is reverse engineering ethica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Scenario: You are asked to produce software to read in a file (with an undisclosed proprietary format) into an applic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Test vectors and analysi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Decompilatio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Clean room” enviro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EF0-1BC6-4B5A-B0FC-A16C6D24D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Ethical Delemma 2:</a:t>
            </a:r>
            <a:br>
              <a:rPr sz="4400"/>
            </a:b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Whistle Blow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If you believe that knowledge of unethical practices would cause a change in the practic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Reality check (make sure you are righ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The goal is to get management to recognise and remedy problem with minimal confli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cc"/>
                </a:solidFill>
                <a:latin typeface="Times New Roman"/>
              </a:rPr>
              <a:t>Take problem outside the organisation as last resort and act as an individual, not an employe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Be prepared to live with the resul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Document everyth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Times New Roman"/>
              </a:rPr>
              <a:t>Be on your best behavio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9D9-97D4-43CC-BAFC-6D2B8F6ECC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000" spc="-1" strike="noStrike">
                <a:solidFill>
                  <a:srgbClr val="ffcc66"/>
                </a:solidFill>
                <a:latin typeface="Times New Roman"/>
              </a:rPr>
              <a:t>Ethical Delemma 3:</a:t>
            </a:r>
            <a:br>
              <a:rPr sz="4000"/>
            </a:br>
            <a:r>
              <a:rPr b="0" i="1" lang="en-IE" sz="4000" spc="-1" strike="noStrike">
                <a:solidFill>
                  <a:srgbClr val="ffcc66"/>
                </a:solidFill>
                <a:latin typeface="Times New Roman"/>
              </a:rPr>
              <a:t>Software Bug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are asked to develop software that stores and manages customers financial da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find a security flaw days before its delivery to the cli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r boss tells you to sit on it and will be fixed with a patch after the deliv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 bring the flaw to the foreground it will delay the release and cost your company mill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do you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5F0-A1EE-425D-A163-60F3BE5698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000" spc="-1" strike="noStrike">
                <a:solidFill>
                  <a:srgbClr val="ffcc66"/>
                </a:solidFill>
                <a:latin typeface="Times New Roman"/>
              </a:rPr>
              <a:t>Ethical Delemma 4:</a:t>
            </a:r>
            <a:br>
              <a:rPr sz="4000"/>
            </a:br>
            <a:r>
              <a:rPr b="0" i="1" lang="en-IE" sz="4000" spc="-1" strike="noStrike">
                <a:solidFill>
                  <a:srgbClr val="ffcc66"/>
                </a:solidFill>
                <a:latin typeface="Times New Roman"/>
              </a:rPr>
              <a:t>Whistleblowing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ork for a small software firm that is contracted to write a program that can predict the spread of radiation of a dirty bomb with 75% accurac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est you have been able to achieve is 74.6% accurac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boss says close enough and rounds up the test da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you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382-D675-4787-8381-9C0BCCE1DC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000" spc="-1" strike="noStrike">
                <a:solidFill>
                  <a:srgbClr val="ffcc66"/>
                </a:solidFill>
                <a:latin typeface="Times New Roman"/>
              </a:rPr>
              <a:t>Ethical Delemma 5: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orked for a software firm developing countless programs for many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 those years you have made several software libraries that help you do your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decided to move on to a new compan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ter a few weeks you realize that you can use the libraries from your old job to help with your new jo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you do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400-6C44-4310-9626-D4144A58A6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blems With Professional Ethic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not cover all aspects of software develop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determines violation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are the rules interpre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penalties exist for violation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DAC-126E-4978-ACD3-A05F2BDCBF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nk you and good luck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4728-E878-4F8A-9157-A768E2CE6F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Brief Introduction to Ethical Thoe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ory </a:t>
            </a:r>
            <a:r>
              <a:rPr b="1" lang="en-CA" sz="3200" spc="-1" strike="noStrike">
                <a:solidFill>
                  <a:srgbClr val="ffffcc"/>
                </a:solidFill>
                <a:latin typeface="Times New Roman"/>
              </a:rPr>
              <a:t>2. Moral Rela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Moral Relativism: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What is morally right or wrong depends on the prevailing view in the society or culture we happen to be dealing wi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Liberalism: No one has the right to force his view on oth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500-A120-4BE5-A110-18D1AA6A41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Brief Introduction to Ethical Thoe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ory 3:  Consequential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Consequentialists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maintain that whether an action is morally right or wrong depends on the action's consequences.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In any situation, the morally right thing to do is whatever will have the best consequ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646-C7D4-4649-9177-DFAC5F2B9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Brief Introduction to Ethical Thoe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y 4:  Deont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'Duty Based' Ethics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Deontologists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deny that what ultimately matters is an action's consequences.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y claim that what matters is the kind of action it is. What matters is doing our dut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re are many kinds of deontological theo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e.g., </a:t>
            </a:r>
            <a:r>
              <a:rPr b="1" lang="en-CA" sz="2400" spc="-1" strike="noStrike">
                <a:solidFill>
                  <a:srgbClr val="ffffcc"/>
                </a:solidFill>
                <a:latin typeface="Times New Roman"/>
              </a:rPr>
              <a:t>The 'Golden Rule'</a:t>
            </a: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 - "Do unto others as you'd have them do unto you."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958-F470-4B1C-9C50-7FB4004D7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41600" y="4363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antian Deont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Immanuel Kant (1724-1804)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is the most influential deontologis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Times New Roman"/>
              </a:rPr>
              <a:t>Rejecting Consequentialism:  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"A good will is good not because of what it effects or accomplishes." Even if by bad luck a good person never accomplishes anything much, the good will would "like a jewel, still shine by its own light as something which has its full value in itself."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33956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7BF-24FB-4A4D-8FDE-B7AAF6711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fessional Ethics Defin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ethics are set of rules, regulations, and a code of conduct that govern how a profession deals with each other and others outside of the prof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from moral c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from legal co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687-AAF8-4B50-A8A1-42E927742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What Do Professional Ethics Provide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s a level of professionalism to software develop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ines and promotes a standard when dealing with clients and emplo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cts the profession as a grou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assifies the rights of members, clients, and emplo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s a guideline in questionable are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F9E-3C67-44F1-A249-A45449DE39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cc66"/>
                </a:solidFill>
                <a:latin typeface="Times New Roman"/>
              </a:rPr>
              <a:t>Some 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ACM Code of Ethics and Professional Condu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acm.org/constitution/code.ht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Bitish Computer Society Code of Condu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1.bcs.org.uk/DocsRepository/03200/3224/default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IEEE-CS/ACM Software Engineering Code of Ethics and Professional Prac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www.acm.org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/about/se-c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666-762E-4B0E-971B-7BAEA6AF7E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5:24:44Z</dcterms:created>
  <dc:creator>Hesham al-Ammal</dc:creator>
  <dc:description/>
  <dc:language>en-US</dc:language>
  <cp:lastModifiedBy>Hesham al-Ammal</cp:lastModifiedBy>
  <dcterms:modified xsi:type="dcterms:W3CDTF">2008-06-05T06:03:40Z</dcterms:modified>
  <cp:revision>3</cp:revision>
  <dc:subject/>
  <dc:title>Ethics</dc:title>
</cp:coreProperties>
</file>