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0A331-8F47-484A-B236-CFFAD0CD0123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llings Fig 17-6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llings Fig 17-8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llings Fig 17-1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llings Fig 17-1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L probably most widely used Web security mechanism. Its implemented at the Transport layer; cf IPSec at Network layer; or various Application layer mechanisms eg. S/MIME &amp; SET (later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llings Fig 17-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L Record Protocol defines these two services for SSL conne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4AE44-5300-477C-82E0-CCD1C00BE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AB2E4-4B5D-4545-8A79-F50A232F7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828EB-B62E-460A-AE93-5F38375CE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0212D-C6C7-4660-87AD-1BC673A89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D04D3-B99C-46F8-9647-7F1687487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151D9-BC3D-49FB-B74A-C8E5BF09A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6A30A-D6B8-4821-B4D0-874E6AA4E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77168-540B-48E2-AFF6-5B6E64A04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EEDFF-FE1C-494F-99C2-D3999B003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4C2EB-FD42-4AF8-B747-037237D06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78C83-60BC-4E79-9BB3-D91DB9EFD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FA03C-25AF-41BF-AC4F-B2D73E3FD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E2DDF-96F2-4AEF-967E-E5D1D46A4C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yptography and Network Secur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204640"/>
            <a:ext cx="64008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Ed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William Stal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cture slides by Lawrie Br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SL Handshake Protoc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allows server &amp; client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authenticate each 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to negotiate encryption &amp; MAC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to negotiate cryptographic keys to be u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ises a series of messages in ph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Establish Security Capabi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Server Authentication and Key Ex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Client Authentication and Key Ex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Fini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SL Handshake Protoc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547640" y="1600200"/>
            <a:ext cx="61930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LS (Transport Layer Security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ETF standard RFC 2246 similar to SSLv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minor dif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record format version nu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HMAC for MA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seudo-random function expands secr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s additional alert co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changes in supported ciph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ges in certificate negoti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ges in use of pad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cure Electronic Transactions (SET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open encryption &amp; security spec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o protect Internet credit card trans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ed in 1996 by Mastercard, Visa et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a payment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ther </a:t>
            </a: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a set of security protocols &amp; forma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e communications amongst par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ust from use of X.509v3 certific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vacy by restricted info to those who need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T Compon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T Trans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stomer opens accou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stomer receives a certif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chants have their own certific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stomer places a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chant is verif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der and payment are s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chant requests payment author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chant confirms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chant provides goods or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chant requests pay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ual Signa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stomer creates dual mess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der information (OI) for merch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yment information (PI) for ban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ither party needs details of o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u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know they are link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a dual signature for th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gned concatenated hashes of OI &amp; P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rchase Request – Custom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rchase Request – Mercha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1403280" y="1600200"/>
            <a:ext cx="69850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rchase Request – Mercha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verifies cardholder certificates using CA s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verifies dual signature using customer's public signature key to ensure order has not been tampered with in transit &amp; that it was signed using cardholder's private signature k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processes order and forwards the payment information to the payment gateway for authorization (described lat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sends a purchase response to cardhol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pter 17 – Web Secur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9640" y="2133360"/>
            <a:ext cx="8229600" cy="39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Use your ment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Wake up to re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rom the song, "I've Got You under My Skin“ by Cole Por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yment Gateway Author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verifies all certific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decrypts digital envelope of authorization block to obtain symmetric key &amp; then decrypts authorization bl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verifies merchant's signature on authorization bl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decrypts digital envelope of payment block to obtain symmetric key &amp; then decrypts payment bl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verifies dual signature on payment bl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verifies that transaction ID received from merchant matches that in PI received (indirectly) from custom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requests &amp; receives an authorization from issu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ds authorization response back to merch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yment Cap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chant sends payment gateway a payment capture requ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teway checks requ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n causes funds to be transferred to merchants accou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ifies merchant using capture respo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considere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for web secu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SL/TLS transport layer security protoc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secure credit card payment protoc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b Secur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b now widely used by business, government, individu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nternet &amp; Web are vulner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a variety of threa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fidenti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nial of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added security mechanis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SL (Secure Socket Layer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port layer security serv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iginally developed by Netsca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 3 designed with public inp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sequently became Internet standard known as TLS (Transport Layer Securit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s TCP to provide a reliable end-to-end serv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SL has two layers of protoc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SL Archite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SL Archite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SL s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association between client &amp; ser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d by the Handshake Protoc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e a set of cryptographic parame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y be shared by multiple SSL conn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SL conn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transient, peer-to-peer, communications lin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ociated with 1 SSL se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SL Record Protoc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fidenti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ing symmetric encryption with a shared secret key defined by Handshake Protoc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A, RC2-40, DES-40, DES, 3DES, Fortezza, RC4-40, RC4-1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ssage is compressed before encry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essage integ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ing a MAC with shared secret k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ilar to HMAC but with different pad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L Change Cipher Spec Protoco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of 3 SSL specific protocols which use the SSL Record protoc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ingle mess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uses pending state to become curr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nce updating the cipher suite in 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SL Alert Protoc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ys SSL-related alerts to peer ent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rning or fa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fic ale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unexpected message, bad record mac, decompression failure, handshake failure, illegal parame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close notify, no certificate, bad certificate, unsupported certificate, certificate revoked, certificate expired, certificate unknow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ressed &amp; encrypted like all SSL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8T02:06:54Z</dcterms:created>
  <dc:creator>Dr Lawrie Brown</dc:creator>
  <dc:description/>
  <dc:language>en-US</dc:language>
  <cp:lastModifiedBy>Computer Science</cp:lastModifiedBy>
  <dcterms:modified xsi:type="dcterms:W3CDTF">2002-06-21T04:27:21Z</dcterms:modified>
  <cp:revision>13</cp:revision>
  <dc:subject>Lecture Overheads - Ch 17</dc:subject>
  <dc:title>William Stallings, Cryptography and Network Security 3/e</dc:title>
</cp:coreProperties>
</file>