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66D-5555-44BF-A8CB-74A425D61B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probably most widely used Web security mechanism. Its implemented at the Transport layer; cf IPSec at Network layer; or various Application layer mechanisms eg. S/MIME &amp; SET (l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Record Protocol defines these two services for SSL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204-B112-4633-8BD8-058350D5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E49-6BC0-4CCF-9775-7D07B98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48F-AB8C-4639-B87D-65747317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D4F-0245-470F-B5E3-D84B2603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B40-61F6-460E-8B3F-C22716B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D9C-D272-4FDA-BCDF-0E4CB79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5D6-3B4E-48FA-83BB-D95782D0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224-A683-4057-A38A-2100438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6DB-C0E2-4885-B289-3CC7025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33D-9D38-4A52-95A3-FD05F52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1D1-F2F4-4141-AAE5-4D85468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0E2-9804-418E-BD8C-081C19F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12ED-2C10-4C8F-A0A5-A4E4C9D0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illiam Stal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slides by Lawrie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Handshak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llows server &amp; clie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thenticate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negotiate encryption &amp; MA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negotiate cryptographic keys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ises a series of messages in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ablish Security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rver Authentication and Key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ient Authentication and Key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Handshak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19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LS (Transport Layer Securi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d RFC 2246 similar to SSLv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ino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cord format vers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HMAC for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eudo-random function expands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dditional aler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nges in supported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certificate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use of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Electronic Transactions (S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en encryption &amp; security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protect Internet credit card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in 1996 by Mastercard, Visa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ay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her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set of security protocols &amp;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communications amongst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rom use of X.509v3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by restricted info to those who ne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rans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open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ceives a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have their own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places a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is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and payment ar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requests payment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confirm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provides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requests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al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reates dual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information (OI) for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information (PI) fo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party needs details of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 they are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ual signature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concatenated hashes of OI &amp;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Request – Custo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Request – Mer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98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Request – Mer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erifies cardholder certificates using CA s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erifies dual signature using customer's public signature key to ensure order has not been tampered with in transit &amp; that it was signed using cardholder's private signatur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cesses order and forwards the payment information to the payment gateway for authorization (described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nds a purchase response to card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7 – Web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your men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ke up to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ng, "I've Got You under My Skin“ by Cole P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Gateway Auth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al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rypts digital envelope of authorization block to obtain symmetric key &amp; then decrypts authoriz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merchant's signature on authoriz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rypts digital envelope of payment block to obtain symmetric key &amp; then decrypts paymen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dual signature on paymen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that transaction ID received from merchant matches that in PI received (indirectly) from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ests &amp; receives an authorization from iss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authorization response back to mer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t sends payment gateway a payment captur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way check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auses funds to be transferred to merchants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es merchant using captur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onsid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we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/TLS transport layer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ecure credit card paymen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now widely used by business, government,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ternet &amp; Web are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dded security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(Secure Socket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layer secur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velop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3 designed with public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became Internet standard known as TLS (Transport Layer Sec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CP to provide a reliable end-to-end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has two layers of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ssociation between client &amp;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the Handshak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set of cryptographic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hared by multiple SS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nsient, peer-to-peer, communications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1 SSL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Record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ymmetric encryption with a shared secret key defined by Handshak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, RC2-40, DES-40, DES, 3DES, Fortezza, RC4-40, RC4-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is compressed before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MAC with shared secre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HMAC but with different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L Change Cipher Spec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3 SSL specific protocols which use the SSL Record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pending state to become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updating the cipher suite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Aler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ys SSL-related alerts to peer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or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expected message, bad record mac, decompression failure, handshake failure, illegal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ose notify, no certificate, bad certificate, unsupported certificate, certificate revoked, certificate expired, certificat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d &amp; encrypted like all SS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omputer Science</cp:lastModifiedBy>
  <dcterms:modified xsi:type="dcterms:W3CDTF">2002-06-21T04:27:21Z</dcterms:modified>
  <cp:revision>13</cp:revision>
  <dc:subject>Lecture Overheads - Ch 17</dc:subject>
  <dc:title>William Stallings, Cryptography and Network Security 3/e</dc:title>
</cp:coreProperties>
</file>