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D38-28D8-4E61-89EF-3B0C2B14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34E-33F6-4172-9D02-06DAD34D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210-C40D-4328-BE66-8457857C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6A2-E66B-4DE1-BB9D-5683F19F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7C5A-FED4-4ABD-AB32-C5525762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2C8A-5361-4464-962D-48C04B30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F60B-68BE-42E8-921F-2A4FCE54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E72A-14BD-4C39-AAFC-6FADDF8D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9C64-9ACB-46AB-9A52-BF7D4945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EC36-48F2-47B4-84C0-F6074AD9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666-FB4B-4EE5-8D93-5D589B80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38B-5857-4091-88F9-BD480FFD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825-BEF0-4998-A6AF-632CD79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6A21-EA63-44D3-A97D-8C61C65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BCF6-CB49-491A-A9B9-7D1C271E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3622-8425-44E1-9EF8-2730CC3B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5E8-9CAB-4801-95D6-C22CE530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039-6A70-4B7C-9E5B-72FFE73F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E25-3BC5-491F-8B61-493A5DF4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543-B8AF-4CE6-9D5F-56DFBD29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45B-7990-49D5-933B-928E716B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2A7-EF2D-47A4-9129-B40DDB0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62C-BF0D-4F61-8370-832A842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19A-FA32-45F5-85ED-67F0343D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F059-196E-4DB3-9682-30395957BCB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5107-CC2D-442F-90AE-3B1233CA88A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umber Theor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me Number Gen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bin Miller 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Choose a random number p to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hoose a random number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less than 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Set j = 0, and z = am mod p,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 = 1 +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m ( such that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largest power of 2 that divides p-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- if z=1 or z = p-1 then p may be pr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j&gt;0 and z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p is not a pr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me Numb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ime number is an integer greater that 1 whose only factors are 1 and itsel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est common diviso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numbers are relatively prime when they share no factors in common other than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cd( a, n ) =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ular Arithmet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3 mod 12 = 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1 ( mod 1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called congru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a+b) mod n = ( (a mod n) + (b mod n)) mod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a*b) mod n = ( (a mod n) * (b mod n)) mod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culating 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d n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d n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erse Modulo a numb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*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1 (mod 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a (mod n ) has a unique solution if a and n are relatively pr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 is prime number, then every number from 1 to n-1 is relatively prime to n and has exactly one inverse modulo n in that r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xtended Euclidean computes invers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rmat’s little theor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m is a prime number, and a is not a multiple of m, th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1 ( mod m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uler Totient Function Ø(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(n) is the number of positive integers less than n that are relatively prime to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 is prime th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(n)= n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 = p.q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p and q are prime numbers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(n) = (p-1).(q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  a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Ø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 n = 1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gcd(a,n)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mod n i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Ø(n)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inverse of 5 mod 7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nce 7 is prime, Ø(7)= 7-1 =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, 5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6-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mod 7 = 5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mod 7 = 3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inese Remainder Theor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umber (less than the product of primes) is uniquely identified by its residues mod these pri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=3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 = 5 a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= 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 mod 3 = 2  AND 14 mod 5 = 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only one number less than 3*5 which has those residues  i.e. 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cto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ing a number means finding its prime factors ( time consuming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= 2 *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0 = 2 * 2 * 3 *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2601 = 41 * 61 * 1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sieve fi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dratic Se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5:14:28Z</dcterms:created>
  <dc:creator>ITCS</dc:creator>
  <dc:description/>
  <dc:language>en-US</dc:language>
  <cp:lastModifiedBy>ITCS</cp:lastModifiedBy>
  <dcterms:modified xsi:type="dcterms:W3CDTF">2009-03-29T05:31:57Z</dcterms:modified>
  <cp:revision>9</cp:revision>
  <dc:subject/>
  <dc:title>Number Theory</dc:title>
</cp:coreProperties>
</file>