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CA3-6E2F-4D07-80EA-6DFEFD81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562-1B43-4DA6-BB33-7E67D9D9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EAE-4555-4BBB-9533-ECA7A9B6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36D-68EA-421A-81BE-C8FE709D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182-2A0F-4C07-AAF3-340AEBF0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7EC-2AD0-435E-8235-76D11B01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099-58E5-4726-A0D9-E58C52CB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171-4AB2-4D8A-B31E-0806EB64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605-43FF-4B8E-BC9D-3E0F756A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54C-6671-4E21-845C-B10D471A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182-7574-4951-A24A-C57561E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80E-587E-41FA-8DC6-231235EE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DB7D-F626-4946-8A99-BC97743BA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Open_Source" TargetMode="External"/><Relationship Id="rId2" Type="http://schemas.openxmlformats.org/officeDocument/2006/relationships/hyperlink" Target="http://en.wikipedia.org/wiki/GPL" TargetMode="External"/><Relationship Id="rId3" Type="http://schemas.openxmlformats.org/officeDocument/2006/relationships/hyperlink" Target="http://en.wikipedia.org/wiki/Password_cracking" TargetMode="External"/><Relationship Id="rId4" Type="http://schemas.openxmlformats.org/officeDocument/2006/relationships/hyperlink" Target="http://en.wikipedia.org/wiki/LM_hash" TargetMode="External"/><Relationship Id="rId5" Type="http://schemas.openxmlformats.org/officeDocument/2006/relationships/hyperlink" Target="http://en.wikipedia.org/wiki/Rainbow_table" TargetMode="External"/><Relationship Id="rId6" Type="http://schemas.openxmlformats.org/officeDocument/2006/relationships/hyperlink" Target="http://en.wikipedia.org/wiki/LiveCD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CS 4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6 : All About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ham al-A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89280" y="6208560"/>
            <a:ext cx="565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acking Techniques/Counter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ing users to choose good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t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computation of h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passwords/bigger alpha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: Due next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emory-trade-off technique used by Ophcrack to speed up Windows password c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Microsoft found a solution for the LM hashes problem? What do they advise to solve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 passwords stored in a Linux password file? Are they still using the old Unix techni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ssword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s must be stored somewhere on the mac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tect the passwords some kind of encryption must b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way is to use a cryptographic hash function and store the hash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ession of the hash results of the password enables people to verify their gu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Passwords are Stored in Un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Chapter 18’s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ndows Stores Pass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Unix, passwords are stored as one way h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seemed to be better than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sted a maximum of 14 characters while most Unix flavors were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ge and Weld Pond from L0pht Heavy Industries peeked under the hood of the LANMan ha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Man has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s longer than 7 characters are divided into two 7 character halves and hashed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ower case letters in the password are changed to upper case before the password is has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L0phtc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isions created by ba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^84 different passwords made of up to 14 mixed case letters and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2^36 different LM hashes of 1-7 character password pie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of the LM has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's password (as an OEM string) is converted to upperc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ssword is either null-padded or truncated to 14 by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"fixed" password is split into two 7-byte hal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values are used to create two DES keys (one from each 7-byte hal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f these keys is used to DES-encrypt the constant ASCII string "KGS!@#$%" (resulting in two 8-byte ciphertext valu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wo ciphertext values are concatenated to form a 16-byte value - the LM ha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crack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hc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en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P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cense) program th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a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M hash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ainbow t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crack 99.9% of alphanumeric passwords of up to 14 charaters in usually a few seconds, and at most a few minu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lso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iveC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sion which automates the retrieval, decryption, and cracking of passwords from a Windows sy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0phtcr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stores passwords in the Security Accounts Manager (SAM)—a binary file that is difficult to read without special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nly will L0phtCrack guess passwords, it will extract LANMan hashes from any SAM file, the local system, or a remote system, and it will even sniff hashes as they cross a net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7:36:09Z</dcterms:created>
  <dc:creator>Creative</dc:creator>
  <dc:description/>
  <dc:language>en-US</dc:language>
  <cp:lastModifiedBy> </cp:lastModifiedBy>
  <dcterms:modified xsi:type="dcterms:W3CDTF">2006-05-16T11:28:39Z</dcterms:modified>
  <cp:revision>20</cp:revision>
  <dc:subject/>
  <dc:title> ITCS 412 Lab 1 : Ethical Hacking, Footprinting, and Scanning a Network</dc:title>
</cp:coreProperties>
</file>