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164-8D4C-4B90-B20E-DC1745AF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AA2-81D7-4F4B-AF1E-4CB7BD1C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7C9-295A-4DB4-B50C-3572BBD5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E15-151D-4ED2-8DBF-4B782C2B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AE1-4B92-4285-89E8-72144362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28C-9F5E-4B6A-BCC0-5675390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3B0-7A96-4AD4-AF16-2F044B4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B20-A93C-4A36-B5AF-92D1823B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FA5-0CF2-4659-924F-34615D72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BD5-C231-42C1-8EF8-5ADF92DC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E59-505D-4372-9363-5EAF6454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E72-9978-481F-8E56-AD5D0968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44BB-3CFE-4261-958F-82D0D93CA9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CS 4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5 : Buffer Over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6208560"/>
            <a:ext cx="565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ck layout for the exampl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81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uffer1 sfp ret   a     b    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------ [                ][            ][   ][   ][    ][    ][   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of st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of st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place arbitrary instruction into its address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code that you are trying to execute in the buffer we are overflowing, and overwrite the return address so it points back into the buff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Address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1219320"/>
            <a:ext cx="1828800" cy="533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6172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5715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5334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809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3276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286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162920" y="6172200"/>
            <a:ext cx="1676160" cy="368280"/>
            <a:chOff x="7162920" y="6172200"/>
            <a:chExt cx="1676160" cy="368280"/>
          </a:xfrm>
        </p:grpSpPr>
        <p:sp>
          <p:nvSpPr>
            <p:cNvPr id="85" name=""/>
            <p:cNvSpPr/>
            <p:nvPr/>
          </p:nvSpPr>
          <p:spPr>
            <a:xfrm>
              <a:off x="7162920" y="653868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36360" y="617220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0000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162920" y="5791320"/>
            <a:ext cx="1676160" cy="368280"/>
            <a:chOff x="7162920" y="5791320"/>
            <a:chExt cx="1676160" cy="368280"/>
          </a:xfrm>
        </p:grpSpPr>
        <p:sp>
          <p:nvSpPr>
            <p:cNvPr id="88" name=""/>
            <p:cNvSpPr/>
            <p:nvPr/>
          </p:nvSpPr>
          <p:spPr>
            <a:xfrm>
              <a:off x="7162920" y="615780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36360" y="579132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08048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738760" y="5791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41040" y="5294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08960" y="48369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38760" y="44337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09588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0600" y="33894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320" y="2322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095880" y="2590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14320" y="1560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162920" y="3429000"/>
            <a:ext cx="1676160" cy="368280"/>
            <a:chOff x="7162920" y="3429000"/>
            <a:chExt cx="1676160" cy="368280"/>
          </a:xfrm>
        </p:grpSpPr>
        <p:sp>
          <p:nvSpPr>
            <p:cNvPr id="100" name=""/>
            <p:cNvSpPr/>
            <p:nvPr/>
          </p:nvSpPr>
          <p:spPr>
            <a:xfrm>
              <a:off x="7162920" y="379548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6360" y="342900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4200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162920" y="1905120"/>
            <a:ext cx="1676160" cy="368280"/>
            <a:chOff x="7162920" y="1905120"/>
            <a:chExt cx="1676160" cy="368280"/>
          </a:xfrm>
        </p:grpSpPr>
        <p:sp>
          <p:nvSpPr>
            <p:cNvPr id="103" name=""/>
            <p:cNvSpPr/>
            <p:nvPr/>
          </p:nvSpPr>
          <p:spPr>
            <a:xfrm>
              <a:off x="7162920" y="227160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6360" y="190512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C000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162920" y="928800"/>
            <a:ext cx="1676160" cy="368280"/>
            <a:chOff x="7162920" y="928800"/>
            <a:chExt cx="1676160" cy="368280"/>
          </a:xfrm>
        </p:grpSpPr>
        <p:sp>
          <p:nvSpPr>
            <p:cNvPr id="106" name=""/>
            <p:cNvSpPr/>
            <p:nvPr/>
          </p:nvSpPr>
          <p:spPr>
            <a:xfrm>
              <a:off x="7162920" y="129528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32400" y="92880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FFFFFF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52440" y="6662880"/>
            <a:ext cx="67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awn Song’s RISE: http://research.microsoft.com/projects/SWSecInstitute/slides/Song.p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62320" y="1752480"/>
            <a:ext cx="2819160" cy="3886200"/>
            <a:chOff x="2362320" y="1752480"/>
            <a:chExt cx="2819160" cy="3886200"/>
          </a:xfrm>
        </p:grpSpPr>
        <p:sp>
          <p:nvSpPr>
            <p:cNvPr id="110" name=""/>
            <p:cNvSpPr/>
            <p:nvPr/>
          </p:nvSpPr>
          <p:spPr>
            <a:xfrm>
              <a:off x="2362320" y="1752480"/>
              <a:ext cx="182880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62320" y="33526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79760" y="245268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gumen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2320" y="28954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05320" y="289548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gumen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2320" y="38098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4267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4724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2438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2880" y="3429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97320" y="38242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7280" y="42814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1720" y="50292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720" y="1981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191120" y="2819160"/>
              <a:ext cx="990360" cy="28191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1120" y="1752480"/>
              <a:ext cx="990360" cy="5335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62320" y="3352680"/>
            <a:ext cx="1828800" cy="2286000"/>
            <a:chOff x="2362320" y="3352680"/>
            <a:chExt cx="1828800" cy="2286000"/>
          </a:xfrm>
        </p:grpSpPr>
        <p:sp>
          <p:nvSpPr>
            <p:cNvPr id="127" name=""/>
            <p:cNvSpPr/>
            <p:nvPr/>
          </p:nvSpPr>
          <p:spPr>
            <a:xfrm>
              <a:off x="2362320" y="3352680"/>
              <a:ext cx="1828800" cy="2286000"/>
            </a:xfrm>
            <a:prstGeom prst="rect">
              <a:avLst/>
            </a:prstGeom>
            <a:solidFill>
              <a:srgbClr val="ff0000">
                <a:alpha val="7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85440" y="466236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tack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7840" y="3352680"/>
              <a:ext cx="11894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ttack 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shell code is hard and needs some skill and gu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hell code i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o H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the Hex into th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y since you must make sure you some how get the addresses right and where to jump to the shel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shellcod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shing the stack for fun and profit by Aleph One, printed in Ph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the stack is smash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vulnerable process is explo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tacker has the same privileges as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ain normal acce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exploit a local buffer overflow vulnerability to gain super-user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y 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back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(UNIX-specific) ine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rivial FTP (TFTP) included with Windows 2000 and some UNIX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etcat to make raw, interactive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ot back an Xtermin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er overflow attacks depend on two thin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ck of boundary test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chine that can execute code that resides in the data/stack seg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auditing of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the use of the unsafe functions in the C library like strcpy() and replace them with safe functions like strncpy() which takes the size of the buffer into acc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ing Stack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rating system with stack execution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r C libr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er libraries work check th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Techniques and bette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out Stack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wo more techniques for preventing buffer overflow explo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ree buffer overflow incidents or threats that happened or were discovered in 2005 or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shellcode for Windows that can be used to run a sys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: Next 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buffer overfl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widespread software security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f of CERT advisories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 security explo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some code by inserting it in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contain worm or viru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 that can switch to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root-grabbing code in program’s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program to jump to the code’s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)famous: Morris worm (19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() in fing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 Air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ed 7 digits instead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Red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IS .ida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ster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DCOM RPC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ayer URL heap allocation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mplayer http://`perl –e ‘print “\””x1024;’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emo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regions: text, data, and stack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, includes program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-only, any change results in segmentation fault (general protection error in Wind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variables and heap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T used for storing data in function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1752480"/>
            <a:ext cx="1981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286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2819520"/>
            <a:ext cx="1981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2286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676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895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13372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calls and the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function is called, execution jumps to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parameters, return values are pushed into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t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ck is a simple 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a continuous block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Pointer (SP) points to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take place at the top (PUSH and 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stack is a fixed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k Over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5480" y="114300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ck consists of logical stack frames that are pushed when calling a function and popped when returnin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pointer (FP) – points to a fixed location within a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function is called, the return address, stack frame pointer and the variables are pushed on the stack (in that ord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return address has a higher address as the buff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overflow the buffer, the return address will be overwrit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268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280" y="49528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 memory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3716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wer memory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function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953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 C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function(int a, int b, int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 buffer1[5]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 buffer2[10]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main()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(1,2,3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7:36:09Z</dcterms:created>
  <dc:creator>Creative</dc:creator>
  <dc:description/>
  <dc:language>en-US</dc:language>
  <cp:lastModifiedBy>lab user</cp:lastModifiedBy>
  <dcterms:modified xsi:type="dcterms:W3CDTF">2006-05-02T12:20:50Z</dcterms:modified>
  <cp:revision>19</cp:revision>
  <dc:subject/>
  <dc:title> ITCS 412 Lab 1 : Ethical Hacking, Footprinting, and Scanning a Network</dc:title>
</cp:coreProperties>
</file>