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12D-4006-45CE-94E8-473FB423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3A6-9606-4C7F-9943-A93760A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988-5C99-4E12-91ED-19E5ED94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EA1-AD93-4379-94EB-FD6D5716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A10-2830-4610-BB78-71320F1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546-4EB3-4900-9323-F8233EF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A3C-9DCA-431C-9D41-27F255B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FD4-D1BD-418D-A257-EAC54A1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489-B8A9-4581-A9A4-FCD2F16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F76-7919-442B-9253-16A63E9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36C-35AC-4ED2-9A2D-C25F009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B4-F7F4-4DB3-9798-BF507C9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CF2-0A74-43D7-AA70-4143CAEFFD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pen_Source" TargetMode="External"/><Relationship Id="rId2" Type="http://schemas.openxmlformats.org/officeDocument/2006/relationships/hyperlink" Target="http://en.wikipedia.org/wiki/GPL" TargetMode="External"/><Relationship Id="rId3" Type="http://schemas.openxmlformats.org/officeDocument/2006/relationships/hyperlink" Target="http://en.wikipedia.org/wiki/Password_cracking" TargetMode="External"/><Relationship Id="rId4" Type="http://schemas.openxmlformats.org/officeDocument/2006/relationships/hyperlink" Target="http://en.wikipedia.org/wiki/LM_hash" TargetMode="External"/><Relationship Id="rId5" Type="http://schemas.openxmlformats.org/officeDocument/2006/relationships/hyperlink" Target="http://en.wikipedia.org/wiki/Rainbow_table" TargetMode="External"/><Relationship Id="rId6" Type="http://schemas.openxmlformats.org/officeDocument/2006/relationships/hyperlink" Target="http://en.wikipedia.org/wiki/LiveCD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6 : All About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0phtcr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stores passwords in the Security Accounts Manager (SAM)—a binary file that is difficult to read without special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will L0phtCrack guess passwords, it will extract LANMan hashes from any SAM file, the local system, or a remote system, and it will even sniff hashes as they cross a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Techniques/Counter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ing users to choose goo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computation of 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passwords/bigg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: Due next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mory-trade-off technique used by Ophcrack to speed up Windows password c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icrosoft found a solution for the LM hashes problem? What do they advise to solve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passwords stored in a Linux password file? Are they still using the old Unix techn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00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&amp;T system to signal idle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ck phone system (phre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stle sold in cereal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sword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 must be stored somewhere on the mac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the passwords some kind of encryption must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way is to use a cryptographic hash function and store the hash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ion of the hash results of the password enables people to verify their gu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Passwords are Stored in Un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hapter 18’s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ndows Stores Pass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Unix, passwords are stored as one way h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seemed to be better than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sted a maximum of 14 characters while most Unix flavors wer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ge and Weld Pond from L0pht Heavy Industries peeked under the hood of the LANMan h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Man ha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s longer than 7 characters are divided into two 7 character halves and hashed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ower case letters in the password are changed to upper case before the password is has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L0pht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isions created by ba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^84 different passwords made of up to 14 mixed case letters and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^36 different LM hashes of 1-7 character password pie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LM ha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password (as an OEM string) is converted to upperc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ssword is either null-padded or truncated to 14 by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"fixed" password is split into two 7-byte hal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alues are used to create two DES keys (one from each 7-byte hal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se keys is used to DES-encrypt the constant ASCII string "KGS!@#$%" (resulting in two 8-byte ciphertext valu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ciphertext values are concatenated to form a 16-byte value - the LM h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crack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hc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P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cense) program th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M has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ainbow 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crack 99.9% of alphanumeric passwords of up to 14 charaters in usually a few seconds, and at most a few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lso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ve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which automates the retrieval, decryption, and cracking of passwords from a Windows sy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Hesham al-Ammal</cp:lastModifiedBy>
  <dcterms:modified xsi:type="dcterms:W3CDTF">2007-05-21T09:22:04Z</dcterms:modified>
  <cp:revision>21</cp:revision>
  <dc:subject/>
  <dc:title> ITCS 412 Lab 1 : Ethical Hacking, Footprinting, and Scanning a Network</dc:title>
</cp:coreProperties>
</file>