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4FC84-6D7B-493A-8132-E48AD8E1B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8ACE5-8837-465B-9E8B-2F0DA226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F02E0-1C61-4DB3-8431-7AD31E6AD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24D22-39B8-4459-BB18-67D72EBE2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79FB4-476B-4C50-9E2D-FE4F86763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161E-353F-4F76-8620-7D2FEF1EF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65EEF-2CB0-4188-BF66-62C882582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98EB2-ADDE-4E0C-AFD5-BADE2CBAD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FE354-DC03-494F-9F0C-0DD4E0EAA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0D394-9272-4499-A8CE-75BF4EE68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E552-F31D-43A7-8CC4-5254518A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D4FD5-EB38-4218-B48F-C00F2B961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62C2-3582-48B4-B45D-9A337CF14A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oosoft.com/cleanet.html" TargetMode="External"/><Relationship Id="rId2" Type="http://schemas.openxmlformats.org/officeDocument/2006/relationships/hyperlink" Target="http://www.moosoft.com/cleanet.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69608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4 : Trojans and Backdoor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43" name=""/>
          <p:cNvSpPr/>
          <p:nvPr/>
        </p:nvSpPr>
        <p:spPr>
          <a:xfrm>
            <a:off x="1889280" y="6208560"/>
            <a:ext cx="565452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measu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vir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er (</a:t>
            </a: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www.moosoft.com/cleanet.ht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and user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wa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trojan using Tini or Netc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s &lt;=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ssion: Two weeks from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rojan horse 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lang="en-US" sz="2400" spc="-1" strike="noStrike" u="sng">
                <a:solidFill>
                  <a:srgbClr val="000000"/>
                </a:solidFill>
                <a:uFillTx/>
                <a:latin typeface="Arial"/>
              </a:rPr>
              <a:t>unauthorized program</a:t>
            </a:r>
            <a:r>
              <a:rPr b="1" lang="en-US" sz="2400" spc="-1" strike="noStrike">
                <a:solidFill>
                  <a:srgbClr val="000000"/>
                </a:solidFill>
                <a:latin typeface="Arial"/>
              </a:rPr>
              <a:t> contained within a legitimate program. This unauthorized program </a:t>
            </a:r>
            <a:r>
              <a:rPr b="1" i="1" lang="en-US" sz="2400" spc="-1" strike="noStrike">
                <a:solidFill>
                  <a:srgbClr val="000000"/>
                </a:solidFill>
                <a:latin typeface="Arial"/>
              </a:rPr>
              <a:t>performs functions unknown</a:t>
            </a:r>
            <a:r>
              <a:rPr b="1" lang="en-US" sz="2400" spc="-1" strike="noStrike">
                <a:solidFill>
                  <a:srgbClr val="000000"/>
                </a:solidFill>
                <a:latin typeface="Arial"/>
              </a:rPr>
              <a:t> (and probably unwanted) by the u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u="sng">
                <a:solidFill>
                  <a:srgbClr val="000000"/>
                </a:solidFill>
                <a:uFillTx/>
                <a:latin typeface="Arial"/>
              </a:rPr>
              <a:t>legitimate program that has been altered</a:t>
            </a:r>
            <a:r>
              <a:rPr b="1" lang="en-US" sz="2400" spc="-1" strike="noStrike">
                <a:solidFill>
                  <a:srgbClr val="000000"/>
                </a:solidFill>
                <a:latin typeface="Arial"/>
              </a:rPr>
              <a:t> by the placement of unauthorized code within it; this code </a:t>
            </a:r>
            <a:r>
              <a:rPr b="1" i="1" lang="en-US" sz="2400" spc="-1" strike="noStrike">
                <a:solidFill>
                  <a:srgbClr val="000000"/>
                </a:solidFill>
                <a:latin typeface="Arial"/>
              </a:rPr>
              <a:t>performs functions unknown</a:t>
            </a:r>
            <a:r>
              <a:rPr b="1" lang="en-US" sz="2400" spc="-1" strike="noStrike">
                <a:solidFill>
                  <a:srgbClr val="000000"/>
                </a:solidFill>
                <a:latin typeface="Arial"/>
              </a:rPr>
              <a:t> (and probably unwanted) by the u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a:t>
            </a:r>
            <a:r>
              <a:rPr b="1" lang="en-US" sz="2400" spc="-1" strike="noStrike" u="sng">
                <a:solidFill>
                  <a:srgbClr val="000000"/>
                </a:solidFill>
                <a:uFillTx/>
                <a:latin typeface="Arial"/>
              </a:rPr>
              <a:t>program that appears to perform a desirable and necessary function but</a:t>
            </a:r>
            <a:r>
              <a:rPr b="1" lang="en-US" sz="2400" spc="-1" strike="noStrike">
                <a:solidFill>
                  <a:srgbClr val="000000"/>
                </a:solidFill>
                <a:latin typeface="Arial"/>
              </a:rPr>
              <a:t> that (because of unauthorized code within it that is unknown to the user) </a:t>
            </a:r>
            <a:r>
              <a:rPr b="1" i="1" lang="en-US" sz="2400" spc="-1" strike="noStrike">
                <a:solidFill>
                  <a:srgbClr val="000000"/>
                </a:solidFill>
                <a:latin typeface="Arial"/>
              </a:rPr>
              <a:t>performs functions unknown</a:t>
            </a:r>
            <a:r>
              <a:rPr b="1" lang="en-US" sz="2400" spc="-1" strike="noStrike">
                <a:solidFill>
                  <a:srgbClr val="000000"/>
                </a:solidFill>
                <a:latin typeface="Arial"/>
              </a:rPr>
              <a:t> (and definitely unwanted) by the u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erver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IP add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rojans send email or signal showing IP add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have auto-start (server starts when boot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ini, autoexec.bat,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y can also be us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KEY_LOCAL_MACHINE\Software\Microsoft\Windows\CurrentVersion\Ru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c:\directory\Trojan.ex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s from a troja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er can record or monitor victim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amage system files or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system as a zomb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system to incriminate vict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rious Trojan Genr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Access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 Sending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logg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al Of Service (DoS) Attack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P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tection Kill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xy/Wingate Troj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ing tools : Tini</a:t>
            </a:r>
            <a:endParaRPr b="0" lang="en-US" sz="4400" spc="-1" strike="noStrike">
              <a:solidFill>
                <a:srgbClr val="000000"/>
              </a:solidFill>
              <a:latin typeface="Arial"/>
            </a:endParaRPr>
          </a:p>
        </p:txBody>
      </p:sp>
      <p:sp>
        <p:nvSpPr>
          <p:cNvPr id="53"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 is a simple and very small (3kb) backdoor for Windows, coded in assemb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listens at TCP port 7777 and gives anybody who connects a remote Command Promp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I use this too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 the exe file and run it. Connect (with an ordinary telnet client or similar) to TCP port 7777 and press Enter once, now you'll see the Command Prompt and be able to type comman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Bas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Tini will create a backdoor into your computer! You should </a:t>
            </a:r>
            <a:r>
              <a:rPr b="1" lang="en-US" sz="2000" spc="-1" strike="noStrike">
                <a:solidFill>
                  <a:srgbClr val="000000"/>
                </a:solidFill>
                <a:latin typeface="Arial"/>
              </a:rPr>
              <a:t>not</a:t>
            </a:r>
            <a:r>
              <a:rPr b="0" lang="en-US" sz="2000" spc="-1" strike="noStrike">
                <a:solidFill>
                  <a:srgbClr val="000000"/>
                </a:solidFill>
                <a:latin typeface="Arial"/>
              </a:rPr>
              <a:t> use this tool for remote administration since it doesn't support neither authentication nor encryp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na try 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tsecurity.nu/downloads/tini.ex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Netca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s army knife of network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version of Netcat was written by hobbit and the NT version was done by Weld Po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code available (in 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bound or inbound connections, TCP or UDP, to or from any 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use any local source 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use any locally-configured network source addr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in port-scanning capabilities, with randomiz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in loose source-routing capa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cat example: Backdoor</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er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c -1 -p4444 -d -e cmd.exe -L</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puts netcat into a listening mod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4444 tells netcat to use port 4444</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llows netcat to run detached from the consol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cmd.exe tells netcat to execute the cmd.exe program when the connection is established,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will restart Netcat with the same command line when the connection is terminated.</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client syste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gt;nc -v [ip address of target] 4444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 netcat to connect to the server whose IP is specified on port 4444.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 is then given a console connection to the destination server.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name executab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use an open port through current firew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cat: as a scann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nc -v -w 2 -z target 20–3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cat will try connecting to every port between 20 and 30 [inclusive] at the targ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nform about an FTP server, telnet server, and mailer it has come across in the ran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temp</cp:lastModifiedBy>
  <dcterms:modified xsi:type="dcterms:W3CDTF">2007-04-30T10:53:12Z</dcterms:modified>
  <cp:revision>17</cp:revision>
  <dc:subject/>
  <dc:title> ITCS 412 Lab 1 : Ethical Hacking, Footprinting, and Scanning a Network</dc:title>
</cp:coreProperties>
</file>