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601-61F0-4AE4-8D89-FE150246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35A-D196-4662-9EB1-2D428539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084-1774-4E80-B1C6-05601260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BC5-014F-4DAD-AEDD-BAF8456A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2EE-1886-43B2-A47C-9CC0BB5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EBF-4472-44D9-8286-12612FA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31B-149C-469A-B3D3-59CD9D45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3BA-6547-43DA-9F51-0950D1CB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DA7-584A-49DC-9994-044B8C2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43C-6FC5-44D5-850B-39F354B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82D-AB64-49A2-A67D-EE2A27CB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154-E525-47DB-AB4E-542ECAA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537-CA90-4476-8026-4DF3A1166D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4 : Buffer Over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 layout for the exampl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81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uffer1 sfp ret   a     b 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------ [                ][            ][   ][   ][    ][    ][   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st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place arbitrary instruction into its address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code that you are trying to execute in the buffer we are overflowing, and overwrite the return address so it points back into the buff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Addres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1219320"/>
            <a:ext cx="182880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6172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5715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5334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809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3276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286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162920" y="6172200"/>
            <a:ext cx="1676160" cy="368280"/>
            <a:chOff x="7162920" y="6172200"/>
            <a:chExt cx="1676160" cy="368280"/>
          </a:xfrm>
        </p:grpSpPr>
        <p:sp>
          <p:nvSpPr>
            <p:cNvPr id="85" name=""/>
            <p:cNvSpPr/>
            <p:nvPr/>
          </p:nvSpPr>
          <p:spPr>
            <a:xfrm>
              <a:off x="7162920" y="65386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6360" y="61722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00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162920" y="5791320"/>
            <a:ext cx="1676160" cy="368280"/>
            <a:chOff x="7162920" y="5791320"/>
            <a:chExt cx="1676160" cy="368280"/>
          </a:xfrm>
        </p:grpSpPr>
        <p:sp>
          <p:nvSpPr>
            <p:cNvPr id="88" name=""/>
            <p:cNvSpPr/>
            <p:nvPr/>
          </p:nvSpPr>
          <p:spPr>
            <a:xfrm>
              <a:off x="7162920" y="61578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6360" y="57913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08048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738760" y="5791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41040" y="5294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960" y="4836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8760" y="4433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958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0600" y="33894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320" y="2322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95880" y="2590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4320" y="156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162920" y="3429000"/>
            <a:ext cx="1676160" cy="368280"/>
            <a:chOff x="7162920" y="3429000"/>
            <a:chExt cx="1676160" cy="368280"/>
          </a:xfrm>
        </p:grpSpPr>
        <p:sp>
          <p:nvSpPr>
            <p:cNvPr id="100" name=""/>
            <p:cNvSpPr/>
            <p:nvPr/>
          </p:nvSpPr>
          <p:spPr>
            <a:xfrm>
              <a:off x="7162920" y="37954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6360" y="34290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42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162920" y="1905120"/>
            <a:ext cx="1676160" cy="368280"/>
            <a:chOff x="7162920" y="1905120"/>
            <a:chExt cx="1676160" cy="368280"/>
          </a:xfrm>
        </p:grpSpPr>
        <p:sp>
          <p:nvSpPr>
            <p:cNvPr id="103" name=""/>
            <p:cNvSpPr/>
            <p:nvPr/>
          </p:nvSpPr>
          <p:spPr>
            <a:xfrm>
              <a:off x="7162920" y="22716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6360" y="190512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C000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162920" y="928800"/>
            <a:ext cx="1676160" cy="368280"/>
            <a:chOff x="7162920" y="928800"/>
            <a:chExt cx="1676160" cy="368280"/>
          </a:xfrm>
        </p:grpSpPr>
        <p:sp>
          <p:nvSpPr>
            <p:cNvPr id="106" name=""/>
            <p:cNvSpPr/>
            <p:nvPr/>
          </p:nvSpPr>
          <p:spPr>
            <a:xfrm>
              <a:off x="7162920" y="12952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2400" y="92880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xFFFFFF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52440" y="6662880"/>
            <a:ext cx="67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awn Song’s RISE: http://research.microsoft.com/projects/SWSecInstitute/slides/Song.p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1752480"/>
            <a:ext cx="2819160" cy="3886200"/>
            <a:chOff x="2362320" y="1752480"/>
            <a:chExt cx="2819160" cy="3886200"/>
          </a:xfrm>
        </p:grpSpPr>
        <p:sp>
          <p:nvSpPr>
            <p:cNvPr id="110" name=""/>
            <p:cNvSpPr/>
            <p:nvPr/>
          </p:nvSpPr>
          <p:spPr>
            <a:xfrm>
              <a:off x="2362320" y="1752480"/>
              <a:ext cx="182880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33526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79760" y="24526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gumen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28954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05320" y="28954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gumen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3809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4267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724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2438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2880" y="3429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97320" y="38242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7280" y="42814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1720" y="50292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1981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191120" y="2819160"/>
              <a:ext cx="990360" cy="28191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1752480"/>
              <a:ext cx="990360" cy="5335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3352680"/>
            <a:ext cx="1828800" cy="2286000"/>
            <a:chOff x="2362320" y="3352680"/>
            <a:chExt cx="1828800" cy="2286000"/>
          </a:xfrm>
        </p:grpSpPr>
        <p:sp>
          <p:nvSpPr>
            <p:cNvPr id="127" name=""/>
            <p:cNvSpPr/>
            <p:nvPr/>
          </p:nvSpPr>
          <p:spPr>
            <a:xfrm>
              <a:off x="2362320" y="3352680"/>
              <a:ext cx="1828800" cy="2286000"/>
            </a:xfrm>
            <a:prstGeom prst="rect">
              <a:avLst/>
            </a:prstGeom>
            <a:solidFill>
              <a:srgbClr val="ff0000">
                <a:alpha val="7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85440" y="466236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tack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7840" y="3352680"/>
              <a:ext cx="118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ttack 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shell code is hard and needs some skill and gu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hell code 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o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he Hex into th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y since you must make sure you some how get the addresses right and where to jump to the shel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shellcod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shing the stack for fun and profit by Aleph One, printed in Ph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the stack is smash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vulnerable process is explo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tacker has the same privileges as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ain normal acc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xploit a local buffer overflow vulnerability to gain super-user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back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(UNIX-specific) ine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rivial FTP (TFTP) included with Windows 2000 and some UNIX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etcat to make raw, interactive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ot back an Xtermin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 overflow attacks depend on two thin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boundary test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chine that can execute code that resides in the data/stack se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auditing of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the use of the unsafe functions in the C library like strcpy() and replace them with safe functions like strncpy() which takes the size of the buffer into 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Stack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ng system with stack execution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r C libr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er libraries work check th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Techniques and bette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ut Stack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wo more techniques for preventing buffer overflow explo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buffer overflow incidents or threats that happened or were discovered in aft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shellcode for Windows that can be used to run a sys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: Monday 28 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uffer overf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idespread software security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 of CERT advisories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 security expl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some code by inserting it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contain worm or viru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that can switch to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root-grabbing code in program’s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program to jump to the code’s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)famous: Morris worm (19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() in 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 Air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7 digits instead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d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IS .ida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ster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DCOM RPC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ayer URL heap allocation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mplayer http://`perl –e ‘print “\””x1024;’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regions: text, data, and stack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, includes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-only, any change results in segmentation fault (general protection error in Wind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variables and heap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T used for storing data in func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752480"/>
            <a:ext cx="1981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819520"/>
            <a:ext cx="1981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286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676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895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1337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calls and the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function is called, execution jumps to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arameters, return values are pushed into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t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ck is a simpl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a continuous block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Pointer (SP) points to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take place at the top (PUSH and 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stack is a fixed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k Over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480" y="114300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ck consists of logical stack frames that are pushed when calling a function and popped when return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pointer (FP) – points to a fixed location within a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function is called, the return address, stack frame pointer and the variables are pushed on the stack (in tha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return address has a higher address as the buf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overflow the buffer, the return address will be overwri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26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49528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memory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er memory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functio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953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 C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function(int a, int b, int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buffer1[5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buffer2[10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(1,2,3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Hesham al-Ammal</cp:lastModifiedBy>
  <dcterms:modified xsi:type="dcterms:W3CDTF">2008-04-22T04:48:46Z</dcterms:modified>
  <cp:revision>22</cp:revision>
  <dc:subject/>
  <dc:title> ITCS 412 Lab 1 : Ethical Hacking, Footprinting, and Scanning a Network</dc:title>
</cp:coreProperties>
</file>