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AB4-2209-4894-9E52-F2647410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43D-9148-4EB2-98D8-B31B367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3EE-9A1F-4E8F-B2E2-5F1CFA21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1DB-0ACA-4D45-9B09-FA2C9C0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BEE-0717-43EC-9911-46E101DA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09B-7C52-486B-BD1D-A1B09FE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68A-BE4A-4286-B353-D11FC45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628-63C4-45C2-83BA-0E5719CC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9DF-8FA6-41A0-904E-C26429C1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047-F334-4C9B-96F1-F64F687E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426-7E61-4D17-9E2F-CC15156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A66-07B0-4D88-AC4E-EBDDA03F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C63-55C1-4E6B-AB50-626BE0F0B0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ttack" TargetMode="External"/><Relationship Id="rId2" Type="http://schemas.openxmlformats.org/officeDocument/2006/relationships/hyperlink" Target="http://en.wikipedia.org/wiki/Computer_system" TargetMode="External"/><Relationship Id="rId3" Type="http://schemas.openxmlformats.org/officeDocument/2006/relationships/hyperlink" Target="http://en.wikipedia.org/wiki/Computer_network" TargetMode="External"/><Relationship Id="rId4" Type="http://schemas.openxmlformats.org/officeDocument/2006/relationships/hyperlink" Target="http://en.wikipedia.org/wiki/Bandwidth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ntral_processing_unit" TargetMode="External"/><Relationship Id="rId2" Type="http://schemas.openxmlformats.org/officeDocument/2006/relationships/hyperlink" Target="http://en.wikipedia.org/wiki/Routing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ke_%28computer%29" TargetMode="External"/><Relationship Id="rId2" Type="http://schemas.openxmlformats.org/officeDocument/2006/relationships/hyperlink" Target="http://en.wikipedia.org/wiki/Packet" TargetMode="External"/><Relationship Id="rId3" Type="http://schemas.openxmlformats.org/officeDocument/2006/relationships/hyperlink" Target="http://en.wikipedia.org/wiki/ICMP" TargetMode="External"/><Relationship Id="rId4" Type="http://schemas.openxmlformats.org/officeDocument/2006/relationships/hyperlink" Target="http://en.wikipedia.org/wiki/Fragmentation" TargetMode="External"/><Relationship Id="rId5" Type="http://schemas.openxmlformats.org/officeDocument/2006/relationships/hyperlink" Target="http://en.wikipedia.org/wiki/Computer_bug" TargetMode="External"/><Relationship Id="rId6" Type="http://schemas.openxmlformats.org/officeDocument/2006/relationships/hyperlink" Target="http://en.wikipedia.org/wiki/Operating_system" TargetMode="External"/><Relationship Id="rId7" Type="http://schemas.openxmlformats.org/officeDocument/2006/relationships/hyperlink" Target="http://en.wikipedia.org/wiki/Crash_%28computing%29" TargetMode="External"/><Relationship Id="rId8" Type="http://schemas.openxmlformats.org/officeDocument/2006/relationships/hyperlink" Target="http://en.wikipedia.org/wiki/Ping_of_death" TargetMode="External"/><Relationship Id="rId9" Type="http://schemas.openxmlformats.org/officeDocument/2006/relationships/hyperlink" Target="http://en.wikipedia.org/wiki/Botnet" TargetMode="External"/><Relationship Id="rId10" Type="http://schemas.openxmlformats.org/officeDocument/2006/relationships/hyperlink" Target="http://en.wikipedia.org/wiki/Fork_bomb" TargetMode="Externa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CS 4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2 : Spyware, Keyloggers, and Phi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ham al-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6208560"/>
            <a:ext cx="565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presentation from 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Key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or Keylogger Pro: monitors IM, email, cha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Lantern : FBI created, delivered by a Trojan h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 to key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choose people who access your machine w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ff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bootable OS (Knoppix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-of-service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comput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a loss of service to users, typically the loss of network connectivity and services by consuming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ictim network or overloading the computational resources of the victi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n 2000 Yahoo, CNN, Buy.com, etc. were shut down for hours costing $1.2 B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atta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S attack can be perpetrated in a number of ways. There are three basic types of att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of computational resources, such as bandwidth, disk space,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configuration information, such 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physical network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methods: 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90680" y="228600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dvanced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k send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c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uall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malformed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ragm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 invalid way, trigger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perating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rash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argeted computer. This is known as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ing of d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-saturating floods rely on the attacker having higher bandwidth available than the victim; a common way of achieving this today i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Denial of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mploy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ot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with access to a victim computer can bring it to a crawl or even to a crash by using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k bo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urf attack is one particular variant of a flooding DoS attack on the public Internet. It relies on mis-configured network devices that allow packets to be sent to all computer hosts on a particular network via the broadcast address of the network, rather than a specific mach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which alerts you to an attack and shuts down suspecte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change (if target is a single mach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ing sometimes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: eg. Akam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s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riminal activity using social engineering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attempt to fraudulently acquire sensitive information, such as usernames, passwords and credit card details, by masquerading as a trustworthy entity in an electronic commun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ay, paypa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: email, instant messgenger, pho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532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Ns are broadcast networks (Ethernet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iffer is a piece of software that captures the traffic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be software/hardware pr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help network intrusion detection systems (NIDS) – see sn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sh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fo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-in-the-middle phishing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ph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awareness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users identify legitimate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rting users to fraudulent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2’s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work in pairs if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 phishing or a sniffing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t and gather at least 3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assignment due: 28/10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ld protocols used to send passwords over the network in the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elnet, http, pop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rivate information is also sent in the cl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http traffic, email messag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ffers can exploit this to spy 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sniffers: Ethe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niffer: Sn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an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oftware to detect intr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results in MySQ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CID,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used with other sensors to monitor multipl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2160" y="0"/>
            <a:ext cx="66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peek - $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0ptht crack – sniffs network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with differ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 measures : Sni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I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lo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the user's key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on the same computer system it mon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passwords and other actions even if hidden on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ork covertly/over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blems: user’s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7:36:09Z</dcterms:created>
  <dc:creator>Creative</dc:creator>
  <dc:description/>
  <dc:language>en-US</dc:language>
  <cp:lastModifiedBy>Hesham al-Ammal</cp:lastModifiedBy>
  <dcterms:modified xsi:type="dcterms:W3CDTF">2008-10-20T06:27:57Z</dcterms:modified>
  <cp:revision>15</cp:revision>
  <dc:subject/>
  <dc:title> ITCS 412 Lab 1 : Ethical Hacking, Footprinting, and Scanning a Network</dc:title>
</cp:coreProperties>
</file>