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C48-7E18-4211-94DE-1249F84C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93C-2E0E-449F-9B48-939CDFBF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440-FD32-4804-BB05-B081C6A4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2C4-7EB3-464F-9867-1D439F4C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AEB-53D8-4C33-A8B5-DB034146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7D0-C57A-4FD7-9780-3563C6EA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348-97E2-4B17-A5EF-0A359245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7A7-A29D-4E2E-AA8F-DC894CEB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2FA-1210-400A-98F0-C4D13D72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A72-87C3-44E7-B8E1-1A762B63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63E-7213-4863-AC68-1CDA71FE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3B1-E75A-4675-8991-DFE8D647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8FB0-4AA2-4FF3-8361-8D822F66DE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ttack" TargetMode="External"/><Relationship Id="rId2" Type="http://schemas.openxmlformats.org/officeDocument/2006/relationships/hyperlink" Target="http://en.wikipedia.org/wiki/Computer_system" TargetMode="External"/><Relationship Id="rId3" Type="http://schemas.openxmlformats.org/officeDocument/2006/relationships/hyperlink" Target="http://en.wikipedia.org/wiki/Computer_network" TargetMode="External"/><Relationship Id="rId4" Type="http://schemas.openxmlformats.org/officeDocument/2006/relationships/hyperlink" Target="http://en.wikipedia.org/wiki/Bandwidth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entral_processing_unit" TargetMode="External"/><Relationship Id="rId2" Type="http://schemas.openxmlformats.org/officeDocument/2006/relationships/hyperlink" Target="http://en.wikipedia.org/wiki/Routing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uke_%28computer%29" TargetMode="External"/><Relationship Id="rId2" Type="http://schemas.openxmlformats.org/officeDocument/2006/relationships/hyperlink" Target="http://en.wikipedia.org/wiki/Packet" TargetMode="External"/><Relationship Id="rId3" Type="http://schemas.openxmlformats.org/officeDocument/2006/relationships/hyperlink" Target="http://en.wikipedia.org/wiki/ICMP" TargetMode="External"/><Relationship Id="rId4" Type="http://schemas.openxmlformats.org/officeDocument/2006/relationships/hyperlink" Target="http://en.wikipedia.org/wiki/Fragmentation" TargetMode="External"/><Relationship Id="rId5" Type="http://schemas.openxmlformats.org/officeDocument/2006/relationships/hyperlink" Target="http://en.wikipedia.org/wiki/Computer_bug" TargetMode="External"/><Relationship Id="rId6" Type="http://schemas.openxmlformats.org/officeDocument/2006/relationships/hyperlink" Target="http://en.wikipedia.org/wiki/Operating_system" TargetMode="External"/><Relationship Id="rId7" Type="http://schemas.openxmlformats.org/officeDocument/2006/relationships/hyperlink" Target="http://en.wikipedia.org/wiki/Crash_%28computing%29" TargetMode="External"/><Relationship Id="rId8" Type="http://schemas.openxmlformats.org/officeDocument/2006/relationships/hyperlink" Target="http://en.wikipedia.org/wiki/Ping_of_death" TargetMode="External"/><Relationship Id="rId9" Type="http://schemas.openxmlformats.org/officeDocument/2006/relationships/hyperlink" Target="http://en.wikipedia.org/wiki/Botnet" TargetMode="External"/><Relationship Id="rId10" Type="http://schemas.openxmlformats.org/officeDocument/2006/relationships/hyperlink" Target="http://en.wikipedia.org/wiki/Fork_bomb" TargetMode="External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CS 41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2 : Spyware, Keyloggers, and Phis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ham al-A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89280" y="6208560"/>
            <a:ext cx="565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9436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presentation from 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lo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 Keylo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or Keylogger Pro: monitors IM, email, cha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c Lantern : FBI created, delivered by a Trojan h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measures to key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: choose people who access your machine wi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ff when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spy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bootable OS (Knoppix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ial of Servic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ial-of-service 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lso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compute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uses a loss of service to users, typically the loss of network connectivity and services by consuming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bandwid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ictim network or overloading the computational resources of the victim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In 2000 Yahoo, CNN, Buy.com, etc. were shut down for hours costing $1.2 Bi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atta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S attack can be perpetrated in a number of ways. There are three basic types of att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of computational resources, such as bandwidth, disk space,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configuration information, such a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u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physical network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e methods: 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90680" y="2286000"/>
            <a:ext cx="6362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dvanced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u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ack sends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ck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ually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C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malformed 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ragmen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n invalid way, triggering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u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perating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rash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argeted computer. This is known as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ing of de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-saturating floods rely on the attacker having higher bandwidth available than the victim; a common way of achieving this today is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Denial of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mploying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ot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ttacker with access to a victim computer can bring it to a crawl or even to a crash by using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ork bom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urf attack is one particular variant of a flooding DoS attack on the public Internet. It relies on mis-configured network devices that allow packets to be sent to all computer hosts on a particular network via the broadcast address of the network, rather than a specific mach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which alerts you to an attack and shuts down suspecte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 change (if target is a single mach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ing sometimes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balancing: eg. Akami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shing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is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riminal activity using social engineering techniq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shers attempt to fraudulently acquire sensitive information, such as usernames, passwords and credit card details, by masquerading as a trustworthy entity in an electronic communi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ay, paypa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: email, instant messgenger, pho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532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Phishing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word Sni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Ns are broadcast networks (Ethernet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niffer is a piece of software that captures the traffic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be software/hardware pr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help network intrusion detection systems (NIDS) – see sn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shing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fo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-in-the-middle phishing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ph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awareness and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users identify legitimate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rting users to fraudulent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2’s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work in pairs if you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 phishing or a sniffing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it and gather at least 3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assignment due: 25/3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ld protocols used to send passwords over the network in the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elnet, http, pop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rivate information is also sent in the cle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http traffic, email messag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exploit this to spy on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sniffers: Ethe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sniffer: Sn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for an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used with other software to detect intr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results in MySQ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ACID,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used with other sensors to monitor multiple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62160" y="0"/>
            <a:ext cx="661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ni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peek - $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0ptht crack – sniffs network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thers with different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 measures : Sni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 th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I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lo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s the user's keystro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d on the same computer system it mon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s passwords and other actions even if hidden on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ork covertly/over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roblems: user’s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7:36:09Z</dcterms:created>
  <dc:creator>Creative</dc:creator>
  <dc:description/>
  <dc:language>en-US</dc:language>
  <cp:lastModifiedBy>Hesham al-Ammal</cp:lastModifiedBy>
  <dcterms:modified xsi:type="dcterms:W3CDTF">2008-03-17T05:42:22Z</dcterms:modified>
  <cp:revision>14</cp:revision>
  <dc:subject/>
  <dc:title> ITCS 412 Lab 1 : Ethical Hacking, Footprinting, and Scanning a Network</dc:title>
</cp:coreProperties>
</file>