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E02-D7B3-464A-95AF-1B0B3A6C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B51-3625-449E-9C14-5237B773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1C2-E7D0-401D-9210-09FBC53B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9C1-484A-4102-81A7-F5EDC719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719-426C-47AF-9221-230310D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6B6-F2D5-4F67-9AB9-A11AAB5E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816-7B6E-4492-9D29-EA4D012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6A8-818A-43D0-9BD3-C8C4A91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A0C-20E6-47D6-8D37-0AAB9D0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7E4-B461-463A-9BD2-A9DCBD7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BA6-F0AC-4D8E-A18F-D455067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FEF-20DD-4E7C-AA66-94B01DA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834F-37E7-47E1-B63E-AAF2BFC8CB65}" type="slidenum">
              <a:rPr b="0" lang="ar-B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ttack" TargetMode="External"/><Relationship Id="rId2" Type="http://schemas.openxmlformats.org/officeDocument/2006/relationships/hyperlink" Target="http://en.wikipedia.org/wiki/Computer_system" TargetMode="External"/><Relationship Id="rId3" Type="http://schemas.openxmlformats.org/officeDocument/2006/relationships/hyperlink" Target="http://en.wikipedia.org/wiki/Computer_network" TargetMode="External"/><Relationship Id="rId4" Type="http://schemas.openxmlformats.org/officeDocument/2006/relationships/hyperlink" Target="http://en.wikipedia.org/wiki/Bandwidth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ntral_processing_unit" TargetMode="External"/><Relationship Id="rId2" Type="http://schemas.openxmlformats.org/officeDocument/2006/relationships/hyperlink" Target="http://en.wikipedia.org/wiki/Routin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ke_%28computer%29" TargetMode="External"/><Relationship Id="rId2" Type="http://schemas.openxmlformats.org/officeDocument/2006/relationships/hyperlink" Target="http://en.wikipedia.org/wiki/Packet" TargetMode="External"/><Relationship Id="rId3" Type="http://schemas.openxmlformats.org/officeDocument/2006/relationships/hyperlink" Target="http://en.wikipedia.org/wiki/ICMP" TargetMode="External"/><Relationship Id="rId4" Type="http://schemas.openxmlformats.org/officeDocument/2006/relationships/hyperlink" Target="http://en.wikipedia.org/wiki/Fragmentation" TargetMode="External"/><Relationship Id="rId5" Type="http://schemas.openxmlformats.org/officeDocument/2006/relationships/hyperlink" Target="http://en.wikipedia.org/wiki/Computer_bug" TargetMode="External"/><Relationship Id="rId6" Type="http://schemas.openxmlformats.org/officeDocument/2006/relationships/hyperlink" Target="http://en.wikipedia.org/wiki/Operating_system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88.20/bas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 : Spyware, Keyloggers, and Denial of Servic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presentation from 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 to key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choose people who access your machin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able OS (Knoppix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-of-service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comput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a loss of service to users, typically the loss of network connectivity and services by consuming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ictim network or overloading the computational resources of the victi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n 2000 Yahoo, CNN, Buy.com, etc. were shut down for hours costing $1.2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S attack can be perpetrated in a number of ways. There are three basic types of att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computational resources, such as bandwidth, disk space,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configuration information, such 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physical network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methods: 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90680" y="228600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dvanced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k send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uall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malformed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agm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 invalid way, trigger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rashing the targeted computer. This is known as the ping of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-saturating floods rely on the attacker having higher bandwidth available than the victim; a common way of achieving this today i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Denial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mploying a bo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with access to a victim computer can bring it to a crawl or even to a crash by using a fork bom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urf attack is one particular variant of a flooding DoS attack on the public Internet. It relies on mis-configured network devices that allow packets to be sent to all computer hosts on a particular network via the broadcast address of the network, rather than a specific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which alerts you to an attack and shuts down suspect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change (if target is a single mach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ing sometime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mi.co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assignment due: 21/3/200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Ns are broadcast networks (Ethernet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iffer is a piece of software that captures the traffic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be software/hardware p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help network intrusion detection systems (NDIS) – see sn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 protocols used to send passwords over the network in the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telnet, http, pop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rivate information is also sent in the cl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http traffic, email messag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exploit this to spy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niffers: Ethe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niffer: 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an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oftware to detect intr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results in My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CID,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t out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92.168.88.20/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ensors to monitor multipl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peek - $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pth crack – sniffs network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with differ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 :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ed I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roke logging is a diagnostic used in software development that captures the user's key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the same computer system it mon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passwords and other actions even if hidden on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cover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or Keylogger Pro: monitors IM, email, ch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Lantern : FBI, delivered by a Trojan h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Creative</cp:lastModifiedBy>
  <dcterms:modified xsi:type="dcterms:W3CDTF">2006-03-14T11:22:08Z</dcterms:modified>
  <cp:revision>8</cp:revision>
  <dc:subject/>
  <dc:title> ITCS 412 Lab 1 : Ethical Hacking, Footprinting, and Scanning a Network</dc:title>
</cp:coreProperties>
</file>