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FB2-7B51-4397-9E13-43CBD1D4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EB4-E2E9-4659-8562-BCE5CEC8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DA9-077E-4B14-A184-25F9382E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525-CCE6-46A2-A55C-764449D6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381-A0FA-49C6-86C3-24513514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2D0-A6D8-46CB-9646-2DBF68C9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752-0B9D-4A66-8D7C-3458C908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F68-9A5B-460D-A39E-BB1C13C6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8E3-4CD8-435A-ABBF-9657E515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DDC-273A-4825-ACBB-199EAE97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1E5-61A3-44D7-AD58-DED2ACF9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E69-5A25-4DFA-998A-91A626DE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D3BD-F2BE-4ECF-BB34-FD41613768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ttack" TargetMode="External"/><Relationship Id="rId2" Type="http://schemas.openxmlformats.org/officeDocument/2006/relationships/hyperlink" Target="http://en.wikipedia.org/wiki/Computer_system" TargetMode="External"/><Relationship Id="rId3" Type="http://schemas.openxmlformats.org/officeDocument/2006/relationships/hyperlink" Target="http://en.wikipedia.org/wiki/Computer_network" TargetMode="External"/><Relationship Id="rId4" Type="http://schemas.openxmlformats.org/officeDocument/2006/relationships/hyperlink" Target="http://en.wikipedia.org/wiki/Bandwidth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entral_processing_unit" TargetMode="External"/><Relationship Id="rId2" Type="http://schemas.openxmlformats.org/officeDocument/2006/relationships/hyperlink" Target="http://en.wikipedia.org/wiki/Routing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uke_%28computer%29" TargetMode="External"/><Relationship Id="rId2" Type="http://schemas.openxmlformats.org/officeDocument/2006/relationships/hyperlink" Target="http://en.wikipedia.org/wiki/Packet" TargetMode="External"/><Relationship Id="rId3" Type="http://schemas.openxmlformats.org/officeDocument/2006/relationships/hyperlink" Target="http://en.wikipedia.org/wiki/ICMP" TargetMode="External"/><Relationship Id="rId4" Type="http://schemas.openxmlformats.org/officeDocument/2006/relationships/hyperlink" Target="http://en.wikipedia.org/wiki/Fragmentation" TargetMode="External"/><Relationship Id="rId5" Type="http://schemas.openxmlformats.org/officeDocument/2006/relationships/hyperlink" Target="http://en.wikipedia.org/wiki/Computer_bug" TargetMode="External"/><Relationship Id="rId6" Type="http://schemas.openxmlformats.org/officeDocument/2006/relationships/hyperlink" Target="http://en.wikipedia.org/wiki/Operating_system" TargetMode="Externa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192.168.88.20/bas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CS 41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 2 : Spyware, Keyloggers, and Denial of Servic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ham al-Am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89280" y="6208560"/>
            <a:ext cx="565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9436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presentation from 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measures to key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: choose people who access your machine wis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 off when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spy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bootable OS (Knoppix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ial of Servic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ial-of-service 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lso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compute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uses a loss of service to users, typically the loss of network connectivity and services by consuming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bandwid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ictim network or overloading the computational resources of the victim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In 2000 Yahoo, CNN, Buy.com, etc. were shut down for hours costing $1.2 Bi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atta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S attack can be perpetrated in a number of ways. There are three basic types of att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ption of computational resources, such as bandwidth, disk space,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configuration information, such a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u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physical network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itive methods: 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90680" y="2286000"/>
            <a:ext cx="6362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dvanced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u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ack sends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ck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ually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C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malformed 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ragmen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n invalid way, triggering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u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perating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rashing the targeted computer. This is known as the ping of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-saturating floods rely on the attacker having higher bandwidth available than the victim; a common way of achieving this today is 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Denial of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mploying a bo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ttacker with access to a victim computer can bring it to a crawl or even to a crash by using a fork bom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urf attack is one particular variant of a flooding DoS attack on the public Internet. It relies on mis-configured network devices that allow packets to be sent to all computer hosts on a particular network via the broadcast address of the network, rather than a specific mach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which alerts you to an attack and shuts down suspecte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 change (if target is a single mach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ing sometimes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balancing: eg. Akami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 assignment due: 2/11/200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word Sni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Ns are broadcast networks (Ethernet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niffer is a piece of software that captures the traffic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be software/hardware pr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help network intrusion detection systems (NDIS) – see sn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ld protocols used to send passwords over the network in the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telnet, http, pop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rivate information is also sent in the cle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http traffic, email messag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exploit this to spy on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sniffers: Ethe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sniffer: Sn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for an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used with other software to detect intr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results in MySQ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ACID,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t out at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92.168.88.20/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used with other sensors to monitor multiple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ni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peek - $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0ptht crack – sniffs network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thers with different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 measures : Sni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 th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I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lo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s the user's keystro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d on the same computer system it moni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s passwords and other actions even if hidden on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ork covertly/over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problems: user’s respo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lo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 Keylo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or Keylogger Pro: monitors IM, email, cha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c Lantern : FBI created, delivered by a Trojan h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7:36:09Z</dcterms:created>
  <dc:creator>Creative</dc:creator>
  <dc:description/>
  <dc:language>en-US</dc:language>
  <cp:lastModifiedBy>Hesham al-Ammal</cp:lastModifiedBy>
  <dcterms:modified xsi:type="dcterms:W3CDTF">2006-10-19T05:50:50Z</dcterms:modified>
  <cp:revision>10</cp:revision>
  <dc:subject/>
  <dc:title> ITCS 412 Lab 1 : Ethical Hacking, Footprinting, and Scanning a Network</dc:title>
</cp:coreProperties>
</file>