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C248-70EA-4647-8660-1E6639FA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3DF1-B58A-4236-945E-6FF0F3C9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6E0-FA80-4D22-BFB2-B4F7BDA2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2B53-AFC0-4F0F-9318-8C6F78AA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2F55-0E33-4741-AC34-C204C5A6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181-4A97-4AF3-87F9-1CCAD026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A2F-C7AF-4543-B50F-9E6B5903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948-4A97-4E8A-8B44-2DB0E277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14D7-9570-409C-84F7-0FF34099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E84-FEFA-4B3A-9DA6-1EE23E15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29F-5F66-46C4-A1EE-E1E6805E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5502-3353-49E0-8FF7-D36DA986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33D3-1A57-43DB-A37E-8723D242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53D-F3C5-4872-8BD4-A163CB0B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E63-FFA7-4386-BB00-6A546D5C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8D1-E9FF-4618-ADAF-6DFB1BAB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C63-FCF5-451F-A1AF-F6803531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9D42-031C-4595-9456-A046459D4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AE1-F838-4835-A838-73CB4D685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57F5-9B3E-4956-BD49-3324B67E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499-834D-4403-85EC-0B66E45A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C33-0871-498A-A6D6-86D8A2D7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D4A-4217-407C-BF93-FB95F016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DA4-53A4-4418-8D28-110F933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C94-7417-4D1E-A8BF-9F16279E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682-0FD5-439F-97A3-CA6582B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1E5-E4B3-40BA-BEE3-A8A73064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EDA-17E3-4955-9488-A6E9C549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12B-5B9B-4590-9C96-2148C2E2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885-70ED-4C56-A203-6AA983D1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1E1-3CF0-4F10-8F9C-3F12D0E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2AA-37A4-40DE-869D-9034BF8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E3E-3E20-49C9-9366-B331CCF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45A-061F-4F32-B881-9F2A563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FB4-D16A-41CC-AF83-51BC09F882E8}" type="slidenum">
              <a:rPr b="0" lang="ar-B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ttack" TargetMode="External"/><Relationship Id="rId2" Type="http://schemas.openxmlformats.org/officeDocument/2006/relationships/hyperlink" Target="http://en.wikipedia.org/wiki/Computer_system" TargetMode="External"/><Relationship Id="rId3" Type="http://schemas.openxmlformats.org/officeDocument/2006/relationships/hyperlink" Target="http://en.wikipedia.org/wiki/Computer_network" TargetMode="External"/><Relationship Id="rId4" Type="http://schemas.openxmlformats.org/officeDocument/2006/relationships/hyperlink" Target="http://en.wikipedia.org/wiki/Bandwidth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ntral_processing_unit" TargetMode="External"/><Relationship Id="rId2" Type="http://schemas.openxmlformats.org/officeDocument/2006/relationships/hyperlink" Target="http://en.wikipedia.org/wiki/Routin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ke_%28computer%29" TargetMode="External"/><Relationship Id="rId2" Type="http://schemas.openxmlformats.org/officeDocument/2006/relationships/hyperlink" Target="http://en.wikipedia.org/wiki/Packet" TargetMode="External"/><Relationship Id="rId3" Type="http://schemas.openxmlformats.org/officeDocument/2006/relationships/hyperlink" Target="http://en.wikipedia.org/wiki/ICMP" TargetMode="External"/><Relationship Id="rId4" Type="http://schemas.openxmlformats.org/officeDocument/2006/relationships/hyperlink" Target="http://en.wikipedia.org/wiki/Fragmentation" TargetMode="External"/><Relationship Id="rId5" Type="http://schemas.openxmlformats.org/officeDocument/2006/relationships/hyperlink" Target="http://en.wikipedia.org/wiki/Computer_bug" TargetMode="External"/><Relationship Id="rId6" Type="http://schemas.openxmlformats.org/officeDocument/2006/relationships/hyperlink" Target="http://en.wikipedia.org/wiki/Operating_system" TargetMode="External"/><Relationship Id="rId7" Type="http://schemas.openxmlformats.org/officeDocument/2006/relationships/hyperlink" Target="http://en.wikipedia.org/wiki/Crash_%28computing%29" TargetMode="External"/><Relationship Id="rId8" Type="http://schemas.openxmlformats.org/officeDocument/2006/relationships/hyperlink" Target="http://en.wikipedia.org/wiki/Ping_of_death" TargetMode="External"/><Relationship Id="rId9" Type="http://schemas.openxmlformats.org/officeDocument/2006/relationships/hyperlink" Target="http://en.wikipedia.org/wiki/Botnet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88.20/bas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 : Sniffers, Keyloggers, Phishing, and Denial of Servic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33520" y="5943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presentation from 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 to key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choose people who access your machin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ff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bootable OS (Knoppix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-of-service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comput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a loss of service to users, typically the loss of network connectivity and services by consuming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ictim network or overloading the computational resources of the victi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n 2000 Yahoo, CNN, Buy.com, etc. were shut down for hours costing $1.2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S attack can be perpetrated in a number of ways. There are three basic types of att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computational resources, such as bandwidth, disk space,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configuration information, such 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physical network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methods: 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ngingwimp"/>
          <p:cNvPicPr/>
          <p:nvPr/>
        </p:nvPicPr>
        <p:blipFill>
          <a:blip r:embed="rId1"/>
          <a:stretch/>
        </p:blipFill>
        <p:spPr>
          <a:xfrm>
            <a:off x="1390680" y="228600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dvanced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k send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uall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malformed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agm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 invalid way, trigger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r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argeted computer. This is known as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ing of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-saturating floods rely on the attacker having higher bandwidth available than the victim; a common way of achieving this today i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Denial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mploy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ot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with access to a victim computer can bring it to a crawl or even to a crash by using a fork bom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urf attack is one particular variant of a flooding DoS attack on the public Internet. It relies on mis-configured network devices that allow packets to be sent to all computer hosts on a particular network via the broadcast address of the network, rather than a specific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which alerts you to an attack and shuts down suspect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change (if target is a single mach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ing sometime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: eg. Akam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s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riminal activity using social engineering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attempt to fraudulently acquire sensitive information, such as usernames, passwords and credit card details, by masquerading as a trustworthy entity in an electronic commun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ay, payp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 email, instant messgenger, pho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532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fo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-in-the-middle phishing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ph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Ns are broadcast networks (Ethernet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iffer is a piece of software that captures the traffic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be software/hardware p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help network intrusion detection systems (NIDS) – see sn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57320" y="46080"/>
            <a:ext cx="300960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awareness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users identify legitimat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ing users to fraudulent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assignment due: 5/11/2007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phishing, sniffing, or keylogging attack. Write a simple report on the method you used and how successful it wa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 protocols used to send passwords over the network in the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elnet, http, po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rivate information is also sent in the cl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http traffic, email messag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exploit this to spy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niffers: Ethe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1941480" y="4608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ethereal-complet"/>
          <p:cNvPicPr/>
          <p:nvPr/>
        </p:nvPicPr>
        <p:blipFill>
          <a:blip r:embed="rId1"/>
          <a:stretch/>
        </p:blipFill>
        <p:spPr>
          <a:xfrm>
            <a:off x="220968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niffer: 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an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oftware to detect intr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results in My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CID,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t out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92.168.88.20/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ensors to monitor multipl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peek - $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ptht crack – sniffs network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with differ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 :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I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the user's key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the same computer system it mon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passwords and other actions even if hidden on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covertly/over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blems: user’s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or Keylogger Pro: monitors IM, email, ch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Lantern : FBI created, delivered by a Trojan h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 Hesham Al-Ammal</cp:lastModifiedBy>
  <dcterms:modified xsi:type="dcterms:W3CDTF">2007-10-23T15:41:33Z</dcterms:modified>
  <cp:revision>13</cp:revision>
  <dc:subject/>
  <dc:title> ITCS 412 Lab 1 : Ethical Hacking, Footprinting, and Scanning a Network</dc:title>
</cp:coreProperties>
</file>