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AB6C7-9255-4A69-91E4-5B72CD6F5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0A4E3-7A8D-48F5-836A-6F4184A0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551E1-AA04-4476-BE66-4D10E5D9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480BE-1E82-4DB4-BCD6-35379338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40136-B1BF-4C67-B537-0A3299C6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C117-3754-4C9E-8533-BC11DCDD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914F-92CC-42F4-8B10-C4303E1A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F9918-4A54-40E6-8D3F-16A2EB05F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EDBA-F74E-4F02-9DD4-9311ED52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8EC1A-7A17-4D77-9327-FC7DBAFC3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2B58-65AF-42CE-B3C0-C98355B2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C900-F224-4A2E-8EFF-EDE0EB770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E777-888B-45BF-A817-262DC87EE5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Hack_value" TargetMode="External"/><Relationship Id="rId2" Type="http://schemas.openxmlformats.org/officeDocument/2006/relationships/hyperlink" Target="http://en.wikipedia.org/wiki/Unix"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69.59.186.204/newsadmin/printable.php?ID=33590&amp;PHPSESSID=e30e787fb69295695248584631fc1cc9"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69608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1 : Ethical Hacking, Footprinting, and Scanning a Network</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43" name=""/>
          <p:cNvSpPr/>
          <p:nvPr/>
        </p:nvSpPr>
        <p:spPr>
          <a:xfrm>
            <a:off x="380880" y="624852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lides from ECE 4112 – Owen’s Course at GATe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ootprinting and Scanning</a:t>
            </a:r>
            <a:endParaRPr b="0" lang="en-US" sz="4000" spc="-1" strike="noStrike">
              <a:solidFill>
                <a:srgbClr val="000000"/>
              </a:solidFill>
              <a:latin typeface="Arial"/>
            </a:endParaRPr>
          </a:p>
        </p:txBody>
      </p:sp>
      <p:sp>
        <p:nvSpPr>
          <p:cNvPr id="7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arget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for H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ervices/Vulner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ding Against Attacks (counter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for initial informat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 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groups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ster di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is Databas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Registrar/Regist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by IP Address, Domain Name, AS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 Spad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mapping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685440"/>
            <a:ext cx="7873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rt/Vulnerability Scanning Tools</a:t>
            </a:r>
            <a:endParaRPr b="0" lang="en-US" sz="4000" spc="-1" strike="noStrike">
              <a:solidFill>
                <a:srgbClr val="000000"/>
              </a:solidFill>
              <a:latin typeface="Arial"/>
            </a:endParaRPr>
          </a:p>
        </p:txBody>
      </p:sp>
      <p:sp>
        <p:nvSpPr>
          <p:cNvPr id="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Network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s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Sca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s a Range of Address Simultane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MAP</a:t>
            </a:r>
            <a:endParaRPr b="0" lang="en-US" sz="4400" spc="-1" strike="noStrike">
              <a:solidFill>
                <a:srgbClr val="000000"/>
              </a:solidFill>
              <a:latin typeface="Arial"/>
            </a:endParaRPr>
          </a:p>
        </p:txBody>
      </p:sp>
      <p:sp>
        <p:nvSpPr>
          <p:cNvPr id="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Sc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service port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Operating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g Swee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host are al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sus</a:t>
            </a:r>
            <a:endParaRPr b="0" lang="en-US" sz="4400" spc="-1" strike="noStrike">
              <a:solidFill>
                <a:srgbClr val="000000"/>
              </a:solidFill>
              <a:latin typeface="Arial"/>
            </a:endParaRPr>
          </a:p>
        </p:txBody>
      </p:sp>
      <p:sp>
        <p:nvSpPr>
          <p:cNvPr id="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pecific Vulnerabilities and Exploit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s vulnerabilities on non-traditional 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can</a:t>
            </a:r>
            <a:endParaRPr b="0" lang="en-US" sz="4400" spc="-1" strike="noStrike">
              <a:solidFill>
                <a:srgbClr val="000000"/>
              </a:solidFill>
              <a:latin typeface="Arial"/>
            </a:endParaRPr>
          </a:p>
        </p:txBody>
      </p:sp>
      <p:sp>
        <p:nvSpPr>
          <p:cNvPr id="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 Port Scanner/Pinger/Res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TCP/UDP/ICMP Sc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YN Sc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rout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 Visual Route (share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Upd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 Scanning/Ping Sweep/trace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t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firewalls: ZoneAlarm, Windows Firewa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CISCO, proxy servers, (more about them lat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end ICMP echo rep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ker n. [originally, someone who makes furniture with an axe]</a:t>
            </a:r>
            <a:endParaRPr b="0" lang="en-US" sz="4000" spc="-1" strike="noStrike">
              <a:solidFill>
                <a:srgbClr val="000000"/>
              </a:solidFill>
              <a:latin typeface="Arial"/>
            </a:endParaRPr>
          </a:p>
        </p:txBody>
      </p:sp>
      <p:sp>
        <p:nvSpPr>
          <p:cNvPr id="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enjoys exploring the details of programmable systems and how to stretch their capabilities, as opposed to most users, who prefer to learn only the minimum necessa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programs enthusiastically (even obsessively) or who enjoys programming rather than just theorizing about programm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pable of appreciating </a:t>
            </a:r>
            <a:r>
              <a:rPr b="0" lang="en-US" sz="1800" spc="-1" strike="noStrike" u="sng">
                <a:solidFill>
                  <a:srgbClr val="009999"/>
                </a:solidFill>
                <a:uFillTx/>
                <a:latin typeface="Arial"/>
                <a:hlinkClick r:id="rId1"/>
              </a:rPr>
              <a:t>hack val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is good at programming quick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at a particular program, or one who frequently does work using it or on it; as in "a </a:t>
            </a:r>
            <a:r>
              <a:rPr b="0" lang="en-US" sz="1800" spc="-1" strike="noStrike" u="sng">
                <a:solidFill>
                  <a:srgbClr val="009999"/>
                </a:solidFill>
                <a:uFillTx/>
                <a:latin typeface="Arial"/>
                <a:hlinkClick r:id="rId2"/>
              </a:rPr>
              <a:t>Unix</a:t>
            </a:r>
            <a:r>
              <a:rPr b="0" lang="en-US" sz="1800" spc="-1" strike="noStrike">
                <a:solidFill>
                  <a:srgbClr val="000000"/>
                </a:solidFill>
                <a:latin typeface="Arial"/>
              </a:rPr>
              <a:t> hacker". (Definitions 1 through 5 are correlated, and people who fit them congrega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or enthusiast of any kind. One might be an astronomy hacker, for examp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enjoys the intellectual challenge of creatively overcoming or circumventing limi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ated] A malicious meddler who tries to discover sensitive information by poking around. Hence "password hacker", "network hacker". The correct term for this sense is </a:t>
            </a:r>
            <a:r>
              <a:rPr b="0" lang="en-US" sz="1800" spc="-1" strike="noStrike" u="sng">
                <a:solidFill>
                  <a:srgbClr val="009999"/>
                </a:solidFill>
                <a:uFillTx/>
                <a:latin typeface="Arial"/>
                <a:hlinkClick r:id="rId3"/>
              </a:rPr>
              <a:t>crack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838080" y="272880"/>
            <a:ext cx="739152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b assignment due: 7/3/2006</a:t>
            </a:r>
            <a:br>
              <a:rPr sz="4000"/>
            </a:b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 of Hack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fford Stoll, Stalking the Wiley Hacker, Cukoo’s Egg (19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posting in 1993 by Farmer and Ven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echniques of an intruder to detect vulnera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nalysis Tool for Auditing Networks (SAT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e in Ethical Hack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Hack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obtain approval from the organization where the hacking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ools and techniques to evaluate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owner of any discovered vulner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Responsibl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teachers!  They are the ones teaching such techniques and tools and inflicting painfu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students!  They are responsible for the actions they decide to take after learning tools that others use to attack. How can you figure out how to defend yourself if you do not understand the attack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ough knowledge can you defend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Lawful?</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قوانين رادعة لحماية البيانات الحكومية في البحرين من القرصنة</a:t>
            </a:r>
            <a:r>
              <a:rPr b="0" lang="ar-BH"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84000"/>
          </a:bodyPr>
          <a:p>
            <a:pPr marL="288000" indent="-2880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تاريخ</a:t>
            </a:r>
            <a:r>
              <a:rPr b="1"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04</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2004</a:t>
            </a:r>
            <a:r>
              <a:rPr b="0" lang="en-US" sz="2400" spc="-1" strike="noStrike">
                <a:solidFill>
                  <a:srgbClr val="000000"/>
                </a:solidFill>
                <a:latin typeface="Arial"/>
              </a:rPr>
              <a:t> </a:t>
            </a:r>
            <a:r>
              <a:rPr b="0" lang="en-US" sz="2400" spc="-1" strike="noStrike" u="sng">
                <a:solidFill>
                  <a:srgbClr val="009999"/>
                </a:solidFill>
                <a:uFillTx/>
                <a:latin typeface="Arial"/>
                <a:hlinkClick r:id="rId1"/>
              </a:rPr>
              <a:t> </a:t>
            </a:r>
            <a:endParaRPr b="0" lang="en-US" sz="2400" spc="-1" strike="noStrike">
              <a:solidFill>
                <a:srgbClr val="000000"/>
              </a:solidFill>
              <a:latin typeface="Arial"/>
            </a:endParaRPr>
          </a:p>
          <a:p>
            <a:pPr marL="288000" indent="-2880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كد رئيس الجهاز المركزي البحريني للمعلومات بالإنابة الشيخ احمد بن عطية الله آل خليفة انه تم الانتهاء من صياغة مسودة قانون جرائم استخدامات الكمبيوتر والذي سيتصدى لجرائم الاعتداء على الأنظمة المعلوماتية وحماية البيانات الحكومية في مملكة البحرين من القرصنة والاختراق الالكتروني.</a:t>
            </a:r>
            <a:br>
              <a:rPr sz="2400"/>
            </a:br>
            <a:r>
              <a:rPr b="1" lang="ar-SA" sz="2400" spc="-1" strike="noStrike">
                <a:solidFill>
                  <a:srgbClr val="000000"/>
                </a:solidFill>
                <a:latin typeface="Arial"/>
              </a:rPr>
              <a:t>وقال الشيخ احمد بن عطية الله أن الجهاز قام بالاتفاق مع فريق قانوني متخصص في القوانين الالكترونية والقضائية للمساعدة في عملية التحضير والتجهيز لمشروع الحكومة الالكترونية.</a:t>
            </a:r>
            <a:br>
              <a:rPr sz="2400"/>
            </a:br>
            <a:r>
              <a:rPr b="1" lang="ar-SA" sz="2400" spc="-1" strike="noStrike">
                <a:solidFill>
                  <a:srgbClr val="000000"/>
                </a:solidFill>
                <a:latin typeface="Arial"/>
              </a:rPr>
              <a:t>وأشار الشيخ عطية الله الى ان الفريق قام بتحديد القوانين والتشريعات الحالية التي ستتأثر بوجود خدمات الحكومة الالكترونية فضلاً عن الجهات التي ستتأثر بتطبيق البطاقة الذكية في المرحلة الاولى وهي ادارة السجل السكاني وادارة الجنسية والجوازات والاقامة والادارة العامة للمرور والمستشفى العسكري ووزارتي الصحة والعمل</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دستور مملكة البحرين</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الباب الأول:</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مراسلات الشخصية حرمتها وسريتها، والمراسلات البريدية والبرقية والهاتفية والإلكترونية وغيرها مصونة، ولا يجوز أن تخضع هذه المراسلات للرقابة أو التفتيش إلا في حالات الضرورة التي يقررها القانون تحت رقابة السلطة القضائية</a:t>
            </a:r>
            <a:r>
              <a:rPr b="0" lang="ar-BH"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Intrusion Cycle</a:t>
            </a:r>
            <a:endParaRPr b="0" lang="en-US" sz="4400" spc="-1" strike="noStrike">
              <a:solidFill>
                <a:srgbClr val="000000"/>
              </a:solidFill>
              <a:latin typeface="Arial"/>
            </a:endParaRPr>
          </a:p>
        </p:txBody>
      </p:sp>
      <p:grpSp>
        <p:nvGrpSpPr>
          <p:cNvPr id="59" name=""/>
          <p:cNvGrpSpPr/>
          <p:nvPr/>
        </p:nvGrpSpPr>
        <p:grpSpPr>
          <a:xfrm>
            <a:off x="1899360" y="1199880"/>
            <a:ext cx="5420880" cy="5418000"/>
            <a:chOff x="1899360" y="1199880"/>
            <a:chExt cx="5420880" cy="5418000"/>
          </a:xfrm>
        </p:grpSpPr>
        <p:sp>
          <p:nvSpPr>
            <p:cNvPr id="60" name="_s20491"/>
            <p:cNvSpPr/>
            <p:nvPr/>
          </p:nvSpPr>
          <p:spPr>
            <a:xfrm>
              <a:off x="2666880" y="1972080"/>
              <a:ext cx="3886200" cy="3873600"/>
            </a:xfrm>
            <a:prstGeom prst="blockArc">
              <a:avLst>
                <a:gd name="adj1" fmla="val 15120000"/>
                <a:gd name="adj2" fmla="val 6480000"/>
                <a:gd name="adj3" fmla="val 10000"/>
              </a:avLst>
            </a:prstGeom>
            <a:solidFill>
              <a:srgbClr val="ff0000"/>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_s20488"/>
            <p:cNvSpPr/>
            <p:nvPr/>
          </p:nvSpPr>
          <p:spPr>
            <a:xfrm rot="4320000">
              <a:off x="2672640" y="1965960"/>
              <a:ext cx="3873600" cy="3886200"/>
            </a:xfrm>
            <a:prstGeom prst="blockArc">
              <a:avLst>
                <a:gd name="adj1" fmla="val 15120000"/>
                <a:gd name="adj2" fmla="val 6480000"/>
                <a:gd name="adj3" fmla="val 10000"/>
              </a:avLst>
            </a:prstGeom>
            <a:solidFill>
              <a:srgbClr val="ff6600"/>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_s20496"/>
            <p:cNvSpPr/>
            <p:nvPr/>
          </p:nvSpPr>
          <p:spPr>
            <a:xfrm rot="8640000">
              <a:off x="2666520" y="1972080"/>
              <a:ext cx="3886200" cy="3873600"/>
            </a:xfrm>
            <a:prstGeom prst="blockArc">
              <a:avLst>
                <a:gd name="adj1" fmla="val 15120000"/>
                <a:gd name="adj2" fmla="val 6480000"/>
                <a:gd name="adj3" fmla="val 10000"/>
              </a:avLst>
            </a:prstGeom>
            <a:solidFill>
              <a:srgbClr val="ff9933"/>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_s20494"/>
            <p:cNvSpPr/>
            <p:nvPr/>
          </p:nvSpPr>
          <p:spPr>
            <a:xfrm rot="12960000">
              <a:off x="2666520" y="1971720"/>
              <a:ext cx="3886200" cy="3873600"/>
            </a:xfrm>
            <a:prstGeom prst="blockArc">
              <a:avLst>
                <a:gd name="adj1" fmla="val 15120000"/>
                <a:gd name="adj2" fmla="val 6480000"/>
                <a:gd name="adj3" fmla="val 10000"/>
              </a:avLst>
            </a:prstGeom>
            <a:solidFill>
              <a:srgbClr val="ffcc00"/>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20489"/>
            <p:cNvSpPr/>
            <p:nvPr/>
          </p:nvSpPr>
          <p:spPr>
            <a:xfrm rot="17280000">
              <a:off x="2673000" y="1965600"/>
              <a:ext cx="3873600" cy="3886200"/>
            </a:xfrm>
            <a:prstGeom prst="blockArc">
              <a:avLst>
                <a:gd name="adj1" fmla="val 15120000"/>
                <a:gd name="adj2" fmla="val 6480000"/>
                <a:gd name="adj3" fmla="val 10000"/>
              </a:avLst>
            </a:prstGeom>
            <a:solidFill>
              <a:srgbClr val="f9f67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20486"/>
            <p:cNvSpPr/>
            <p:nvPr/>
          </p:nvSpPr>
          <p:spPr>
            <a:xfrm>
              <a:off x="5844960" y="4017960"/>
              <a:ext cx="857160" cy="8542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canning</a:t>
              </a:r>
              <a:endParaRPr b="0" lang="en-US" sz="1800" spc="-1" strike="noStrike">
                <a:solidFill>
                  <a:srgbClr val="000000"/>
                </a:solidFill>
                <a:latin typeface="Arial"/>
              </a:endParaRPr>
            </a:p>
          </p:txBody>
        </p:sp>
        <p:sp>
          <p:nvSpPr>
            <p:cNvPr id="66" name="_s20487"/>
            <p:cNvSpPr/>
            <p:nvPr/>
          </p:nvSpPr>
          <p:spPr>
            <a:xfrm>
              <a:off x="3152520" y="2071800"/>
              <a:ext cx="857160" cy="854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Clear tracks</a:t>
              </a:r>
              <a:endParaRPr b="0" lang="en-US" sz="1800" spc="-1" strike="noStrike">
                <a:solidFill>
                  <a:srgbClr val="000000"/>
                </a:solidFill>
                <a:latin typeface="Arial"/>
              </a:endParaRPr>
            </a:p>
          </p:txBody>
        </p:sp>
        <p:sp>
          <p:nvSpPr>
            <p:cNvPr id="67" name="_s20490"/>
            <p:cNvSpPr/>
            <p:nvPr/>
          </p:nvSpPr>
          <p:spPr>
            <a:xfrm>
              <a:off x="5208480" y="2070360"/>
              <a:ext cx="857160" cy="854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Reconnaissance</a:t>
              </a:r>
              <a:endParaRPr b="0" lang="en-US" sz="1800" spc="-1" strike="noStrike">
                <a:solidFill>
                  <a:srgbClr val="000000"/>
                </a:solidFill>
                <a:latin typeface="Arial"/>
              </a:endParaRPr>
            </a:p>
          </p:txBody>
        </p:sp>
        <p:sp>
          <p:nvSpPr>
            <p:cNvPr id="68" name="_s20493"/>
            <p:cNvSpPr/>
            <p:nvPr/>
          </p:nvSpPr>
          <p:spPr>
            <a:xfrm>
              <a:off x="2519280" y="4021200"/>
              <a:ext cx="857160" cy="854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Maintain access</a:t>
              </a:r>
              <a:endParaRPr b="0" lang="en-US" sz="1800" spc="-1" strike="noStrike">
                <a:solidFill>
                  <a:srgbClr val="000000"/>
                </a:solidFill>
                <a:latin typeface="Arial"/>
              </a:endParaRPr>
            </a:p>
          </p:txBody>
        </p:sp>
        <p:sp>
          <p:nvSpPr>
            <p:cNvPr id="69" name="_s20495"/>
            <p:cNvSpPr/>
            <p:nvPr/>
          </p:nvSpPr>
          <p:spPr>
            <a:xfrm>
              <a:off x="4182840" y="5223600"/>
              <a:ext cx="857160" cy="854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Gain acces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Student</cp:lastModifiedBy>
  <dcterms:modified xsi:type="dcterms:W3CDTF">2006-02-28T12:12:48Z</dcterms:modified>
  <cp:revision>5</cp:revision>
  <dc:subject/>
  <dc:title> ITCS 412 Lab 1 : Ethical Hacking, Footprinting, and Scanning a Network</dc:title>
</cp:coreProperties>
</file>