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6D1E-4529-4514-94FD-E6D5139C0FB3}" type="slidenum">
              <a:rPr b="0" lang="ar-BH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Table 20-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6A7C-A6DB-4967-A8F5-1A27834D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11F-28F1-4D3E-825F-FBF27231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4DE-FA04-490B-87C9-7BA0BB5D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A72-EBB7-4B0C-B036-092ABB1D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4C13-33E8-4A1B-B8C9-AB607B2F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384-2B9C-4251-9FA4-D6060C76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F6D1-77EE-4D02-9535-FF009434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8E9F-EEAD-4E2F-A6E0-A21B9AAE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DAE7-10D2-4513-A823-53F3C285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4C8F-83AD-443B-8B8B-0E9B2158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5FD-E669-41AD-8481-4BA41477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4D73-CCCA-442B-AF7E-7E017EF6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9CFF-F895-4444-9227-A428AC80C6A3}" type="slidenum">
              <a:rPr b="0" lang="ar-BH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ptography and Network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204640"/>
            <a:ext cx="6400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William Stal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slides by Lawrie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ewalls - 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pplication Level Gateway (or Prox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e an application specific gateway / prox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as full access to protoc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r requests service from prox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roxy validates request as leg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n actions request and returns result to us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eed separate proxies for each ser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ome services naturally support proxy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thers are more problema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ustom services generally not suppor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ewalls - 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Circuit Level Gate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ewalls - 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Circuit Level Gate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ys two TCP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ses security by limiting which such connections are a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created usually relays traffic without examining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used when trust internal users by allowing general outbound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KS commonly used for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Firewa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choke point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of control and monito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terconnects networks with differing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mposes restrictions on network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nly authorized traffic is allow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uditing and controlling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mplement alarms for abnormal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self immune to pene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perimeter de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ewall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protect from attacks bypass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g sneaker net, utility modems, trusted organisations, trusted services (eg SSL/S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protect against internal thr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 disgruntled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protect against transfer of all virus infected programs or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huge range of O/S &amp; file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ewalls – Packet Fi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ewalls – Packet Fi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implest of compon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undation of any firewall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amine each IP packet (no context) and permit or deny according to r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ence restrict access to services (por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default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at not expressly permitted is prohibi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at not expressly prohibited is per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ewalls – Packet Fi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acks on Packet Fi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address spoo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ke source address to be tru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filters on router to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routing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r sets a route other than 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source routed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y fragment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header info over several tiny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discard or reassemble before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ewalls – Stateful Packet Fil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amine each IP packet in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s tracks of client-server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each packet validly belongs to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etter able to detect bogus packets out of con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ewalls - 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pplication Level Gateway (or Prox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2:06:54Z</dcterms:created>
  <dc:creator>Dr Lawrie Brown</dc:creator>
  <dc:description/>
  <dc:language>en-US</dc:language>
  <cp:lastModifiedBy>Creative</cp:lastModifiedBy>
  <dcterms:modified xsi:type="dcterms:W3CDTF">2005-06-07T05:30:58Z</dcterms:modified>
  <cp:revision>12</cp:revision>
  <dc:subject>Lecture Overheads - Ch 20</dc:subject>
  <dc:title>William Stallings, Cryptography and Network Security 3/e</dc:title>
</cp:coreProperties>
</file>