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B01F-F45A-4E23-B25A-9C3457E20189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9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n be divided into two categories: those that need a host program, and those that are independent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n also differentiate between those software threats that do not replicate and those that do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9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2CC3-2443-4709-A1FD-E4B2B3405DBF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F37A-D518-4885-ACB5-03EC5CD6E533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6BA2-A174-4427-9611-95E54C28F8F0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96C-BEC3-4273-A347-C71B0C7D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0F9-C345-463A-881A-31CCA43D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33A-1778-4828-92E6-05DEA7CE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ED5-497C-4AE3-BDB0-56BBDAFA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D283-7CC5-45ED-9AA1-56EFA861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B8C3-2726-4EF1-B920-6A3AEF8C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1EA5-BB6F-4610-943A-49B73C11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60CB-B3E9-4EE7-9A53-C2CF11AA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CECA-BA64-43F1-B76B-4143A50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2EA9-74A9-4B1E-964B-19B48A7D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6506-D623-456B-BCD5-6A5438E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A98-386B-4EC9-A6BA-63405BFF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CA12-636C-4D93-88B9-5B510412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6DC8-3A5E-4602-9591-B7A4CA5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7FDE-ECE0-468A-A978-758FEBAF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ACCB-DAA3-4249-B0DB-50699570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752A-9B6D-42BC-9D56-44E21AED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0E2-AE3A-4ED9-8DF4-3642027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6F3-D3E6-4AA1-9A9F-D40331AC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ACC-85FA-44AB-916C-0FC75F54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43E-7909-4DEE-8C86-86067AAE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45E-FC4E-4106-B931-FD054975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B78-E7D4-4293-9C70-95A0D033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86A-FC41-4802-8ACA-BC4C28D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6DBE-7CC5-44B9-99D2-76307B09AC4E}" type="slidenum">
              <a:rPr b="0" lang="ar-BH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FD83-D8D3-48A5-8872-58DF06C3362A}" type="slidenum">
              <a:rPr b="0" lang="ar-BH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CS 412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ryptography and Network Secur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nd Malicious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sham al-Am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lecture slides by Lawrie Brown and David Evans and Mark Ow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0B32-3E89-4BD4-914C-B8AD330E44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 Very Afraid.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really dumb people with no resources write malicious programs, it costs $10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happen if smart people with resources wrote a malicious progra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A90-3CA0-4796-A403-2764CA789E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icious 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29600" cy="432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6DE-1DD1-4EBE-B68E-947223E629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pdoo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ret entry point into a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those who know access bypassing usual security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been commonly used by develo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hreat when left in production programs allowing exploited by atta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hard to block in O/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s good s/w development &amp; up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D8F-D529-4F09-A85A-9173F65E8C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gic Bom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oldest types of malicious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embedded in legitimate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ated when specified conditions m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 presence/absence of some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r date/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r u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riggered typically damag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ify/delete files/di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F94-9F93-4046-91E2-CF8B0BA37B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ojan Hor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ogram with hidden side-effe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ich is usually superficially attra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g game, s/w upgrade et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en run performs some additional tas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attacker to indirectly gain access they do not have di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ften used to propagate a virus/worm or install a backdo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simply to destroy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FB7-8E82-4255-9214-A6927086A9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omb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which secretly takes over another networked compu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uses it to indirectly launch atta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used to launch distributed denial of service (DDoS) atta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its known flaws in network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9DA-3B58-4AFA-895F-CE7ECD8D97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piece of self-replicating code attached to some other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f biological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oth propagates itself &amp; carries a payl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s code to make copies of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ell as code to perform some covert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370-37EB-43E9-8A67-8BFEEFF7BC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 Op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 ph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mant – waiting on trigger event (optio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 – virus copies itself to other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ing – virus is activated by system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cution – function of virus is per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ails usually machine/OS specif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iting features/weak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DD0-6CD5-4DAF-A906-5F64CBE28B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 Stru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rogram V :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goto mai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1234567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ubroutine infect-executable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loop: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file := get-random-executable-fi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f (first-line-of-file = 1234567) then goto loo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lse prepend V to file;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ubroutine do-damage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whatever damage is to be done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ubroutine trigger-pulled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return true if some condition holds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main: main-program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infect-executab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f trigger-pulled then do-damag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oto next;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n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98E-5EFE-4062-96EE-0DAD6E4CA0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Vi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an classify on the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tactics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of how they attack and the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location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they attac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oc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pplication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Library vir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-resident vir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oot sector 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macro 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actic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al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olymorphic 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CA6-A109-4158-8310-2E5F7374EB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ruses and Other Malicious Cont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viruses have got a lot of public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a family of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licious softw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s usually obvio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igured in news reports, fiction, movies (often exaggerated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more attention than deser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a concern thoug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650-FB30-4E31-9D9A-692F7FF3DD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Locations of Viruses (1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t se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d in boot sector 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s bootstrap loader, chains to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mory-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SR -- terminate and stay resident rou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ication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A27-30D1-4F57-B1DA-5296FAE4BB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Locations of Viruses (2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able program inside a docu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tform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ects documents, not executable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propagation via em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61E-067D-4BB0-B891-5290B286C6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Tactics of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orhp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sign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difficulty of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es that help hide the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compress file so the size is the same as uninfected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AB9-C179-4AD8-AD10-D9E1519B7D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cro 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macro code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attached to some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ata file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terpreted by program using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g Word/Excel mac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. using auto command &amp; command mac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de is now platform independ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a major source of new viral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lurs distinction between data and program files making task of detection much har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lassic trade-off: "ease of use" vs "security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07B-16FA-4B18-96DF-B1E88A4742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ail 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ead using email with attachment containing a macro 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f Melis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gered when user opens attac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worse even when mail viewed by using scripting features in mail ag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targeted at Microsoft Outlook mail agent &amp; Word/Excel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9F5-C0CF-4D97-88B7-346D9CF891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 Counter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al attacks exploit lack of integrity control on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fend need to add such contro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ly by one or more of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ven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block virus infection mech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te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of viruses in infected syst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restoring system to clean st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88F-5CEB-4ABD-B826-35FE668416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Prevention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software from trusted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checksums to ensure downloaded software is the correct 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new/suspicious item on isolated mach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bootable di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up copies of system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loy and update virus dete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able macro exec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FF1-E394-4DFF-84B9-A2723943DB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Detection of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’s functionality impa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 size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 at beginning of code -or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mp” instructions to location of 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A22-7822-4549-8E4C-545A3D4A15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Virus Detector Exampl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on Anti-virus (Symante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Scan (McAfee Secur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rust EZ Anti-virus (Computer Associ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or Plus (Proland Softwa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G Anti-virus (free version avail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9D3-95CA-4217-A20F-3281BA6565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Virus Detector Function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-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e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 type of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ove virus (repair/delete infected fi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ore system to original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DAA-C405-49BB-9013-219F811B57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1596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es to other programs by modifying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pies the virus code to other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have to be activated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hment to programs/files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nding (add-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rounding (she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ion (intru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lacement (intru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578-6DDB-484D-8981-7D9018015C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Detecting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u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 for code fragments (ex: encryption loo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ity checking (checksu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 for actions instead of signa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e by memory-resident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ic Decry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virtual ma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n target code on it to see if a 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78B-D4D0-4A38-AAD9-9F6BB5EB6A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Defeating the Virus Detector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ete/corrupt key detector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ad virus before detector exec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66C-DFE6-419D-9004-07CEB26219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-Virus 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first-gen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canner uses virus signature to identify 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change in length of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second-gene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s heuristic rules to spot viral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uses program checksums to spot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third-gene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memory-resident programs identify virus by a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fourth-gene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ckages with a variety of antivirus techni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g scanning &amp; activity traps, access-contr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19A-209B-4E08-8325-BE134671F7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eplicating but not infecting progra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ypically spreads over a networ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f Morris Internet Worm in 198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ed to creation of CER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sing users distributed privileges or by exploiting system vulnerabil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dely used by hackers to create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zombie PC's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, subsequently used for further attacks, esp D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jor issue is lack of security of permanently connected systems, esp PC'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7E2-826D-4D86-9933-079100C7C2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Worms - Featur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run independently (don’t require program execu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agates over network conn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electronic 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remote execution cap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remote login cap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n’t have to alter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arry virus code that d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377-90B0-4F97-B996-29C2CE8E6B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Worm Tactic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e where to spread (examine host tables or similar data of remote system addres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connection and copy itself to other systems (can also determine if target system already inf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 the copy to r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in hidden as best as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755-672E-44A4-865E-EAF042FB69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known classic w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eased by Robert Morris in 19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geted Unix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several propaga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 password cracking of local pw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it bug in finger dae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it debug trapdoor in sendmail dae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ny attack succeeds then replicated 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CBE-1A1F-4264-B110-452E2A4BE7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m Dam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ris W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ed ~6000 computers (10% of Interne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i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ed 1.2 Million machines in a few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ove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10 Billion in da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289-E3A8-4130-B08A-E3AA20C5744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m Incidents 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et Worm (Robert Morris, Jr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icted under ... 198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years suspended sentence (no jail time), $10,000 f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rent occu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ssa (David Smith) (~$80m damag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d guilty, Dec 1999 (second successful prosecution of virus author), link to plea agreement on manif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red by Rutgers as Computer Technician while awaiting sentenc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oveYou ($10B damag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without penalty, no laws in Philipp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7B2-2947-4BEF-9768-EE57E8EB767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ponses to Wor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13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ris W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nect from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organized, ph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onymous message (probably from Robert Morris) explaining how to disable virus was not noticed or distribut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RPA established CE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s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T Advisory, Eradicated quic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CERT had to rebuild Web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ove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countries have since passed laws, Europe treaty announced last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7A9-F655-4945-BAF3-E250EE11084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Characteristics of Good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6000" y="2349000"/>
            <a:ext cx="75708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 to det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 to destroy/deactiv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eads wid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re-inf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 to cre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hine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0CF-41CC-4C25-A988-17C374803E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imes New Roman"/>
              </a:rPr>
              <a:t>Example Viruses and Worm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99640" y="299700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i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5861-783D-493E-A869-26FADD822A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ft Word macro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in Visual Bas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it d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s Microsoft Word 97 and 2000 do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MS Outlook to email itself out to first 50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8E7-EEAA-4596-805F-77607C7486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hines with Microsoft Word 97 or 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mail handling system could experience performance issues or DoS as a result of propagation through email, but only from users with Microsoft Outl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OS not affected, however it can be stored on Ma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CB7-930A-4704-83D6-05DE111D877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es through e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 “Important Message From &lt;name&gt;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 “Here is the document you asked for … don’t show anyone else ;-)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hment named list.doc or actual documents created by the vict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E34-608D-4B9C-A090-7F75C6CFD9A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on Exec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s off macro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s registry key for value of “… by Kwyjibo”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HKEY_Current_User\Software\Microsoft\Office\Melissa?"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key doesn’t exist or have that value, it propagates then changes the registry k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s the virus from repeatedly propagating every time an infected item is ope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29C-0599-424B-8D04-9FF43B9CD16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(co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s Normal.doc templ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(minute of the hour == day of the month)  it inserts "Twenty-two points, plus triple-word-score, plus fifty points for using all my letters. Game's over. I'm outta here." into the current documents (Simpson’s quo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5F2-1588-48CF-81AB-B709E9DE1F4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e DoS on mail serv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rs with macros enabled will effectively infect any new document they cre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ock messages with virus signature at mail transfer ag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ble all macros in Microsoft 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Virus Scanning Ut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924-9CB4-4A0A-8532-131C4DC3978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the earliest documented cases (Nov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98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 Microsystems Sun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 VAX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F3A-1AF4-4247-8C01-FB871EFC2AC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ain par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trap or Vector Program (Initiali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s as a hook.  It is injected first.  Contacts the infected “server” and uploads the main progr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compiles and runs the mai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Program (Doi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ed data on other networked machines to which the current machine could 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used three main attacks to infect other systems with the bootstr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33B-3797-44F1-B06A-B5F6CB6B8D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gerd and g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ran the finger command input buffer – overwrote the st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VAX machines this resulted in a remote shell for the worm via the TCP connection by overwriting part of the st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d a DEBUG option often left usable by admins for testing the mail servi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ed access to mail server and onto the system, then continued with infection of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45C-1D5A-49B6-AB94-4539D86E24A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veLetter.V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rpts l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328-line program caused ~$10B in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stion: How much work and smarts was requir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2E0-60A5-4B21-8CFA-05122FB5204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s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m read through etc/hosts.equiv and /.rhosts to find names on other mach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read /etc/passwd and .forward to account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attempted to crack passwords using several different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5A9-4DA8-41AB-9A7D-0694069AFD2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swords (co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orm first tried simple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unt, User Name, Tnuocca (acct backwards), etc. including lower case vari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it tested the passwords against an internal dictionary of 432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lly, it tested the passwords against an online dictionary using upper and lower case vari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0DE-F4EB-47B6-85D4-B6301C9DDCD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m halted because of informal communication between system admins and research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pted DARPA to create CERT (Computer Emergency Response Tea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211-F9EA-421E-99DA-B73ED3CFCC7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– Log of Ev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l the following events occurred on the evening of Nov. 2, 1988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:00 PM At about this time the Worm is launche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:49 PM The Worm infects a VAX 8600 at the University of Utah (cs.utah.edu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:09 PM The Worm initiates the first of its attacks to infect other computers from the infected VAX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:21 PM The load average on the system reaches 5. (Load average is a measure of how hard the computer system is working. At 9:30 at night, the load average of the VAX was usually 1. Any load average higher than 5 causes delays in data processing.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:41 PM The load average reaches 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01 PM The load average reaches 16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06 PM At this point there are so many worms infecting the system that no new processes can be started. No users can use the system anymor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20 PM The system administrator kills off the worm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41 PM The system is re-infected and the load average reaches 2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49 PM The system administrator shuts down the system. The system is subsequently restarte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1:21 PM Re-infestation causes the load average to reach 37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 short, in under 90 minutes from the time of infection, the Worm had made the infected system unusable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377-1884-45F7-B290-3C0714A7414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nt Worm Attack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spate of attacks from mid-20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de 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loited bug in MS IIS to penetrate &amp; spr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s random IPs for systems running I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d trigger time for denial-of-service att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ave infected 360000 servers in 14 h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de Red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d backdoor installed to allow remote contr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im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multiple infection mechanis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ail, shares, web client, IIS, Code Red 2 backdo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4D5-44EF-4A20-A45D-EAE1E99528E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vanced Anti-Virus Techniq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ic de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CPU simulator to check program signature &amp; behavior before actually running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immune system (IB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rpose emulation &amp; virus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virus entering org is captured, analyzed, detection/shielding created for it, remo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83C-B7C9-46FA-9D7B-E1074F4998C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havior-Blocking 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d with host O/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itors program behavior in real-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 file access, disk format, executable mods, system settings changes, network a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possibly malicious 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detected can block, terminate, or seek 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advantage over sca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malicious code runs before de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0B3-3A26-4C38-902A-684708F52BC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consid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malicious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pdoor, logic bomb, trojan horse, zomb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ermeas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ts of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FD2-2B78-4845-A59F-C603EF326A0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15480"/>
            <a:ext cx="6240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Loo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980640"/>
            <a:ext cx="763596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m  barok -loveletter(vbe) &lt;i hate go to school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m by: spyder  /  ispyder@mail.com  /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GRAMMERSoft Group  / Manila,Philippi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On Error Resume 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wscr.RegWrite "...Scripting Host\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ettings\Timeout",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ub main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et c = fso.GetFile(WScript.ScriptFullNam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.Copy(dirsystem&amp;"\LOVE-LETTER-FOR-YOU.TXT.vbs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preadtoemail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089320" y="1987200"/>
            <a:ext cx="3445200" cy="1420200"/>
            <a:chOff x="5089320" y="1987200"/>
            <a:chExt cx="3445200" cy="1420200"/>
          </a:xfrm>
        </p:grpSpPr>
        <p:sp>
          <p:nvSpPr>
            <p:cNvPr id="105" name=""/>
            <p:cNvSpPr/>
            <p:nvPr/>
          </p:nvSpPr>
          <p:spPr>
            <a:xfrm>
              <a:off x="5394600" y="2216160"/>
              <a:ext cx="3139920" cy="119124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rt virus writers don’t include their contact inform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089320" y="1987200"/>
              <a:ext cx="304920" cy="38124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552720" y="276120"/>
            <a:ext cx="2439000" cy="1618560"/>
            <a:chOff x="6552720" y="276120"/>
            <a:chExt cx="2439000" cy="1618560"/>
          </a:xfrm>
        </p:grpSpPr>
        <p:sp>
          <p:nvSpPr>
            <p:cNvPr id="108" name=""/>
            <p:cNvSpPr/>
            <p:nvPr/>
          </p:nvSpPr>
          <p:spPr>
            <a:xfrm>
              <a:off x="7275600" y="276120"/>
              <a:ext cx="1716120" cy="161856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mart people would convey more interesting messag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2720" y="858960"/>
              <a:ext cx="731880" cy="20772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86200" y="3352680"/>
            <a:ext cx="4892760" cy="2639160"/>
            <a:chOff x="3886200" y="3352680"/>
            <a:chExt cx="4892760" cy="2639160"/>
          </a:xfrm>
        </p:grpSpPr>
        <p:sp>
          <p:nvSpPr>
            <p:cNvPr id="111" name=""/>
            <p:cNvSpPr/>
            <p:nvPr/>
          </p:nvSpPr>
          <p:spPr>
            <a:xfrm>
              <a:off x="4648320" y="4800600"/>
              <a:ext cx="4130640" cy="1191240"/>
            </a:xfrm>
            <a:prstGeom prst="rect">
              <a:avLst/>
            </a:prstGeom>
            <a:noFill/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is was smart – turn of scripting timeout in registry.  (Dumb for Microsoft.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886200" y="3352680"/>
              <a:ext cx="1295280" cy="14479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EED-E3BD-43EC-9F46-88FA0E8C4DF4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412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readtoemail (edited to fi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977760"/>
            <a:ext cx="771048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ub spreadtoemail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or ctrlists=1 to mapi.AddressLists.Cou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 a=mapi.AddressLists(ctrlist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=1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or ctrentries=1 to a.AddressEntries.Cou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ad=a.AddressEntries(x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 male=out.CreateItem(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Recipients.Add(malead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Subject = “ILOVEYOU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Body = “kindly check the attache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LOVELETTER coming from me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Attachments.Add(dirsystem&amp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“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\LOVE-LETTER-FOR-YOU.TXT.vbs”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Se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=x+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33360" y="5232240"/>
            <a:ext cx="3733200" cy="993240"/>
            <a:chOff x="2133360" y="5232240"/>
            <a:chExt cx="3733200" cy="993240"/>
          </a:xfrm>
        </p:grpSpPr>
        <p:sp>
          <p:nvSpPr>
            <p:cNvPr id="116" name=""/>
            <p:cNvSpPr/>
            <p:nvPr/>
          </p:nvSpPr>
          <p:spPr>
            <a:xfrm>
              <a:off x="2463840" y="5400000"/>
              <a:ext cx="3402720" cy="82548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rt virus writers understand for loop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133360" y="5232240"/>
              <a:ext cx="330120" cy="28008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776840" y="2549520"/>
            <a:ext cx="4143240" cy="825480"/>
            <a:chOff x="4776840" y="2549520"/>
            <a:chExt cx="4143240" cy="825480"/>
          </a:xfrm>
        </p:grpSpPr>
        <p:sp>
          <p:nvSpPr>
            <p:cNvPr id="119" name=""/>
            <p:cNvSpPr/>
            <p:nvPr/>
          </p:nvSpPr>
          <p:spPr>
            <a:xfrm>
              <a:off x="5780160" y="2549520"/>
              <a:ext cx="3139920" cy="82548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rt virus writers can spell “mail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776840" y="2866680"/>
              <a:ext cx="1014480" cy="10476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F1B-9CAE-4B79-9616-5504B075B184}" type="slidenum">
              <a:t>7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Question: Should we be afraid of viruses and worm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7D0-F4BF-426F-A7B0-6BD9EDDCFE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867640" cy="38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B96-FFE8-430B-9F98-F64AD97319B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Salooma Lagraa</cp:lastModifiedBy>
  <dcterms:modified xsi:type="dcterms:W3CDTF">2005-05-27T10:32:08Z</dcterms:modified>
  <cp:revision>16</cp:revision>
  <dc:subject>Lecture Overheads - Ch 19</dc:subject>
  <dc:title>William Stallings, Cryptography and Network Security 3/e</dc:title>
</cp:coreProperties>
</file>