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831C-156E-4862-A2A5-632B62104C17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lings Fig 19-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onomy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an be divided into two categories: those that need a host program, and those that are independent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an also differentiate between those software threats that do not replicate and those that do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lings Fig 19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5A99-323B-4EF7-A7E5-264E3020DDBA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B162-AF2A-4A86-8763-506A9494766C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0785-EBC6-4B94-9897-0C7A0E91DEA1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7D0F-D0E4-48A4-99BF-6B1CD555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F2A4-6016-4679-A2F8-ADEB53EB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E8E2-0321-4AE9-8E68-40CF1229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27D2-BFF5-4FD5-9B83-FC8D5989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75D7-94D4-47A8-8386-129B226A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C2E9-76B8-470B-BBB7-BF18125E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27BA-20C8-49F5-A4A8-1ADC6727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8BBC-1EAC-4514-9982-03E764B2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2A4D-A6F4-4FBC-A242-B0092E83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975B-AFFB-4BA4-9B3B-03B5D96E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00A2-A872-46AA-812A-3F03CFE2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45DB-AEDE-4C0D-A932-5F51245B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FF40-B3EE-49BC-BF9F-C1FF958C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0B77-1480-49CF-B5B9-A7D1B1C6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DA3F-05C0-4746-96AB-BD5A2B5D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5E31-3988-47F4-8C43-BF71B151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55B8-868E-46AB-8D31-50FF96F0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B7F8-FE2C-4375-935C-C364E1B7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719-72E6-4E85-AAA7-CEEB293B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CC3C-13B7-48F1-87C9-D754DCFC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E987-C582-498D-ADD2-8EDCC22F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7664-CA4A-4E41-B7CC-D23EE668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1119-680B-4199-92CA-19807C74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004A-642F-4390-A488-F68A9540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F939-77D0-47DC-A1AA-B25444A9B0A1}" type="slidenum">
              <a:rPr b="0" lang="ar-BH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2FFC-2034-44E1-9E6E-DCB2B9DC668E}" type="slidenum">
              <a:rPr b="0" lang="ar-BH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TCS 412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ryptography and Network Securi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03280" y="249228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ruses and Malicious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sham al-Amm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lecture slides by Lawrie Brown and David Evans and Mark Ow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7242-6DCE-4838-8058-7F511C4706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4120" y="28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e Very Afraid..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really dumb people with no resources write malicious programs, it costs $10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ould happen if smart people with resources wrote a malicious progra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05D6-2AB5-4230-A4EE-130D761075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licious Softwa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229600" cy="432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E307-FAE8-4D45-A74F-295ED7F71C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apdoo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ret entry point into a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s those who know access bypassing usual security proced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been commonly used by develop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threat when left in production programs allowing exploited by attack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y hard to block in O/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quires good s/w development &amp; up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F387-6E73-4285-83F8-516529274D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ogic Bomb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of oldest types of malicious softw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de embedded in legitimate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vated when specified conditions m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g presence/absence of some 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icular date/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icular us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triggered typically damage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ify/delete files/dis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FD50-C752-4C8B-871B-820F073657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ojan Hor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ogram with hidden side-effec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ich is usually superficially attrac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g game, s/w upgrade et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en run performs some additional tas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attacker to indirectly gain access they do not have direct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often used to propagate a virus/worm or install a backdo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simply to destroy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F764-6C56-46DE-B9A5-01EEB7AC1E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Zomb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 which secretly takes over another networked compu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 uses it to indirectly launch attac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ten used to launch distributed denial of service (DDoS) attac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oits known flaws in network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5C66-EDE3-47B0-9764-7977D1B23C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ru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 piece of self-replicating code attached to some other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f biological vir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both propagates itself &amp; carries a paylo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ries code to make copies of it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well as code to perform some covert tas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F667-EB08-487C-8D4A-9468B84442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rus Ope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us pha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rmant – waiting on trigger event (option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agation – virus copies itself to other fi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ggering – virus is activated by system ev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ecution – function of virus is perfor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tails usually machine/OS specif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oiting features/weakne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99F9-2BB8-4D9D-9AE6-40BEA66ACA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rus Structu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rogram V :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{goto main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1234567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subroutine infect-executable :=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{loop: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file := get-random-executable-fil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if (first-line-of-file = 1234567) then goto loo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else prepend V to file; 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subroutine do-damage :=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{whatever damage is to be done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subroutine trigger-pulled :=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{return true if some condition holds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main: main-program :=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{infect-executabl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if trigger-pulled then do-damag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goto next;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nex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8311-77DF-4101-96A3-B07DEF3164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ypes of Viru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an classify on the tactics of how they attack and the location they attack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parasitic vir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ory-resident vir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boot sector vir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polymorphic vir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macro vir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3F0D-5188-4DAA-8986-B05A43DAA7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iruses and Other Malicious Cont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1981080"/>
            <a:ext cx="785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uter viruses have got a lot of public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of a family of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licious softwa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fects usually obviou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figured in news reports, fiction, movies (often exaggerated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ting more attention than deser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a concern thoug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3C37-C771-4DF3-9976-D2986973AD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Locations of Viruses (1)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ot sec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ced in boot sector 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ves bootstrap loader, chains to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mory-resi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SR -- terminate and stay resident rout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lication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13BD-7E2E-462A-8C45-BCE7AC2DED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Locations of Viruses (2)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cr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able program inside a docu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tform indepen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ects documents, not executable fi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on propagation via ema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131A-FE9B-45F4-B9C3-1F16C83262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Tactics of Viruse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ymorhp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 sign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 difficulty of det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ributes that help hide the vir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compress file so the size is the same as uninfected 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1DE6-4184-4146-A71D-453531ABC1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cro Vir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macro code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attached to some </a:t>
            </a: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data file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nterpreted by program using 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g Word/Excel mac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p. using auto command &amp; command mac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code is now platform independ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s a major source of new viral inf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blurs distinction between data and program files making task of detection much hard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classic trade-off: "ease of use" vs "security"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69F7-48F3-4D9B-80A0-2E9B0F80B6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mail Vir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read using email with attachment containing a macro vir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f Melis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iggered when user opens attach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worse even when mail viewed by using scripting features in mail ag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targeted at Microsoft Outlook mail agent &amp; Word/Excel docu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997-9BF5-4943-9DB6-A9E422EF08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rus Countermeasu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al attacks exploit lack of integrity control on system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defend need to add such contro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ically by one or more of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even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block virus infection mechan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te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of viruses in infected syste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a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restoring system to clean stat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5D61-F9D9-40AF-AB67-43DCBDC242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Detection of Viruse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’s functionality impa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le size ch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us at beginning of code -or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mp” instructions to location of vir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a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0130-66B6-452C-97AC-576D04A85F8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Prevention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software from trusted 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checksums to ensure downloaded software is the correct ver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t new/suspicious item on isolated mach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bootable dis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kup copies of system fi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loy and update virus detec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able macro exec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2032-F3EC-4751-A4C0-E725FF63AA5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Virus Detector Example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on Anti-virus (Symante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usScan (McAfee Securit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rust EZ Anti-virus (Computer Associat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ctor Plus (Proland Softwa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G Anti-virus (free version availab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934E-2131-4876-858A-3D1A462DC4E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Virus Detector Function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t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-inf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cate vir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 type of vir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ove virus (repair/delete infected fi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tore system to original 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7316-7FCC-4F0F-AB4F-7EE4AE46B13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Viruse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1596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agates to other programs by modifying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pies the virus code to other progr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ruses have to be activated to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achment to programs/files 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ending (add-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rrounding (she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tion (intrusiv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lacement (intrusiv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73A5-9328-42E1-B38A-C059F3BE4A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Detecting Viruse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a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urist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 for code fragments (ex: encryption loop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ity checking (checksu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rus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 for actions instead of signa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e by memory-resident pr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ic Decryp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virtual mach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n target code on it to see if a vir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C130-56EC-4A4D-9C67-84900DE12D6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Defeat the Virus Detector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cry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ete/corrupt key detector fi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ad virus before detector exec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5A8D-AA2E-4FA5-A7A3-18BFF6134C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ti-Virus Softwa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first-gene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canner uses virus signature to identify vir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 change in length of progr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second-gener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uses heuristic rules to spot viral infe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 uses program checksums to spot chan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third-gener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memory-resident programs identify virus by ac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fourth-gener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ackages with a variety of antivirus techniq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g scanning &amp; activity traps, access-contro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7EF5-8C1B-4ADE-BC0B-67CFF4E5756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or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replicating but not infecting progra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ypically spreads over a networ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f Morris Internet Worm in 198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led to creation of CER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sing users distributed privileges or by exploiting system vulnerabilit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widely used by hackers to create </a:t>
            </a: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zombie PC's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, subsequently used for further attacks, esp D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major issue is lack of security of permanently connected systems, esp PC'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AC77-ABAF-4496-B3AB-88B7A10BB4A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Worms - Feature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run independently (don’t require program execu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pagates over network conne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a electronic ma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a remote execution cap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a remote login cap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esn’t have to alter progr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carry virus code that do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E932-E864-4254-91A1-DA24E9EE0D6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Worm Tactic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termine where to spread (examine host tables or similar data of remote system address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ish connection and copy itself to other systems (can also determine if target system already infecte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e the copy to ru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ain hidden as best as poss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C0F9-493E-498A-A0DB-29629D310B8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ris Wor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st known classic w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eased by Robert Morris in 198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rgeted Unix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ing several propagation techn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ple password cracking of local pw 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oit bug in finger dae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oit debug trapdoor in sendmail dae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any attack succeeds then replicated 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9AF2-7E44-413F-9005-241526C3B9E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orm Dam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ris W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cted ~6000 computers (10% of Interne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lis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cted 1.2 Million machines in a few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Love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$10 Billion in dam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97C7-2EFF-40D4-AF70-AE0431B159A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orm Incidents Outc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net Worm (Robert Morris, Jr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victed under ... 198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 years suspended sentence (no jail time), $10,000 fi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rrent occup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issa (David Smith) (~$80m damag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ead guilty, Dec 1999 (second successful prosecution of virus author), link to plea agreement on manif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red by Rutgers as Computer Technician while awaiting sentenc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LoveYou ($10B damag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ease without penalty, no laws in Philipp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A8B6-B611-4D5E-956C-24BDD039628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sponses to Wor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13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ris Wo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onnect from net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organized, ph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onymous message (probably from Robert Morris) explaining how to disable virus was not noticed or distribut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RPA established CER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is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RT Advisory, Eradicated quick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t CERT had to rebuild Web ser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Love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y countries have since passed laws, Europe treaty announced last we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772C-1DD8-49CC-B499-45648B93DBC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Desirable</a:t>
            </a:r>
            <a:br>
              <a:rPr sz="4800"/>
            </a:b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Characteristics of Viruse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6000" y="2349000"/>
            <a:ext cx="75708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rd to det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rd to destroy/deactiv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reads wide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re-inf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y to cre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chine indepen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508A-324B-44B8-9BB2-77C9253CBB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imes New Roman"/>
              </a:rPr>
              <a:t>Example Viruses and Worms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99640" y="299700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lis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r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C98C-2D0B-43F6-A631-C50776A774B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lissa Vir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i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rosoft Word macro vir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ten in Visual Bas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es it d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cts Microsoft Word 97 and 2000 do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s MS Outlook to email itself out to first 50 us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828E-3959-4227-826C-E4E1F13A1A4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lissa Virus (con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s Aff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chines with Microsoft Word 97 or 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mail handling system could experience performance issues or DoS as a result of propagation through email, but only from users with Microsoft Outlo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cOS not affected, however it can be stored on Ma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55BE-A5FF-40BE-994C-5F4C95F9C8E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lissa Virus (con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agates through ema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ject “Important Message From &lt;name&gt;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y “Here is the document you asked for … don’t show anyone else ;-)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achment named list.doc or actual documents created by the vict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155D-4637-44FC-AC53-B025D3AD7D3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lissa Virus (con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pon Exec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rns off macro det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cks registry key for value of “… by Kwyjibo”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"HKEY_Current_User\Software\Microsoft\Office\Melissa?"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the key doesn’t exist or have that value, it propagates then changes the registry k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eps the virus from repeatedly propagating every time an infected item is ope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A308-4D6B-4C6D-AE6D-2E23A5E14F0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lissa Virus (con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on (co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cts Normal.doc templat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(minute of the hour == day of the month)  it inserts "Twenty-two points, plus triple-word-score, plus fifty points for using all my letters. Game's over. I'm outta here." into the current documents (Simpson’s quot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3F6F-6082-43A2-B734-780E29B7017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lissa Virus (con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sible DoS on mail serv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rs with macros enabled will effectively infect any new document they cre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u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ock messages with virus signature at mail transfer ag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able all macros in Microsoft Wo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Virus Scanning Uti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9D8C-E3CC-426D-91DF-F6F7D7B7C8A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ris Worm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of the earliest documented cases (Nov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198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n Microsystems Sun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 VAX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EDCA-C725-4386-A08E-69AF7A55305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ris Wor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main par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otstrap or Vector Program (Initializ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ts as a hook.  It is injected first.  Contacts the infected “server” and uploads the main progra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n compiles and runs the main pr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n Program (Doi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lected data on other networked machines to which the current machine could conn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n used three main attacks to infect other systems with the bootstra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9E79-BCF8-47DA-A01F-49B6928556D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ris Worm (con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gerd and g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ran the finger command input buffer – overwrote the sta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VAX machines this resulted in a remote shell for the worm via the TCP connection by overwriting part of the sta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dma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sued a DEBUG option often left usable by admins for testing the mail service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ined access to mail server and onto the system, then continued with infection of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3916-E352-4DA1-864E-291EA878C0D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oveLetter.VB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rpts on the manif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328-line program caused ~$10B in damage last Sp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w much work and smarts was required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0D62-C1C9-4922-A919-51B98860610F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ris Worm (con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ss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m read through etc/hosts.equiv and /.rhosts to find names on other mach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so read /etc/passwd and .forward to account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 attempted to crack passwords using several different meth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85E-256D-4BED-8BFE-688E1DD40F1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ris Worm (con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sswords (co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orm first tried simple cho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ount, User Name, Tnuocca (acct backwards), etc. including lower case vari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it tested the passwords against an internal dictionary of 432 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ally, it tested the passwords against an online dictionary using upper and lower case vari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3288-6881-4F25-8F19-A538F3EA05F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ris Worm (con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m halted because of informal communication between system admins and research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mpted DARPA to create CERT (Computer Emergency Response Tea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B467-CFA4-4946-ADC8-208413AF7F4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ris Worm – Log of Ev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ll the following events occurred on the evening of Nov. 2, 1988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6:00 PM At about this time the Worm is launched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8:49 PM The Worm infects a VAX 8600 at the University of Utah (cs.utah.edu)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9:09 PM The Worm initiates the first of its attacks to infect other computers from the infected VAX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9:21 PM The load average on the system reaches 5. (Load average is a measure of how hard the computer system is working. At 9:30 at night, the load average of the VAX was usually 1. Any load average higher than 5 causes delays in data processing.)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9:41 PM The load average reaches 7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0:01 PM The load average reaches 16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0:06 PM At this point there are so many worms infecting the system that no new processes can be started. No users can use the system anymore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0:20 PM The system administrator kills off the worm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0:41 PM The system is re-infected and the load average reaches 27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0:49 PM The system administrator shuts down the system. The system is subsequently restarted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1:21 PM Re-infestation causes the load average to reach 37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 short, in under 90 minutes from the time of infection, the Worm had made the infected system unusable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5C01-E28C-4E1E-AF6B-D376B85DA5F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cent Worm Attack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85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spate of attacks from mid-200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de 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loited bug in MS IIS to penetrate &amp; spre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bes random IPs for systems running I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d trigger time for denial-of-service att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wave infected 360000 servers in 14 hou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de Red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d backdoor installed to allow remote contr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im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ed multiple infection mechanis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mail, shares, web client, IIS, Code Red 2 backdo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3960-9D1F-4A94-A97B-FECBFF6D2A0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dvanced Anti-Virus Techniq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ic decry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CPU simulator to check program signature &amp; behavior before actually running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gital immune system (IB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purpose emulation &amp; virus det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virus entering org is captured, analyzed, detection/shielding created for it, remov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47B7-F987-45B2-A841-515EF62E50C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ehavior-Blocking Softwa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grated with host O/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nitors program behavior in real-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g file access, disk format, executable mods, system settings changes, network a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possibly malicious a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detected can block, terminate, or seek 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s advantage over scan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malicious code runs before det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0261-B74B-4BC7-9258-AE3DE64EA80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consid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ous malicious progr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pdoor, logic bomb, trojan horse, zomb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r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termeas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ts of examp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C860-F75E-4110-9FEA-629F52D90C4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60" y="15480"/>
            <a:ext cx="62406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in Loo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560" y="980640"/>
            <a:ext cx="7635960" cy="53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m  barok -loveletter(vbe) &lt;i hate go to school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m by: spyder  /  ispyder@mail.com  /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GRAMMERSoft Group  / Manila,Philippi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On Error Resume N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.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wscr.RegWrite "...Scripting Host\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Settings\Timeout",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sub main(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Set c = fso.GetFile(WScript.ScriptFullNam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.Copy(dirsystem&amp;"\LOVE-LETTER-FOR-YOU.TXT.vbs"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spreadtoemail(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089320" y="1987200"/>
            <a:ext cx="3445200" cy="1420200"/>
            <a:chOff x="5089320" y="1987200"/>
            <a:chExt cx="3445200" cy="1420200"/>
          </a:xfrm>
        </p:grpSpPr>
        <p:sp>
          <p:nvSpPr>
            <p:cNvPr id="105" name=""/>
            <p:cNvSpPr/>
            <p:nvPr/>
          </p:nvSpPr>
          <p:spPr>
            <a:xfrm>
              <a:off x="5394600" y="2216160"/>
              <a:ext cx="3139920" cy="1191240"/>
            </a:xfrm>
            <a:prstGeom prst="rect">
              <a:avLst/>
            </a:prstGeom>
            <a:noFill/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mart virus writers don’t include their contact informatio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5089320" y="1987200"/>
              <a:ext cx="304920" cy="38124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552720" y="276120"/>
            <a:ext cx="2439000" cy="1618560"/>
            <a:chOff x="6552720" y="276120"/>
            <a:chExt cx="2439000" cy="1618560"/>
          </a:xfrm>
        </p:grpSpPr>
        <p:sp>
          <p:nvSpPr>
            <p:cNvPr id="108" name=""/>
            <p:cNvSpPr/>
            <p:nvPr/>
          </p:nvSpPr>
          <p:spPr>
            <a:xfrm>
              <a:off x="7275600" y="276120"/>
              <a:ext cx="1716120" cy="1618560"/>
            </a:xfrm>
            <a:prstGeom prst="rect">
              <a:avLst/>
            </a:prstGeom>
            <a:noFill/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mart people would convey more interesting message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552720" y="858960"/>
              <a:ext cx="731880" cy="20772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886200" y="3352680"/>
            <a:ext cx="4892760" cy="2639160"/>
            <a:chOff x="3886200" y="3352680"/>
            <a:chExt cx="4892760" cy="2639160"/>
          </a:xfrm>
        </p:grpSpPr>
        <p:sp>
          <p:nvSpPr>
            <p:cNvPr id="111" name=""/>
            <p:cNvSpPr/>
            <p:nvPr/>
          </p:nvSpPr>
          <p:spPr>
            <a:xfrm>
              <a:off x="4648320" y="4800600"/>
              <a:ext cx="4130640" cy="1191240"/>
            </a:xfrm>
            <a:prstGeom prst="rect">
              <a:avLst/>
            </a:prstGeom>
            <a:noFill/>
            <a:ln w="255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is was smart – turn of scripting timeout in registry.  (Dumb for Microsoft.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3886200" y="3352680"/>
              <a:ext cx="1295280" cy="144792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81BD-4B8B-4654-94B3-C1560B5408B6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412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readtoemail (edited to fi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640" y="977760"/>
            <a:ext cx="771048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ub spreadtoemail(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for ctrlists=1 to mapi.AddressLists.Coun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 a=mapi.AddressLists(ctrlist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=1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for ctrentries=1 to a.AddressEntries.Coun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malead=a.AddressEntries(x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 male=out.CreateItem(0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male.Recipients.Add(malead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male.Subject = “ILOVEYOU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male.Body = “kindly check the attache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LOVELETTER coming from me.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male.Attachments.Add(dirsystem&amp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“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\LOVE-LETTER-FOR-YOU.TXT.vbs”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male.Sen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=x+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end sub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133360" y="5232240"/>
            <a:ext cx="3733200" cy="993240"/>
            <a:chOff x="2133360" y="5232240"/>
            <a:chExt cx="3733200" cy="993240"/>
          </a:xfrm>
        </p:grpSpPr>
        <p:sp>
          <p:nvSpPr>
            <p:cNvPr id="116" name=""/>
            <p:cNvSpPr/>
            <p:nvPr/>
          </p:nvSpPr>
          <p:spPr>
            <a:xfrm>
              <a:off x="2463840" y="5400000"/>
              <a:ext cx="3402720" cy="825480"/>
            </a:xfrm>
            <a:prstGeom prst="rect">
              <a:avLst/>
            </a:prstGeom>
            <a:noFill/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mart virus writers understand for loop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2133360" y="5232240"/>
              <a:ext cx="330120" cy="28008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776840" y="2549520"/>
            <a:ext cx="4143240" cy="825480"/>
            <a:chOff x="4776840" y="2549520"/>
            <a:chExt cx="4143240" cy="825480"/>
          </a:xfrm>
        </p:grpSpPr>
        <p:sp>
          <p:nvSpPr>
            <p:cNvPr id="119" name=""/>
            <p:cNvSpPr/>
            <p:nvPr/>
          </p:nvSpPr>
          <p:spPr>
            <a:xfrm>
              <a:off x="5780160" y="2549520"/>
              <a:ext cx="3139920" cy="825480"/>
            </a:xfrm>
            <a:prstGeom prst="rect">
              <a:avLst/>
            </a:prstGeom>
            <a:noFill/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mart virus writers can spell “mail”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4776840" y="2866680"/>
              <a:ext cx="1014480" cy="10476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C3D6-1F41-4C1F-8258-15C0128E922C}" type="slidenum">
              <a:t>7</a:t>
            </a:fld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24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Question: Should we be afraid of viruses and worm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88EA-9664-49A9-8226-8F8EDF0010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5867640" cy="384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B9E0-A64D-4663-AF83-4DB9020366F0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2:06:54Z</dcterms:created>
  <dc:creator>Dr Lawrie Brown</dc:creator>
  <dc:description/>
  <dc:language>en-US</dc:language>
  <cp:lastModifiedBy>Creative</cp:lastModifiedBy>
  <dcterms:modified xsi:type="dcterms:W3CDTF">2005-05-23T05:25:24Z</dcterms:modified>
  <cp:revision>14</cp:revision>
  <dc:subject>Lecture Overheads - Ch 19</dc:subject>
  <dc:title>William Stallings, Cryptography and Network Security 3/e</dc:title>
</cp:coreProperties>
</file>