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545D-BACC-425E-BDBC-162D54BEBF16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9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n be divided into two categories: those that need a host program, and those that are independent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n also differentiate between those software threats that do not replicate and those that do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lings Fig 19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3AE9-20C5-41F4-8A32-36D89A00129C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ECA8-24A9-4E76-B395-D3C858802199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C763-BF35-4E42-B013-178F12D8436B}" type="slidenum">
              <a:rPr b="0" lang="ar-BH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12A-F3EF-4333-8826-2E2C5B57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5B7-42F1-4A28-A82D-B8B4A5CF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994-1355-4EDC-9F82-08110F00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6CF-AC77-4604-9C6C-7E5BF284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4C92-59B9-44C9-B962-458D0680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A0D5-1F2C-4C7E-8D50-BBF17FC7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7D32-9478-4D1A-B8C9-B76F3DA9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BCE1-D893-4826-9074-3E878725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83AB-7885-4AA7-9C21-5D7474EF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231D-142D-43A1-8CED-2200DAE3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648B-B453-41E2-B5DD-F681A7A6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496-38C1-4E10-A78B-2230D13C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023B-1181-4E0F-91EC-BD9BD94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D938-0262-4E54-9160-8FCCDD7B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46E8-9075-457D-8C62-B8F15CC8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F9B2-C4B1-4AC6-837A-BE7F820E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AE4E-44EA-44F4-BD90-51774751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2CC-79E0-428B-92E8-6877E184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D31-644A-4132-98CF-86922905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1E8-BDAA-41B6-B715-E52D9CCD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21C-121E-4FEF-A762-5880495A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E91-7C58-4F11-A3EC-27F6195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26B-6C79-43E7-8E9F-AA6C19BC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7D3-A21F-48F1-8770-A75B0BC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A8B2-9456-4791-B8E6-CAD88B1D7D83}" type="slidenum">
              <a:rPr b="0" lang="ar-BH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BH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0100-B0AA-42A6-BBC7-0C95BBE0E295}" type="slidenum">
              <a:rPr b="0" lang="ar-BH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CS 412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ryptography and Network Secur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nd Malicious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sham al-Am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lecture slides by Lawrie Brown and David Evans and Mark Ow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2B99-7B01-4A75-ABE6-A70D49123B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41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 Very Afraid.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really dumb people with no resources write malicious programs, it costs $10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happen if smart people with resources wrote a malicious progra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4B1-3317-4D59-94C5-8E078DD1F0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licious 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29600" cy="432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630-CE04-417B-B908-1CD0407DBA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pdoo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ret entry point into a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those who know access bypassing usual security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been commonly used by develo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hreat when left in production programs allowing exploited by attac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hard to block in O/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s good s/w development &amp; up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E57-C09F-49EA-8193-9E41055EAA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gic Bom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oldest types of malicious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embedded in legitimate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ated when specified conditions m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 presence/absence of some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r date/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r u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riggered typically damag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ify/delete files/di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0C4-AB52-4B32-81E2-929C805E6F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ojan Hor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ogram with hidden side-effe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ich is usually superficially attra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g game, s/w upgrade et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en run performs some additional tas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attacker to indirectly gain access they do not have direc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ften used to propagate a virus/worm or install a backdo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simply to destroy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194-8F94-43D1-9EDA-05A54DCF84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omb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which secretly takes over another networked compu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uses it to indirectly launch atta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used to launch distributed denial of service (DDoS) atta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its known flaws in network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A78-5750-47B8-A351-953E657A32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piece of self-replicating code attached to some other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f biological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oth propagates itself &amp; carries a payl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ies code to make copies of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ell as code to perform some covert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9ED-F6C9-435F-9EBB-5BC96CCAD4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 Op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 ph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mant – waiting on trigger event (option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 – virus copies itself to other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ing – virus is activated by system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cution – function of virus is perfo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ails usually machine/OS specif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iting features/weakn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DBE-B038-486A-B120-39FDF532A4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 Stru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rogram V :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goto mai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1234567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ubroutine infect-executable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loop: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file := get-random-executable-fi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f (first-line-of-file = 1234567) then goto loo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lse prepend V to file;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ubroutine do-damage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whatever damage is to be done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ubroutine trigger-pulled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return true if some condition holds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main: main-program :=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{infect-executab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f trigger-pulled then do-damag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oto next;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nex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335-540D-4720-A2BB-A7729D41FD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Vi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an classify on the 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tactics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of how they attack and the 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location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they attac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Loc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pplication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Library vir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-resident vir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oot sector 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macro 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actic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al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olymorphic 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B03-BA2C-4A1C-9C0D-540EBB7ED0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ruses and Other Malicious Cont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viruses have got a lot of public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a family of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licious softwa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s usually obvio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igured in news reports, fiction, movies (often exaggerated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more attention than deser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a concern thoug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072-0CD6-4854-8E88-5FD7B1527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Locations of Viruses (1)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t se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d in boot sector 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s bootstrap loader, chains to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mory-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SR -- terminate and stay resident rout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ication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A40-1B0E-4494-8CA9-C935B8AE6E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Locations of Viruses (2)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able program inside a docu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tform in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ects documents, not executable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propagation via em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F68-211F-4B62-830F-EC8D3C222C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Tactics of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orhp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sign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difficulty of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ibutes that help hide the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compress file so the size is the same as uninfected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C4B-0C13-4317-AA0A-B4EB30B7D0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cro 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macro code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attached to some 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ata file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terpreted by program using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g Word/Excel mac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. using auto command &amp; command mac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ode is now platform independ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s a major source of new viral 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lurs distinction between data and program files making task of detection much har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lassic trade-off: "ease of use" vs "security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AE8-061F-4D38-B7BF-96F0F95CFD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ail 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read using email with attachment containing a macro 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f Melis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gered when user opens attac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worse even when mail viewed by using scripting features in mail ag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targeted at Microsoft Outlook mail agent &amp; Word/Excel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B15-3D99-4898-8E62-CDE8DAECA2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us Counter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al attacks exploit lack of integrity control on 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fend need to add such contro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ly by one or more of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ven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block virus infection mecha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te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of viruses in infected syst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restoring system to clean sta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275-DA7C-4C50-AB69-4B8ABBB2EF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Prevention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software from trusted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checksums to ensure downloaded software is the correct 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new/suspicious item on isolated mach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bootable di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up copies of system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loy and update virus dete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able macro exec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EBB-4D71-4EDE-8DE5-C39EB90512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Detection of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’s functionality impa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e size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 at beginning of code -or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mp” instructions to location of 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02D-1964-4317-BA0D-E60B573DFF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Virus Detector Exampl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on Anti-virus (Symante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Scan (McAfee Secur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rust EZ Anti-virus (Computer Associ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or Plus (Proland Softwa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G Anti-virus (free version avail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482-1340-4BB9-948E-E38384CF78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Virus Detector Function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-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e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 type of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ove virus (repair/delete infected fi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ore system to original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EF0-1781-45A6-A01D-BC8ECF8C35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1596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es to other programs by modifying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pies the virus code to other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have to be activated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hment to programs/files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ending (add-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rounding (she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ion (intru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lacement (intru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E11-7BA5-48DD-83B1-514978A6CE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Detecting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u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 for code fragments (ex: encryption loo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ity checking (checksu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 for actions instead of signa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e by memory-resident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ic Decry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virtual ma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n target code on it to see if a 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824-B273-45C0-ACED-D029AB5FAE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Defeating the Virus Detector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ete/corrupt key detector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ad virus before detector exec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067-CC95-41C9-B446-C282B85460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-Virus 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first-gen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canner uses virus signature to identify 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change in length of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second-gene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s heuristic rules to spot viral inf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uses program checksums to spot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third-gene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memory-resident programs identify virus by a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fourth-gene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ckages with a variety of antivirus techni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g scanning &amp; activity traps, access-contr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B7D-180E-451A-B259-D88DE5248F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eplicating but not infecting progra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ypically spreads over a networ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f Morris Internet Worm in 198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led to creation of CER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sing users distributed privileges or by exploiting system vulnerabil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dely used by hackers to create 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zombie PC's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, subsequently used for further attacks, esp D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jor issue is lack of security of permanently connected systems, esp PC'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88E-F4D5-4B28-951F-4F1ABADC4E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Worms - Featur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run independently (don’t require program execu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agates over network conn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electronic 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remote execution cap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remote login cap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n’t have to alter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arry virus code that d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80F-AD9A-4F19-9DDA-D74F370FA8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Worm Tactic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e where to spread (examine host tables or similar data of remote system addres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connection and copy itself to other systems (can also determine if target system already inf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 the copy to r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in hidden as best as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058-24A5-4A8D-BC5A-7829E0F30D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known classic w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eased by Robert Morris in 19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geted Unix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several propagation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 password cracking of local pw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it bug in finger dae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oit debug trapdoor in sendmail dae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ny attack succeeds then replicated 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DB9-7A65-4BD3-91B2-CC715074F7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m Dam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ris W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ed ~6000 computers (10% of Interne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i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ed 1.2 Million machines in a few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ove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10 Billion in da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4A4-08DC-44FB-8F8A-A0B6E8A2F27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m Incidents 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et Worm (Robert Morris, Jr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icted under ... 198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years suspended sentence (no jail time), $10,000 f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rent occu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ssa (David Smith) (~$80m damag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d guilty, Dec 1999 (second successful prosecution of virus author), link to plea agreement on manif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red by Rutgers as Computer Technician while awaiting sentenc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oveYou ($10B damag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ase without penalty, no laws in Philipp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A3F-3D9C-4468-8799-41DD9C710FE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ponses to Wor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13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ris W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nnect from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organized, ph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onymous message (probably from Robert Morris) explaining how to disable virus was not noticed or distribut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RPA established CE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s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T Advisory, Eradicated quic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CERT had to rebuild Web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ove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countries have since passed laws, Europe treaty announced last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F1B-CCF9-4BAB-88A6-D0CE387D2B8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imes New Roman"/>
              </a:rPr>
              <a:t>Characteristics of Good Vir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6000" y="2349000"/>
            <a:ext cx="75708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 to det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 to destroy/deactiv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reads wid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re-inf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y to cre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hine in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FD3-E6EA-4049-A85A-6C5E095FFB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imes New Roman"/>
              </a:rPr>
              <a:t>Example Viruses and Worm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99640" y="299700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i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3434-AC88-497A-B306-3EE0D606ABA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ft Word macro vir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in Visual Bas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it d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s Microsoft Word 97 and 2000 do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MS Outlook to email itself out to first 50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D75-4264-421C-9195-66F442548F1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hines with Microsoft Word 97 or 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mail handling system could experience performance issues or DoS as a result of propagation through email, but only from users with Microsoft Outl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OS not affected, however it can be stored on Ma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BE6-FBC5-417B-A05F-31F27895F25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es through e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 “Important Message From &lt;name&gt;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 “Here is the document you asked for … don’t show anyone else ;-)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hment named list.doc or actual documents created by the vict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5DD-739B-419F-A8A6-0EFCE55C375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on Exec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s off macro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s registry key for value of “… by Kwyjibo”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HKEY_Current_User\Software\Microsoft\Office\Melissa?"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key doesn’t exist or have that value, it propagates then changes the registry k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s the virus from repeatedly propagating every time an infected item is ope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A42-A8E0-4CF9-B6E9-2946416F4DD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(co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s Normal.doc templa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(minute of the hour == day of the month)  it inserts "Twenty-two points, plus triple-word-score, plus fifty points for using all my letters. Game's over. I'm outta here." into the current documents (Simpson’s quo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8BD-4A34-4B25-8582-3633B830B0B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lissa Virus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ible DoS on mail serv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rs with macros enabled will effectively infect any new document they cre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ock messages with virus signature at mail transfer ag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ble all macros in Microsoft 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Virus Scanning Ut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DB5-EF8B-4E3A-BB53-458F393EEF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the earliest documented cases (Nov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98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 Microsystems Sun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 VAX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D83-4659-4E1F-9D2A-6208D69A7A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main par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tstrap or Vector Program (Initializ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s as a hook.  It is injected first.  Contacts the infected “server” and uploads the main progr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compiles and runs the main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 Program (Doi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ed data on other networked machines to which the current machine could 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used three main attacks to infect other systems with the bootstr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BA4-B5AD-431A-8FBF-B43433A9864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gerd and g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ran the finger command input buffer – overwrote the st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VAX machines this resulted in a remote shell for the worm via the TCP connection by overwriting part of the st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d a DEBUG option often left usable by admins for testing the mail servi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ined access to mail server and onto the system, then continued with infection of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8A6-E72E-4DA3-9583-F39B2449CF3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veLetter.V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rpts l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328-line program caused ~$10B in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estion: How much work and smarts was requir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35B-739E-4D6D-9265-5952C11349C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s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m read through etc/hosts.equiv and /.rhosts to find names on other mach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read /etc/passwd and .forward to account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attempted to crack passwords using several different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363-9CF6-42A4-AAD1-D2E8B19474A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swords (co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orm first tried simple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unt, User Name, Tnuocca (acct backwards), etc. including lower case vari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it tested the passwords against an internal dictionary of 432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lly, it tested the passwords against an online dictionary using upper and lower case vari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CCE-AB84-4255-B323-F33AE4BCD14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m halted because of informal communication between system admins and research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pted DARPA to create CERT (Computer Emergency Response Tea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5CD-1997-45A9-82A0-A9120EB87EC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ris Worm – Log of Ev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l the following events occurred on the evening of Nov. 2, 1988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:00 PM At about this time the Worm is launche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:49 PM The Worm infects a VAX 8600 at the University of Utah (cs.utah.edu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:09 PM The Worm initiates the first of its attacks to infect other computers from the infected VAX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:21 PM The load average on the system reaches 5. (Load average is a measure of how hard the computer system is working. At 9:30 at night, the load average of the VAX was usually 1. Any load average higher than 5 causes delays in data processing.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:41 PM The load average reaches 7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01 PM The load average reaches 16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06 PM At this point there are so many worms infecting the system that no new processes can be started. No users can use the system anymor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20 PM The system administrator kills off the worm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41 PM The system is re-infected and the load average reaches 27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:49 PM The system administrator shuts down the system. The system is subsequently restarte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1:21 PM Re-infestation causes the load average to reach 37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 short, in under 90 minutes from the time of infection, the Worm had made the infected system unusable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FA9-6EBA-4E36-A6B4-AD68FFCD929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ent Worm Attack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spate of attacks from mid-20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de 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loited bug in MS IIS to penetrate &amp; spr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s random IPs for systems running I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d trigger time for denial-of-service att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ave infected 360000 servers in 14 h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de Red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d backdoor installed to allow remote contr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im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multiple infection mechanis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ail, shares, web client, IIS, Code Red 2 backdo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A59-9622-4730-9FBA-5FD09F476BC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vanced Anti-Virus Techniq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ic de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CPU simulator to check program signature &amp; behavior before actually running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immune system (IB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rpose emulation &amp; virus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virus entering org is captured, analyzed, detection/shielding created for it, remo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F12-585F-4E5C-A093-86844A2CC2F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havior-Blocking 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d with host O/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itors program behavior in real-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 file access, disk format, executable mods, system settings changes, network a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possibly malicious 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detected can block, terminate, or seek 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advantage over scan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malicious code runs before de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A28-53BE-4985-B1D1-6140603D002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consid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malicious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pdoor, logic bomb, trojan horse, zomb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ermeas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ts of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AE5-9FDD-4788-B325-61DC78A48D0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15480"/>
            <a:ext cx="62406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Loo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980640"/>
            <a:ext cx="763596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m  barok -loveletter(vbe) &lt;i hate go to school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m by: spyder  /  ispyder@mail.com  /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GRAMMERSoft Group  / Manila,Philippi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On Error Resume 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wscr.RegWrite "...Scripting Host\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ettings\Timeout",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ub main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et c = fso.GetFile(WScript.ScriptFullNam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.Copy(dirsystem&amp;"\LOVE-LETTER-FOR-YOU.TXT.vbs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spreadtoemail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089320" y="1987200"/>
            <a:ext cx="3445200" cy="1420200"/>
            <a:chOff x="5089320" y="1987200"/>
            <a:chExt cx="3445200" cy="1420200"/>
          </a:xfrm>
        </p:grpSpPr>
        <p:sp>
          <p:nvSpPr>
            <p:cNvPr id="105" name=""/>
            <p:cNvSpPr/>
            <p:nvPr/>
          </p:nvSpPr>
          <p:spPr>
            <a:xfrm>
              <a:off x="5394600" y="2216160"/>
              <a:ext cx="3139920" cy="119124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mart virus writers don’t include their contact inform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089320" y="1987200"/>
              <a:ext cx="304920" cy="38124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552720" y="276120"/>
            <a:ext cx="2439000" cy="1618560"/>
            <a:chOff x="6552720" y="276120"/>
            <a:chExt cx="2439000" cy="1618560"/>
          </a:xfrm>
        </p:grpSpPr>
        <p:sp>
          <p:nvSpPr>
            <p:cNvPr id="108" name=""/>
            <p:cNvSpPr/>
            <p:nvPr/>
          </p:nvSpPr>
          <p:spPr>
            <a:xfrm>
              <a:off x="7275600" y="276120"/>
              <a:ext cx="1716120" cy="161856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mart people would convey more interesting messag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52720" y="858960"/>
              <a:ext cx="731880" cy="20772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86200" y="3352680"/>
            <a:ext cx="4892760" cy="2639160"/>
            <a:chOff x="3886200" y="3352680"/>
            <a:chExt cx="4892760" cy="2639160"/>
          </a:xfrm>
        </p:grpSpPr>
        <p:sp>
          <p:nvSpPr>
            <p:cNvPr id="111" name=""/>
            <p:cNvSpPr/>
            <p:nvPr/>
          </p:nvSpPr>
          <p:spPr>
            <a:xfrm>
              <a:off x="4648320" y="4800600"/>
              <a:ext cx="4130640" cy="1191240"/>
            </a:xfrm>
            <a:prstGeom prst="rect">
              <a:avLst/>
            </a:prstGeom>
            <a:noFill/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is was smart – turn of scripting timeout in registry.  (Dumb for Microsoft.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886200" y="3352680"/>
              <a:ext cx="1295280" cy="14479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8BE-F5CE-40C3-A89A-EBD88BE300BB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412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readtoemail (edited to fi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977760"/>
            <a:ext cx="771048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ub spreadtoemail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or ctrlists=1 to mapi.AddressLists.Cou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 a=mapi.AddressLists(ctrlist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=1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or ctrentries=1 to a.AddressEntries.Cou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ad=a.AddressEntries(x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 male=out.CreateItem(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Recipients.Add(malead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Subject = “ILOVEYOU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Body = “kindly check the attache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LOVELETTER coming from me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Attachments.Add(dirsystem&amp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“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\LOVE-LETTER-FOR-YOU.TXT.vbs”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male.Se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=x+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133360" y="5232240"/>
            <a:ext cx="3733200" cy="993240"/>
            <a:chOff x="2133360" y="5232240"/>
            <a:chExt cx="3733200" cy="993240"/>
          </a:xfrm>
        </p:grpSpPr>
        <p:sp>
          <p:nvSpPr>
            <p:cNvPr id="116" name=""/>
            <p:cNvSpPr/>
            <p:nvPr/>
          </p:nvSpPr>
          <p:spPr>
            <a:xfrm>
              <a:off x="2463840" y="5400000"/>
              <a:ext cx="3402720" cy="82548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mart virus writers understand for loop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133360" y="5232240"/>
              <a:ext cx="330120" cy="28008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776840" y="2549520"/>
            <a:ext cx="4143240" cy="825480"/>
            <a:chOff x="4776840" y="2549520"/>
            <a:chExt cx="4143240" cy="825480"/>
          </a:xfrm>
        </p:grpSpPr>
        <p:sp>
          <p:nvSpPr>
            <p:cNvPr id="119" name=""/>
            <p:cNvSpPr/>
            <p:nvPr/>
          </p:nvSpPr>
          <p:spPr>
            <a:xfrm>
              <a:off x="5780160" y="2549520"/>
              <a:ext cx="3139920" cy="825480"/>
            </a:xfrm>
            <a:prstGeom prst="rect">
              <a:avLst/>
            </a:prstGeom>
            <a:noFill/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mart virus writers can spell “mail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776840" y="2866680"/>
              <a:ext cx="1014480" cy="10476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FF7-FC82-46B6-9F50-603E5A8CA7F9}" type="slidenum">
              <a:t>7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Question: Should we be afraid of viruses and worm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346-B940-412A-B336-F219C59BB8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867640" cy="38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CS 412 - Chapter 19 - Mal-Co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631-EDC1-46E5-B4C8-7AA408D8C5B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Salooma Lagraa</cp:lastModifiedBy>
  <dcterms:modified xsi:type="dcterms:W3CDTF">2005-05-27T10:32:08Z</dcterms:modified>
  <cp:revision>16</cp:revision>
  <dc:subject>Lecture Overheads - Ch 19</dc:subject>
  <dc:title>William Stallings, Cryptography and Network Security 3/e</dc:title>
</cp:coreProperties>
</file>