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CE96-77FC-4F8E-A9E4-7ED5F3386F42}"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Stallings Table 18.1 for examples of various metrics and mod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2.</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ange of possibilities for helping users generate "good" passwords, but need their cooper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requirements are too onerous, then they will be subverted (eg monthly change of password often means users add number/name to end of password; or write it down on sticky label on terminal) and actually weaken rather than strengthen security. Also need to be aware of social engineering attacks (eg. ring up admin, say lost password &amp; have it reset to value you're tol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ssword guessing is a common attack. If an attacker has obtained a poorly protected password file, then can mount attack off-line, so target is unaware of its progress. Some O/S take less care than others with their password files. If have to actually attempt to login to check guesses, then system should detect an abnormal number of failed logins, and hence trigger appropriate countermeasures by admins/security. Likelihood of success depends very much on how well the passwords are chosen. Unfortunately, users often don’t choose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range of ways of "capturing" a login/password pair, from the low-tech looking over the shoulder, to sophisticated network monitoring tools, or extracting recorded info after a successful login - say from web history or cache, or last number dialed memory on phones etc. Need to educate users to be aware of whose around, to check they really are interacting with the computer system (trusted path), to use secure network connections (HTTPS, SSH, SSL), to flush browser/phone histories after use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74C95-368E-4777-969A-34BCBA223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DFE9-B1AF-416F-9ECA-74769267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FCFB8-16D7-41EA-B953-4B8D04596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48A3B-8055-49F5-BADF-9DF9B9FF3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4FF5D-A138-427A-8FBF-5F1A3E848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FBD5F-7EDF-4574-B460-63D8C4E48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334CB-1F83-4C20-89C2-5BDB3566F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A5F16-F1A2-4AF8-B286-A366F4FF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AFEC2-27FD-4F93-A215-C679238B0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A7297-E7B8-4C42-83EF-CA9036D1E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D5688-C7B9-4BFD-9139-E06DFBA12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EA14-77D6-44B1-8167-466BA1C3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7C87E-4DDF-44CC-BC34-AE4A7209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6D88-FBD2-4B13-BABC-839F689E4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306AE-1E35-448B-B70F-3AF6E6B80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25D9E-3909-4EEA-BF57-ACCF40D4A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703F0-303F-465C-94F4-2A62D3783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32D5-5394-41A5-A3D9-E257CD06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7358-471C-4C41-AA9E-250A52359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2052-E5A1-4D91-86E1-E300281AE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4CF5-C0E7-414A-B0D2-F6E0BE7D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FC9F-7AFE-47FC-8B6C-EE237D3F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8BC7-41E5-449A-96CC-B952E9807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0E1D-9665-4F9E-B77D-CFD74D16B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5CD4-2A5F-4A04-B50E-A01D2463630C}"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71F1-DD15-4670-BB4E-06339AF56831}"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yptography and Network Security</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CS 412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apter 18 - Intruders</a:t>
            </a:r>
            <a:endParaRPr b="0" lang="en-US" sz="32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cture slides by Lawrie Brown, </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dified by Hesham al-Ammal</a:t>
            </a:r>
            <a:endParaRPr b="0" lang="en-US" sz="2000" spc="-1" strike="noStrike">
              <a:solidFill>
                <a:srgbClr val="292929"/>
              </a:solidFill>
              <a:latin typeface="Arial"/>
            </a:endParaRPr>
          </a:p>
        </p:txBody>
      </p:sp>
      <p:sp>
        <p:nvSpPr>
          <p:cNvPr id="4" name="PlaceHolder 3"/>
          <p:cNvSpPr>
            <a:spLocks noGrp="1"/>
          </p:cNvSpPr>
          <p:nvPr>
            <p:ph type="sldNum" idx="6"/>
          </p:nvPr>
        </p:nvSpPr>
        <p:spPr/>
        <p:txBody>
          <a:bodyPr/>
          <a:p>
            <a:fld id="{659AE4D4-D4FD-45CD-8577-55AE3EC49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pproaches to Intruder Detection</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tistical anomaly detection</a:t>
            </a:r>
            <a:br>
              <a:rPr sz="2800"/>
            </a:br>
            <a:r>
              <a:rPr b="0" lang="en-US" sz="2800" spc="-1" strike="noStrike">
                <a:solidFill>
                  <a:srgbClr val="292929"/>
                </a:solidFill>
                <a:latin typeface="Arial"/>
              </a:rPr>
              <a:t>a. Threshold detection: a threshold independent of the user for the frequency of events.</a:t>
            </a:r>
            <a:br>
              <a:rPr sz="2800"/>
            </a:br>
            <a:r>
              <a:rPr b="0" lang="en-US" sz="2800" spc="-1" strike="noStrike">
                <a:solidFill>
                  <a:srgbClr val="292929"/>
                </a:solidFill>
                <a:latin typeface="Arial"/>
              </a:rPr>
              <a:t>b. Profile based: profile for every user.</a:t>
            </a:r>
            <a:endParaRPr b="0" lang="en-US" sz="2800" spc="-1" strike="noStrike">
              <a:solidFill>
                <a:srgbClr val="292929"/>
              </a:solidFill>
              <a:latin typeface="Arial"/>
            </a:endParaRPr>
          </a:p>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ule-based detection:</a:t>
            </a:r>
            <a:br>
              <a:rPr sz="2800"/>
            </a:br>
            <a:r>
              <a:rPr b="0" lang="en-US" sz="2800" spc="-1" strike="noStrike">
                <a:solidFill>
                  <a:srgbClr val="292929"/>
                </a:solidFill>
                <a:latin typeface="Arial"/>
              </a:rPr>
              <a:t>a. Anomaly detection: detect deviations from previous patterns.</a:t>
            </a:r>
            <a:br>
              <a:rPr sz="2800"/>
            </a:br>
            <a:r>
              <a:rPr b="0" lang="en-US" sz="2800" spc="-1" strike="noStrike">
                <a:solidFill>
                  <a:srgbClr val="292929"/>
                </a:solidFill>
                <a:latin typeface="Arial"/>
              </a:rPr>
              <a:t>b. Penetration identification: using an expert system approach.</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3150D882-BAA5-45A6-89DD-BB8F2788CB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s</a:t>
            </a:r>
            <a:endParaRPr b="0" lang="en-US" sz="4000" spc="-1" strike="noStrike">
              <a:solidFill>
                <a:srgbClr val="000000"/>
              </a:solidFill>
              <a:latin typeface="Arial"/>
            </a:endParaRPr>
          </a:p>
        </p:txBody>
      </p:sp>
      <p:sp>
        <p:nvSpPr>
          <p:cNvPr id="11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ndamental tool for intrusion detec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ative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rt of all common multi-user O/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ready present for us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not have info wanted in desired for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ction-specific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reated specifically to collect wanted info</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cost of additional overhead on system</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44672CD1-701F-4F6D-B05A-456F107581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stical Anomaly Detection</a:t>
            </a:r>
            <a:endParaRPr b="0" lang="en-US" sz="4000" spc="-1" strike="noStrike">
              <a:solidFill>
                <a:srgbClr val="000000"/>
              </a:solidFill>
              <a:latin typeface="Arial"/>
            </a:endParaRPr>
          </a:p>
        </p:txBody>
      </p:sp>
      <p:sp>
        <p:nvSpPr>
          <p:cNvPr id="12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reshold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occurrences of specific event over tim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exceed reasonable value assume intrus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one is a crude &amp; ineffective detector</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file based</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aracterize past behavior of user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tect significant deviations from thi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file usually multi-parameter</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8B24EDE8-1D81-4C26-A968-7182C6AD8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 Analysis</a:t>
            </a:r>
            <a:endParaRPr b="0" lang="en-US" sz="4000" spc="-1" strike="noStrike">
              <a:solidFill>
                <a:srgbClr val="000000"/>
              </a:solidFill>
              <a:latin typeface="Arial"/>
            </a:endParaRPr>
          </a:p>
        </p:txBody>
      </p:sp>
      <p:sp>
        <p:nvSpPr>
          <p:cNvPr id="123"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ndation of statistical approach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records to get metrics over tim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er, gauge, interval timer, resource us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various tests on these to determine if current behavior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an &amp; standard deviation, multivariate, markov process, time series, operational</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advantage is no prior knowledge use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386FDE92-E837-4B81-A16D-9B8E05C9B8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11280" y="1052640"/>
            <a:ext cx="8137440" cy="4967280"/>
          </a:xfrm>
          <a:prstGeom prst="rect">
            <a:avLst/>
          </a:prstGeom>
          <a:ln w="0">
            <a:noFill/>
          </a:ln>
        </p:spPr>
      </p:pic>
      <p:sp>
        <p:nvSpPr>
          <p:cNvPr id="2" name="PlaceHolder 1"/>
          <p:cNvSpPr>
            <a:spLocks noGrp="1"/>
          </p:cNvSpPr>
          <p:nvPr>
            <p:ph type="sldNum" idx="3"/>
          </p:nvPr>
        </p:nvSpPr>
        <p:spPr/>
        <p:txBody>
          <a:bodyPr/>
          <a:p>
            <a:fld id="{DD66205D-603E-45ED-A90C-D68916D524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39640" y="765000"/>
            <a:ext cx="7977240" cy="5354640"/>
          </a:xfrm>
          <a:prstGeom prst="rect">
            <a:avLst/>
          </a:prstGeom>
          <a:ln w="0">
            <a:noFill/>
          </a:ln>
        </p:spPr>
      </p:pic>
      <p:sp>
        <p:nvSpPr>
          <p:cNvPr id="2" name="PlaceHolder 1"/>
          <p:cNvSpPr>
            <a:spLocks noGrp="1"/>
          </p:cNvSpPr>
          <p:nvPr>
            <p:ph type="sldNum" idx="3"/>
          </p:nvPr>
        </p:nvSpPr>
        <p:spPr/>
        <p:txBody>
          <a:bodyPr/>
          <a:p>
            <a:fld id="{5BEE590C-5D57-4A3F-81C3-995C0A6CF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serve events on system &amp; apply rules to decide if activity is suspicious or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anomaly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nalyze historical audit records to identify usage patterns &amp; auto-generate rules for the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observe current behavior &amp; match against rules to see if confor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ke </a:t>
            </a:r>
            <a:r>
              <a:rPr b="0" lang="en-AU" sz="2400" spc="-1" strike="noStrike">
                <a:solidFill>
                  <a:srgbClr val="292929"/>
                </a:solidFill>
                <a:latin typeface="Arial"/>
              </a:rPr>
              <a:t>statistical anomaly detection does not require </a:t>
            </a:r>
            <a:r>
              <a:rPr b="0" lang="en-US" sz="2400" spc="-1" strike="noStrike">
                <a:solidFill>
                  <a:srgbClr val="292929"/>
                </a:solidFill>
                <a:latin typeface="Arial"/>
              </a:rPr>
              <a:t>prior knowledge of security flaw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9044E076-0CEF-4459-8B61-BB83270CA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penetration identifica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s expert systems technolog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th rules identifying known penetration, weakness patterns, or suspicious behavio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usually machine &amp; O/S specific</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are generated by experts who interview &amp; codify knowledge of security admin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ality depends on how well this is don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udit records or states against rule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79371CF6-2520-4F0F-9B89-6AEAA1249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Rate Fallacy</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actically an intrusion detection system needs to detect a substantial percentage of intrusions with few false alarm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few intrusions detected -&gt; false securit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many false alarms -&gt; ignore / waste tim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s is very hard to do</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isting systems seem not to have a good recor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98E52529-AD35-4F12-BDE6-D5708640B4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ed Intrusion Detection</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aditional focus is on single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typically have networked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effective defense has these working together to detect intrusion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su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aling with varying audit record forma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ity &amp; confidentiality of networked data</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entralized or decentralized architecture</a:t>
            </a:r>
            <a:endParaRPr b="0" lang="en-US" sz="2400" spc="-1" strike="noStrike">
              <a:solidFill>
                <a:srgbClr val="292929"/>
              </a:solidFill>
              <a:latin typeface="Arial"/>
            </a:endParaRPr>
          </a:p>
        </p:txBody>
      </p:sp>
      <p:sp>
        <p:nvSpPr>
          <p:cNvPr id="134"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4" name="PlaceHolder 3"/>
          <p:cNvSpPr>
            <a:spLocks noGrp="1"/>
          </p:cNvSpPr>
          <p:nvPr>
            <p:ph type="sldNum" idx="3"/>
          </p:nvPr>
        </p:nvSpPr>
        <p:spPr/>
        <p:txBody>
          <a:bodyPr/>
          <a:p>
            <a:fld id="{3509CD1F-08CD-4B68-AE06-8A123415BD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gnificant issue for networked systems is hostile or unwanted acc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ither via network or loc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identify classes of intruder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squerad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feaso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andestine user</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rying levels of competenc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90C3D2C7-1289-4E42-A999-C688B62924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rchitecture</a:t>
            </a:r>
            <a:endParaRPr b="0" lang="en-US" sz="3600" spc="-1" strike="noStrike">
              <a:solidFill>
                <a:srgbClr val="000000"/>
              </a:solidFill>
              <a:latin typeface="Arial"/>
            </a:endParaRPr>
          </a:p>
        </p:txBody>
      </p:sp>
      <p:pic>
        <p:nvPicPr>
          <p:cNvPr id="136" name="" descr=""/>
          <p:cNvPicPr/>
          <p:nvPr/>
        </p:nvPicPr>
        <p:blipFill>
          <a:blip r:embed="rId1"/>
          <a:stretch/>
        </p:blipFill>
        <p:spPr>
          <a:xfrm>
            <a:off x="949320" y="1981080"/>
            <a:ext cx="7661160" cy="4114800"/>
          </a:xfrm>
          <a:prstGeom prst="rect">
            <a:avLst/>
          </a:prstGeom>
          <a:ln w="0">
            <a:noFill/>
          </a:ln>
        </p:spPr>
      </p:pic>
      <p:sp>
        <p:nvSpPr>
          <p:cNvPr id="137"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F4CE0DC2-1B53-48CA-BE6E-69A965CF20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gent Implementation</a:t>
            </a:r>
            <a:endParaRPr b="0" lang="en-US" sz="3600" spc="-1" strike="noStrike">
              <a:solidFill>
                <a:srgbClr val="000000"/>
              </a:solidFill>
              <a:latin typeface="Arial"/>
            </a:endParaRPr>
          </a:p>
        </p:txBody>
      </p:sp>
      <p:pic>
        <p:nvPicPr>
          <p:cNvPr id="139" name="" descr=""/>
          <p:cNvPicPr/>
          <p:nvPr/>
        </p:nvPicPr>
        <p:blipFill>
          <a:blip r:embed="rId1"/>
          <a:stretch/>
        </p:blipFill>
        <p:spPr>
          <a:xfrm>
            <a:off x="2165400" y="1981080"/>
            <a:ext cx="5094360" cy="4114800"/>
          </a:xfrm>
          <a:prstGeom prst="rect">
            <a:avLst/>
          </a:prstGeom>
          <a:ln w="0">
            <a:noFill/>
          </a:ln>
        </p:spPr>
      </p:pic>
      <p:sp>
        <p:nvSpPr>
          <p:cNvPr id="140"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AC3EDD1D-9117-48DB-AB6F-C8FCA5F679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neypots</a:t>
            </a:r>
            <a:endParaRPr b="0" lang="en-US" sz="4000" spc="-1" strike="noStrike">
              <a:solidFill>
                <a:srgbClr val="000000"/>
              </a:solidFill>
              <a:latin typeface="Arial"/>
            </a:endParaRPr>
          </a:p>
        </p:txBody>
      </p:sp>
      <p:sp>
        <p:nvSpPr>
          <p:cNvPr id="142"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oy systems to lure attackers</a:t>
            </a:r>
            <a:endParaRPr b="0" lang="en-US" sz="28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way from accessing critical system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collect information of their activitie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encourage attacker to stay on system so administrator can respond</a:t>
            </a:r>
            <a:endParaRPr b="0" lang="en-US" sz="24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filled with fabricated information</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strumented to collect detailed information on attackers activities</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be single or multiple networked system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680BBED1-7FD6-4894-832A-CDAC171BD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Management</a:t>
            </a:r>
            <a:endParaRPr b="0" lang="en-US" sz="4000" spc="-1" strike="noStrike">
              <a:solidFill>
                <a:srgbClr val="000000"/>
              </a:solidFill>
              <a:latin typeface="Arial"/>
            </a:endParaRPr>
          </a:p>
        </p:txBody>
      </p:sp>
      <p:sp>
        <p:nvSpPr>
          <p:cNvPr id="144"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ront-line defense against intru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s supply both:</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gin – determines privileges of that us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 to identify the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sswords often stored encrypt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nix uses multiple DES (variant with sal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recent systems use crypto hash function</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C4331977-AE64-4D70-9ADD-C196F4483C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6" name="PlaceHolder 2"/>
          <p:cNvSpPr>
            <a:spLocks noGrp="1"/>
          </p:cNvSpPr>
          <p:nvPr>
            <p:ph/>
          </p:nvPr>
        </p:nvSpPr>
        <p:spPr>
          <a:xfrm>
            <a:off x="684000" y="1483920"/>
            <a:ext cx="7926120" cy="496908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need policies and good user education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a:t>
            </a:r>
            <a:r>
              <a:rPr b="1" lang="en-AU" sz="2800" spc="-1" strike="noStrike">
                <a:solidFill>
                  <a:srgbClr val="292929"/>
                </a:solidFill>
                <a:latin typeface="Arial"/>
              </a:rPr>
              <a:t>every</a:t>
            </a:r>
            <a:r>
              <a:rPr b="0" lang="en-AU" sz="2800" spc="-1" strike="noStrike">
                <a:solidFill>
                  <a:srgbClr val="292929"/>
                </a:solidFill>
                <a:latin typeface="Arial"/>
              </a:rPr>
              <a:t> account has a default passwor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users change the default passwords to something they can rememb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 password file from general acces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set technical policies to enforce good password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inimum length (&gt;6)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equire a mix of upper &amp; lower case letters, numbers, punctuation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block known dictionary word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898A5AFE-C622-4F07-A12F-242B694E6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reactively run password guessing tool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te that good dictionaries exist for almost any language/interest group </a:t>
            </a:r>
            <a:endParaRPr b="0" lang="en-US" sz="24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enforce periodic changing of passwords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ave system monitor failed login attempts, &amp; lockout account if see too many in a short perio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 need to educate users and get support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lance requirements with user acceptanc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 aware of </a:t>
            </a:r>
            <a:r>
              <a:rPr b="1" lang="en-US" sz="2800" spc="-1" strike="noStrike">
                <a:solidFill>
                  <a:srgbClr val="292929"/>
                </a:solidFill>
                <a:latin typeface="Arial"/>
              </a:rPr>
              <a:t>social engineering</a:t>
            </a:r>
            <a:r>
              <a:rPr b="0" lang="en-US" sz="2800" spc="-1" strike="noStrike">
                <a:solidFill>
                  <a:srgbClr val="292929"/>
                </a:solidFill>
                <a:latin typeface="Arial"/>
              </a:rPr>
              <a:t> attack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6F9FE4B7-8A03-40A7-BE96-96F465BF04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Lengths Experiment</a:t>
            </a:r>
            <a:endParaRPr b="0" lang="en-US" sz="4000" spc="-1" strike="noStrike">
              <a:solidFill>
                <a:srgbClr val="000000"/>
              </a:solidFill>
              <a:latin typeface="Arial"/>
            </a:endParaRPr>
          </a:p>
        </p:txBody>
      </p:sp>
      <p:pic>
        <p:nvPicPr>
          <p:cNvPr id="150" name="" descr=""/>
          <p:cNvPicPr/>
          <p:nvPr/>
        </p:nvPicPr>
        <p:blipFill>
          <a:blip r:embed="rId1"/>
          <a:stretch/>
        </p:blipFill>
        <p:spPr>
          <a:xfrm>
            <a:off x="1258920" y="1916280"/>
            <a:ext cx="5635440" cy="3655800"/>
          </a:xfrm>
          <a:prstGeom prst="rect">
            <a:avLst/>
          </a:prstGeom>
          <a:ln w="0">
            <a:noFill/>
          </a:ln>
        </p:spPr>
      </p:pic>
      <p:sp>
        <p:nvSpPr>
          <p:cNvPr id="3" name="PlaceHolder 2"/>
          <p:cNvSpPr>
            <a:spLocks noGrp="1"/>
          </p:cNvSpPr>
          <p:nvPr>
            <p:ph type="sldNum" idx="3"/>
          </p:nvPr>
        </p:nvSpPr>
        <p:spPr/>
        <p:txBody>
          <a:bodyPr/>
          <a:p>
            <a:fld id="{7EC92B36-1321-48FE-8EEF-A48F47BEA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bout Passwords</a:t>
            </a:r>
            <a:endParaRPr b="0" lang="en-US" sz="4000" spc="-1" strike="noStrike">
              <a:solidFill>
                <a:srgbClr val="000000"/>
              </a:solidFill>
              <a:latin typeface="Arial"/>
            </a:endParaRPr>
          </a:p>
        </p:txBody>
      </p:sp>
      <p:sp>
        <p:nvSpPr>
          <p:cNvPr id="15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9000"/>
          </a:bodyPr>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ing the Password File </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ne-way encryption.</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cess control.</a:t>
            </a:r>
            <a:endParaRPr b="0" lang="en-US" sz="24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uessing a password</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fault passwords shipped with system.</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nam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haustive search of short password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hone number, CPR, etc.</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 Trojan hors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p the line to a user’s PC (sniffers etc.).</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3E64378E-323D-4E4D-8E22-8F8D21D5C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840"/>
            <a:ext cx="7157880" cy="101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x Passwords</a:t>
            </a:r>
            <a:endParaRPr b="0" lang="en-US" sz="4000" spc="-1" strike="noStrike">
              <a:solidFill>
                <a:srgbClr val="000000"/>
              </a:solidFill>
              <a:latin typeface="Arial"/>
            </a:endParaRPr>
          </a:p>
        </p:txBody>
      </p:sp>
      <p:sp>
        <p:nvSpPr>
          <p:cNvPr id="154"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icks a password up to 8 cha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this to a 56-bit value (7-bit ASCII) and use it as a key to crypt(3) (crypt is based on DE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 algorithm is modified with a 12-bit salt value (usually taken from the clock).</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 is run for 25 time with a first input of 64 zeros, and by feeding the output from a run to the input of the next run.</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ulting 64-bit characters are translated into 11-characte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iphertext stored with a plaintext copy of salt in the user’s password entry.</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2F9B5289-0C38-400D-991A-AE6AEC8BC8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ading a new password</a:t>
            </a:r>
            <a:endParaRPr b="0" lang="en-US" sz="4000" spc="-1" strike="noStrike">
              <a:solidFill>
                <a:srgbClr val="000000"/>
              </a:solidFill>
              <a:latin typeface="Arial"/>
            </a:endParaRPr>
          </a:p>
        </p:txBody>
      </p:sp>
      <p:pic>
        <p:nvPicPr>
          <p:cNvPr id="156" name="" descr=""/>
          <p:cNvPicPr/>
          <p:nvPr/>
        </p:nvPicPr>
        <p:blipFill>
          <a:blip r:embed="rId1"/>
          <a:stretch/>
        </p:blipFill>
        <p:spPr>
          <a:xfrm>
            <a:off x="1258920" y="2133720"/>
            <a:ext cx="6283440" cy="3741480"/>
          </a:xfrm>
          <a:prstGeom prst="rect">
            <a:avLst/>
          </a:prstGeom>
          <a:ln w="0">
            <a:noFill/>
          </a:ln>
        </p:spPr>
      </p:pic>
      <p:sp>
        <p:nvSpPr>
          <p:cNvPr id="3" name="PlaceHolder 2"/>
          <p:cNvSpPr>
            <a:spLocks noGrp="1"/>
          </p:cNvSpPr>
          <p:nvPr>
            <p:ph type="sldNum" idx="3"/>
          </p:nvPr>
        </p:nvSpPr>
        <p:spPr/>
        <p:txBody>
          <a:bodyPr/>
          <a:p>
            <a:fld id="{61AC7DB5-AAB1-4826-992D-059EAB3F2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early a growing publicized problem</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rom “Wily Hacker” in 1986/87</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clearly escalating CERT stat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seem benign, but still cost resourc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se compromised system to launch other attacks</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414D7866-E7FA-4D7E-B234-632E466F05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ifying a new password</a:t>
            </a:r>
            <a:endParaRPr b="0" lang="en-US" sz="4000" spc="-1" strike="noStrike">
              <a:solidFill>
                <a:srgbClr val="000000"/>
              </a:solidFill>
              <a:latin typeface="Arial"/>
            </a:endParaRPr>
          </a:p>
        </p:txBody>
      </p:sp>
      <p:pic>
        <p:nvPicPr>
          <p:cNvPr id="158" name="" descr=""/>
          <p:cNvPicPr/>
          <p:nvPr/>
        </p:nvPicPr>
        <p:blipFill>
          <a:blip r:embed="rId1"/>
          <a:stretch/>
        </p:blipFill>
        <p:spPr>
          <a:xfrm>
            <a:off x="1258920" y="1916280"/>
            <a:ext cx="6192720" cy="4003560"/>
          </a:xfrm>
          <a:prstGeom prst="rect">
            <a:avLst/>
          </a:prstGeom>
          <a:ln w="0">
            <a:noFill/>
          </a:ln>
        </p:spPr>
      </p:pic>
      <p:sp>
        <p:nvSpPr>
          <p:cNvPr id="3" name="PlaceHolder 2"/>
          <p:cNvSpPr>
            <a:spLocks noGrp="1"/>
          </p:cNvSpPr>
          <p:nvPr>
            <p:ph type="sldNum" idx="3"/>
          </p:nvPr>
        </p:nvSpPr>
        <p:spPr/>
        <p:txBody>
          <a:bodyPr/>
          <a:p>
            <a:fld id="{B77B1B79-B541-4701-BCB2-2FFE90E54D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salt?</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vents duplicate passwords from being generate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creases the length of the password with asking the user for more than 8 character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C5245243-966F-42D1-ADC3-223B19A100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login to Unix?</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 enters his user id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looks up the user I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ncryption is done on the salt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compares the result with the entry in the password fil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2C079BB1-F7D5-4780-8D7D-5E54777B24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crypt(3)</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use crypt</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3) is a modified version of D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low compared to other encryption algorith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rounds will take a whil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 brute force is hard.</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anges since 1971?</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ewer faster versions of crypt (Internet Wor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rdware performance also increases exponentially.</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77B9CA1B-4377-4E0D-8C82-D6AA591495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840"/>
            <a:ext cx="715788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Selection Problem</a:t>
            </a:r>
            <a:endParaRPr b="0" lang="en-US" sz="4000" spc="-1" strike="noStrike">
              <a:solidFill>
                <a:srgbClr val="000000"/>
              </a:solidFill>
              <a:latin typeface="Arial"/>
            </a:endParaRPr>
          </a:p>
        </p:txBody>
      </p:sp>
      <p:sp>
        <p:nvSpPr>
          <p:cNvPr id="166"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lu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education (Yeah right!).</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uter-generated password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active password checking.</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active password checking:</a:t>
            </a:r>
            <a:endParaRPr b="0" lang="en-US" sz="24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ule enforcement</a:t>
            </a:r>
            <a:r>
              <a:rPr b="0" lang="en-US" sz="2000" spc="-1" strike="noStrike">
                <a:solidFill>
                  <a:srgbClr val="292929"/>
                </a:solidFill>
                <a:latin typeface="Arial"/>
              </a:rPr>
              <a:t> when entering a password (boring to user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rge dictionary of good passwords</a:t>
            </a:r>
            <a:r>
              <a:rPr b="0" lang="en-US" sz="2000" spc="-1" strike="noStrike">
                <a:solidFill>
                  <a:srgbClr val="292929"/>
                </a:solidFill>
                <a:latin typeface="Arial"/>
              </a:rPr>
              <a:t> (not practical because of time and space consideration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rkov model</a:t>
            </a:r>
            <a:r>
              <a:rPr b="0" lang="en-US" sz="2000" spc="-1" strike="noStrike">
                <a:solidFill>
                  <a:srgbClr val="292929"/>
                </a:solidFill>
                <a:latin typeface="Arial"/>
              </a:rPr>
              <a:t> to check the probability of a guessable password (also can be used to generate easy to remember passwords.)</a:t>
            </a:r>
            <a:endParaRPr b="0" lang="en-US" sz="2000" spc="-1" strike="noStrike">
              <a:solidFill>
                <a:srgbClr val="292929"/>
              </a:solidFill>
              <a:latin typeface="Arial"/>
            </a:endParaRPr>
          </a:p>
          <a:p>
            <a:pPr lvl="2" marL="1293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 name="PlaceHolder 3"/>
          <p:cNvSpPr>
            <a:spLocks noGrp="1"/>
          </p:cNvSpPr>
          <p:nvPr>
            <p:ph type="sldNum" idx="3"/>
          </p:nvPr>
        </p:nvSpPr>
        <p:spPr/>
        <p:txBody>
          <a:bodyPr/>
          <a:p>
            <a:fld id="{F0658A1C-EA7B-4F52-91B4-51302A51E5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active Password Checking</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omising approach to improving password secur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low users to select own passwor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have system verify it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mple rule enforcement (see previous slid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gainst dictionary of bad password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lgorithmic (markov model or bloom filter) to detect poor choices</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74373A53-351F-406D-BABB-C8D9065CDB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rst, second, third order model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sulting model (after training) reflects the structure of the dictionary.</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a chosen password, see if the word has a high probability of being chose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ample: M={3,{a,b,c},T,1}.</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ies have shown that second order model have found virtually all guessable password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AF855159-46B0-4E6F-ABF9-7A7291A0ED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67280" y="260280"/>
            <a:ext cx="4524120" cy="5904000"/>
          </a:xfrm>
          <a:prstGeom prst="rect">
            <a:avLst/>
          </a:prstGeom>
          <a:ln w="0">
            <a:noFill/>
          </a:ln>
        </p:spPr>
      </p:pic>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7187BAE-80E7-4F9C-9A3B-E700302C45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consider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blem of intru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rusion detection (statistical &amp; rule-bas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management</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6A86F3A9-9E71-45F6-A47C-C1600E68BA87}"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Techniqu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im to increase privileges on system</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basic attack methodology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arget acquisition and information gathering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initial access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privilege escalation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overing tracks </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goal often is to acquire password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then exercise access rights of owner</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98A37441-EC34-4DC0-AE58-515CC4AB71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Guessing</a:t>
            </a:r>
            <a:endParaRPr b="0" lang="en-US" sz="4000" spc="-1" strike="noStrike">
              <a:solidFill>
                <a:srgbClr val="000000"/>
              </a:solidFill>
              <a:latin typeface="Arial"/>
            </a:endParaRPr>
          </a:p>
        </p:txBody>
      </p:sp>
      <p:sp>
        <p:nvSpPr>
          <p:cNvPr id="108" name="PlaceHolder 2"/>
          <p:cNvSpPr>
            <a:spLocks noGrp="1"/>
          </p:cNvSpPr>
          <p:nvPr>
            <p:ph/>
          </p:nvPr>
        </p:nvSpPr>
        <p:spPr>
          <a:xfrm>
            <a:off x="948960" y="1484280"/>
            <a:ext cx="7661160" cy="489744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one of the most common attack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ttacker knows a login (from email/web page etc)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hen attempts to guess password for it </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default passwords shipped with system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all short pass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hen try by searching dictionaries of common 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ntelligent searches try passwords associated with the user (variations on names, birthday, phone, common words/interests)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efore exhaustively searching all possible passwords </a:t>
            </a:r>
            <a:endParaRPr b="0" lang="en-US" sz="2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heck by login attempt or against stolen password fil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ccess depends on password chosen by user</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rveys show many users choose poorly </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39AA55F3-9F5E-4406-8611-C2EABE3BDE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Capture</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another attack involves </a:t>
            </a:r>
            <a:r>
              <a:rPr b="1" lang="en-AU" sz="2800" spc="-1" strike="noStrike">
                <a:solidFill>
                  <a:srgbClr val="292929"/>
                </a:solidFill>
                <a:latin typeface="Arial"/>
              </a:rPr>
              <a:t>password capture</a:t>
            </a:r>
            <a:r>
              <a:rPr b="0" lang="en-AU" sz="2800" spc="-1" strike="noStrike">
                <a:solidFill>
                  <a:srgbClr val="292929"/>
                </a:solidFill>
                <a:latin typeface="Arial"/>
              </a:rPr>
              <a:t> </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watching over shoulder as password is entered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using a trojan horse program to collec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nitoring an insecure network login (eg. telnet, FTP, web, email)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extracting recorded info after successful login (web history/cache, last number dialed etc) </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ing valid login/password can impersonate us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ers need to be educated to use suitable precautions/countermeasure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82E51447-DF76-41AF-8BF4-06B11D163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ven the best prevention systems fail.</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catch an intruder?</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sumption: behavior of an intruder is different from original use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ust keep patterns of legitimate user behavio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of overlap of behavior, may have false posi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miting false positives by tightening intruder behavior will lead to false nega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us we must compromise.</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519EF57F-453E-4C7D-84D2-769F6247F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4360" y="404640"/>
            <a:ext cx="7451640" cy="5596200"/>
          </a:xfrm>
          <a:prstGeom prst="rect">
            <a:avLst/>
          </a:prstGeom>
          <a:ln w="0">
            <a:noFill/>
          </a:ln>
        </p:spPr>
      </p:pic>
      <p:sp>
        <p:nvSpPr>
          <p:cNvPr id="2" name="PlaceHolder 1"/>
          <p:cNvSpPr>
            <a:spLocks noGrp="1"/>
          </p:cNvSpPr>
          <p:nvPr>
            <p:ph type="sldNum" idx="3"/>
          </p:nvPr>
        </p:nvSpPr>
        <p:spPr/>
        <p:txBody>
          <a:bodyPr/>
          <a:p>
            <a:fld id="{395B6E20-34AF-4E05-A42A-65DA9A4D51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evitably will have security failur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need also to detect intrusions so ca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lock if detected quickl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t as deterren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llect info to improve security</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sume intruder will behave differently to a legitimate user</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will have imperfect distinction between</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F0C5FB5C-39D3-409C-B903-DC475122D3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abc123</cp:lastModifiedBy>
  <dcterms:modified xsi:type="dcterms:W3CDTF">2005-05-21T06:56:22Z</dcterms:modified>
  <cp:revision>16</cp:revision>
  <dc:subject>Lecture Overheads - Ch 18</dc:subject>
  <dc:title>William Stallings, Cryptography and Network Security 3/e</dc:title>
</cp:coreProperties>
</file>