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AE0A-0190-4002-8E72-064DD6024305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L Record Protocol defines these two services for SSL connec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011-BC6B-4080-8F0C-B5D1A110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79A-751C-48EB-8135-D5A9A9D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04F-2B06-4197-B3AD-A505DAA4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320-C059-4056-9A1B-AC9CF688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F47A-5F33-48CB-95AE-D0FD5A82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594E-B936-420E-A301-235CAD3D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DD40-A089-40C0-ABB0-4D9C5464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AC38-4272-47BD-82F1-949A522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5A9F-66C6-4613-B031-80E3316D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7332-C183-46AC-B716-DBF92527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0849-F89B-4C0C-9EC5-91A5F67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393-8FBB-40C7-858F-A2E11DB6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53DF-FCF3-43C0-8C24-B0F6DEE8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F258-3418-4684-80F4-F8D0386A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2C2A-406B-46DD-B2D4-332AF27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C96-46AE-4AC2-BFF1-3629E5D0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9802-7B38-434F-ABD0-9921CBDB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786-BD2A-4A28-A82A-2F586E79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7F2-0CFA-41D0-ABDE-89BF5BE3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B35-3B1D-4267-961E-F73184F5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766-608F-4049-B3DB-8D5F4E28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4E4-A443-4CAF-A91F-8FDAEF61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1F6-371E-46A5-ACB2-88EBEB8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BFB-FFD7-4208-A69F-0B7D76F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02BB-E8F5-488D-974E-CA8D790E12B4}" type="slidenum">
              <a:rPr b="0" lang="ar-BH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3FE0-9946-4027-848E-77D8D6FDF0F8}" type="slidenum">
              <a:rPr b="0" lang="ar-BH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ryptography and Network Securit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illiam Sta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curity – SSL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slides by Lawrie Brow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y Shmatikov, and Hesham al-Am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BE9C-14AB-462B-8FB3-191180DFBD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SL s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ssociation between client &amp;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d by the Handshak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a set of cryptographic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shared by multiple SSL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SL 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ransient, peer-to-peer, communications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ed with 1 SSL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490-E5C3-4224-965D-589A66B8EC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7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Version client_vers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rando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ssionID session_i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pherSuite cipher_sui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Method compression_metho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 ClientHe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Hello (RF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600200"/>
            <a:ext cx="2768760" cy="533520"/>
          </a:xfrm>
          <a:prstGeom prst="wedgeRectCallout">
            <a:avLst>
              <a:gd name="adj1" fmla="val -50574"/>
              <a:gd name="adj2" fmla="val 86606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Highest version of the protocol supported by th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743200"/>
            <a:ext cx="2768400" cy="533520"/>
          </a:xfrm>
          <a:prstGeom prst="wedgeRectCallout">
            <a:avLst>
              <a:gd name="adj1" fmla="val -61124"/>
              <a:gd name="adj2" fmla="val 58037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ssion id (if the client wants to resume an old s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13480" y="3429000"/>
            <a:ext cx="2768400" cy="762120"/>
          </a:xfrm>
          <a:prstGeom prst="wedgeRectCallout">
            <a:avLst>
              <a:gd name="adj1" fmla="val -70754"/>
              <a:gd name="adj2" fmla="val 18958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t of cryptographic algorithms supported by the client (e.g., RSA or Diffie-Hellm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0AF-414A-447C-8D49-39CAC7C4AB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ssion State Parame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ssion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er certific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pher sp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ter Secret (Session Ke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resum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AF0-2F81-402D-82DC-B1196ADA8E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nection State Parame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and client ran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write M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write M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write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write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ization ve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V for C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FB8-DB63-46FF-99E9-E586EAECF5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Record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symmetric encryption with a shared secret key defined by Handshak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, RC2-40, DES-40, DES, 3DES, Fortezza, RC4-40, RC4-1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sage is compressed before encry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sage integ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 MAC with shared secret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HMAC but with different pa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CC0-B59B-4D20-86DE-C38166DB54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rd Typ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types of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shake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cation of connection clo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cipher sp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BEF-38A6-4B0B-9C5D-9032A59F4A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36160" cy="4525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Record Protocol Op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2EE-8345-40B1-91BB-03F774EE4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ipher Su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public-key, symmetric encryption and certificate verification we n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-key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metric encryption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 digest (hash)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ollection is called a cipher su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L supports many different su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 and server must decide on which one to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lient offers a choice; the server picks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05F-BED8-4DB1-B9B2-F35DEB48E4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SL Change Cipher Spec Protoco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f 3 SSL specific protocols which use the SSL Record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ngle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pending state to become curr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nce updating the cipher suite in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30A-2191-4D4A-9E34-D9C358C600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Record Protocol Paylo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6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9CA-7A9B-4D64-97F8-3E005D386B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b Secur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now widely used by business, government, individ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nternet &amp; Web are vulne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variety of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added security mech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09B-A291-454D-8654-35203C047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Alert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ys SSL-related alerts to peer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 or f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ale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expected message, bad record mac, decompression failure, handshake failure, illegal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ose notify, no certificate, bad certificate, unsupported certificate, certificate revoked, certificate expired, certificat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essed &amp; encrypted like all SSL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FC1-FB6E-4DA1-8F8F-6830667A34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Handshak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allows server &amp; client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uthenticate each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negotiate encryption &amp; MAC algorith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negotiate cryptographic keys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a series of messages in ph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stablish Security Cap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erver Authentication and Key 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lient Authentication and Key 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DE5-2CB6-4122-8B87-73AF9C3CD3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mplified Key Excha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71600" y="1903320"/>
            <a:ext cx="63993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466-26BB-4B13-ACFE-575317F7E2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ing Random Numb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36720" y="1712880"/>
            <a:ext cx="7269120" cy="430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C81-1F30-4AB1-AF1C-0EDEDCA084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scape’s Explanation of Repla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.3 Repl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replay attack is simple. A bad-guy records a communication session between a client and server. Later, it reconnects to the server, and plays back the previously recorded client messages. SSL defeats this attack using a "nonce" (the connection-id) which is "unique" to the connection. In theory the bad-guy cannot predict the nonce in advance as it is based on a set of random events outside the bad-guys control, and therefore the bad-guy cannot respond properly to server request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A25-8A34-44A9-80FE-F3E51CC102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ndshake Protocol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92440" y="38098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4800600"/>
            <a:ext cx="3290760" cy="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8200" y="18018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92280" y="2222640"/>
            <a:ext cx="22442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ServerKeyExchang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Request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1600" y="3809880"/>
            <a:ext cx="2043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KeyExchan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Verif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02160" y="487692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562720"/>
            <a:ext cx="3291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68760" y="6324480"/>
            <a:ext cx="3265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63480" y="59436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21680" y="563868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867280"/>
            <a:ext cx="2982960" cy="609840"/>
          </a:xfrm>
          <a:prstGeom prst="wedgeRectCallout">
            <a:avLst>
              <a:gd name="adj1" fmla="val -1250"/>
              <a:gd name="adj2" fmla="val -10859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ord of all sent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d handshake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E8E-7CD9-41E4-A775-873494E0EB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Handshak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1280" y="914400"/>
            <a:ext cx="7705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6E3-9817-4B7A-B222-83DD35BD2F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LS Handshak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arties: client and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gotiate version of the protocol and the set of cryptographic algorithms to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operability between different implementations of th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henticate client and server (opt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digital certificates to learn each other’s public keys and verify each other’s id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public keys to establish a shared secr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32E-C14F-4955-88FD-1CCA9BA905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ndshake Protocol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92440" y="38098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43280" y="4800600"/>
            <a:ext cx="3290760" cy="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8200" y="18018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92280" y="2222640"/>
            <a:ext cx="22442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ServerKeyExchang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Request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1600" y="3809880"/>
            <a:ext cx="2043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KeyExchan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Verif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02160" y="487692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5562720"/>
            <a:ext cx="3291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68760" y="6324480"/>
            <a:ext cx="3265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63480" y="59436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21680" y="563868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867280"/>
            <a:ext cx="2982960" cy="609840"/>
          </a:xfrm>
          <a:prstGeom prst="wedgeRectCallout">
            <a:avLst>
              <a:gd name="adj1" fmla="val -1250"/>
              <a:gd name="adj2" fmla="val -10859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ord of all sent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d handshake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DFC-6F46-477D-BE50-DA90FE6B2A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Hel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1960" y="18018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44720" y="2666880"/>
            <a:ext cx="4318200" cy="1143000"/>
          </a:xfrm>
          <a:prstGeom prst="wedgeRectCallout">
            <a:avLst>
              <a:gd name="adj1" fmla="val -45000"/>
              <a:gd name="adj2" fmla="val -9375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announce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plaintex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version he is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ptographic algorithms he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8D4-532D-4C91-B7AF-103A12F4AD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urity Services at Different Lay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102880" cy="33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1A0-05B3-4C5C-86E1-64786CD69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7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Version client_vers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rando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ssionID session_i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pherSuite cipher_sui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Method compression_metho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 ClientHe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Hello (RF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1600200"/>
            <a:ext cx="2768760" cy="533520"/>
          </a:xfrm>
          <a:prstGeom prst="wedgeRectCallout">
            <a:avLst>
              <a:gd name="adj1" fmla="val -50574"/>
              <a:gd name="adj2" fmla="val 86606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Highest version of the protocol supported by th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2743200"/>
            <a:ext cx="2768400" cy="533520"/>
          </a:xfrm>
          <a:prstGeom prst="wedgeRectCallout">
            <a:avLst>
              <a:gd name="adj1" fmla="val -61124"/>
              <a:gd name="adj2" fmla="val 58037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ssion id (if the client wants to resume an old s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13480" y="3429000"/>
            <a:ext cx="2768400" cy="762120"/>
          </a:xfrm>
          <a:prstGeom prst="wedgeRectCallout">
            <a:avLst>
              <a:gd name="adj1" fmla="val -70754"/>
              <a:gd name="adj2" fmla="val 18958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t of cryptographic algorithms supported by the client (e.g., RSA or Diffie-Hellm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4D7-1872-473C-8773-8F587C04D1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rverHel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2440" y="297180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56240" y="1801800"/>
            <a:ext cx="21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, 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75400" y="259092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95560" y="3352680"/>
            <a:ext cx="4381560" cy="1828800"/>
          </a:xfrm>
          <a:prstGeom prst="wedgeRectCallout">
            <a:avLst>
              <a:gd name="adj1" fmla="val 40074"/>
              <a:gd name="adj2" fmla="val -7335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respond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plaintex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est protocol version suppor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th client an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est cryptographic suit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those offered by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49C-B0AC-41C2-A32E-CB917114D6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rverKeyExcha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2440" y="327672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73400" y="2590920"/>
            <a:ext cx="20552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Key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3809880"/>
            <a:ext cx="4267080" cy="1524240"/>
          </a:xfrm>
          <a:prstGeom prst="wedgeRectCallout">
            <a:avLst>
              <a:gd name="adj1" fmla="val 27976"/>
              <a:gd name="adj2" fmla="val -8989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ends his public-key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ining either his RSA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s Diffie-Hellman public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epending on chosen crypto 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56240" y="1801800"/>
            <a:ext cx="21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, 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C72-18FE-4DC1-8115-0197E09F79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KeyExcha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92440" y="35812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2590920"/>
            <a:ext cx="195336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ig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a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(S,K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Don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56240" y="1801800"/>
            <a:ext cx="21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, 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905120" y="4522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79920" y="411480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Key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4952880"/>
            <a:ext cx="4495680" cy="1143000"/>
          </a:xfrm>
          <a:prstGeom prst="wedgeRectCallout">
            <a:avLst>
              <a:gd name="adj1" fmla="val -28319"/>
              <a:gd name="adj2" fmla="val -9458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generates some secret ke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sends it to the server encryp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erver’s public key (if using R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40B-7894-4AE6-B166-AF2859896A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55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(KeyExchangeAlgorithm)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rsa: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EncryptedPreMasterSecr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diffie_hellman: ClientDiffieHellmanPublic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exchange_ke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ClientKey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Version client_versio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aque random[46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PreMasterSecr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KeyExchange (RF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5638680"/>
            <a:ext cx="3048120" cy="838440"/>
          </a:xfrm>
          <a:prstGeom prst="wedgeRectCallout">
            <a:avLst>
              <a:gd name="adj1" fmla="val -76564"/>
              <a:gd name="adj2" fmla="val -17990"/>
            </a:avLst>
          </a:prstGeom>
          <a:noFill/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Tahoma"/>
              </a:rPr>
              <a:t>Random bits from wh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Tahoma"/>
              </a:rPr>
              <a:t>symmetric keys will be der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Tahoma"/>
              </a:rPr>
              <a:t>(by hashing them with no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605-A1C7-40B5-8632-E6653407E3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re” SSL 3.0 Handshak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92440" y="35812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08080" y="2567160"/>
            <a:ext cx="26359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s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3.0, sui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HelloD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5600" y="1778040"/>
            <a:ext cx="28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, Vers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3.0, sui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905120" y="4522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78760" y="4091040"/>
            <a:ext cx="1235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19800" y="5518080"/>
            <a:ext cx="244080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 to key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38440" y="4700520"/>
            <a:ext cx="51292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protocol is correct, C and S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secret key material (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at this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7440" y="5518080"/>
            <a:ext cx="244080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 to key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1DA-58FA-42BB-A944-2A6F11A7C2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LS (Transport Layer Securit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standard RFC 2246 similar to SSLv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minor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record format version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HMAC for M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seudo-random function expands secr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additional alert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hanges in supported cip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certificate negot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use of pa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AB1-0989-4AA0-81AA-64914C8F14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SSL / TL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3818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ort Layer Security protocol, version 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facto standard for Internet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mary goal of the TLS protocol is to provide privacy and data integrity between two communicating applicatio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ractice, used to protect information transmitted between browsers and Web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Secure Sockets Layers protocol, ver 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protocol design, different algorith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loyed in nearly every Web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E76-620E-4F6E-8A90-1D1D70EB54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/ TLS in the Real Worl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627200"/>
            <a:ext cx="7416720" cy="4762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781680" y="6095880"/>
            <a:ext cx="457200" cy="45720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265-9A15-4691-B4F0-12D36D57D7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LS is Serves the Application-Lay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549440" y="199692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9440" y="253044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9440" y="3063960"/>
            <a:ext cx="149868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9440" y="359712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9440" y="413064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9440" y="4664160"/>
            <a:ext cx="149868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9440" y="519732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99692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253044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063960"/>
            <a:ext cx="149832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9712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413064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664160"/>
            <a:ext cx="149832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519732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5760" y="205740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7840" y="2579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600" y="31082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9720" y="36417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9080" y="417528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3760" y="470844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data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" y="524196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30184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8257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43556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8360" y="4022640"/>
            <a:ext cx="3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0880" y="34448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61360" y="184464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ail, </a:t>
            </a:r>
            <a:r>
              <a:rPr b="0" lang="en-US" sz="1600" spc="-1" strike="noStrike">
                <a:solidFill>
                  <a:srgbClr val="996600"/>
                </a:solidFill>
                <a:latin typeface="Tahoma"/>
              </a:rPr>
              <a:t>We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N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9256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37280" y="291132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9687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0600" y="45561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02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752480"/>
            <a:ext cx="2057400" cy="68580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575080"/>
            <a:ext cx="3810240" cy="1206360"/>
          </a:xfrm>
          <a:prstGeom prst="wedgeRectCallout">
            <a:avLst>
              <a:gd name="adj1" fmla="val -55416"/>
              <a:gd name="adj2" fmla="val -82106"/>
            </a:avLst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cts against application-level threats (server impersonation, eavesdropping)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gainst TCP/IP threats (spoofing, D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48D-6422-47B3-96FF-597B8C4641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ry of th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L 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Netscape design, early 1994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t in the mists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L 2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ed by Netscape, November 19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weak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L 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ed by Netscape and Paul Kocher, November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LS 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standard based on SSL 3.0, January 199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155-258E-496B-9EFC-EC9A6FD18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est for Comments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protocols are usually disseminated in the form of an RF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LS version 1.0 is described in RFC 22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nded to be a self-contained definition of the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the protocol in sufficient detail for readers who will be implementing it and those who will be doing protocol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xture of informal prose and pseudo-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9D4-6E61-4BC1-A7C8-F1565197B0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BEB-CCDD-449A-AC50-2990F118C9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abc123</cp:lastModifiedBy>
  <dcterms:modified xsi:type="dcterms:W3CDTF">2005-05-14T07:54:58Z</dcterms:modified>
  <cp:revision>25</cp:revision>
  <dc:subject>Lecture Overheads - Ch 17</dc:subject>
  <dc:title>William Stallings, Cryptography and Network Security 3/e</dc:title>
</cp:coreProperties>
</file>