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6E0E-6B01-437F-A873-FA5CED80BCA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L Record Protocol defines these two services for SSL conne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7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F31-E903-4F48-AC64-39058C55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6EC-F103-40FC-951A-C537073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EB5-86C0-4B73-8319-17A01CBF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443-9731-444A-932D-F412B0AD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8E79-66FF-4BE1-8D00-19EEB76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E47C-098D-490F-98A6-C2CA5BA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49E-FDD7-4B3B-B229-9DB6AEE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77E4-D3D9-4A12-804C-8EA4B34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BD7-BB06-4073-BB44-F38BDCD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53B-E59C-4DA8-A23D-AE310D8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0019-FB46-4E6A-9FC6-BE1872C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706-3623-424A-AD1B-AB1618F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C3C7-CCE2-4CED-9DD0-EFADBE4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2BD-F260-4278-9743-CDF5DAA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96D-DB03-4AD9-B865-AD2625AC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8D9A-1EF5-42E3-90D2-38D6FB4A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1351-B31F-412E-989A-B9919655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470-ABAB-40B6-B185-FA8161B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FA5-9506-4723-A3A0-7697107F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9E4-E9AD-447F-82CE-19A3764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E1F-2A5A-44B6-A30E-BB01028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656-695C-4A95-80C7-BF8CBC4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C23-ACA5-4627-8403-32A872C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A51-A478-4808-9DBC-30375AC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1E7C-0F92-4FCA-8213-43EA9EB769B1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003-E69A-4413-A033-711C8F116CB3}" type="slidenum">
              <a:rPr b="0" lang="ar-BH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and Network Securit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illiam Sta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curity – SSL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slides by Lawrie Brow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y Shmatikov, and Hesham al-A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F7A-979B-4FF7-A0E0-A7B2F1AA31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s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ssociation between client &amp;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by the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a set of cryptographi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shared by multiple SSL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SL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ansient, peer-to-peer, communications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1 SSL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3A4-86CE-4DA1-8A12-8133F099A3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39A-4731-421D-A5F4-4196066065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ss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 certific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 Secret (Session K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resum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D5E-8531-436E-8B25-6E8C71B240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nection State Parame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and client ran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M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write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 for C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103-9FB4-4472-A117-F8655CF876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symmetric encryption with a shared secret key defined by Handshak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, RC2-40, DES-40, DES, 3DES, Fortezza, RC4-40, RC4-1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e is compressed before encry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MAC with shared secret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MAC but with different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B28-0256-4B1F-B16A-94FF04D5D0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rd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types of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cation of connection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cipher s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F68-B46A-4535-9553-18182014A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3616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2A3-4DA7-4678-A10D-256B11420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ipher Su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public-key, symmetric encryption and certificate verification we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-key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metric encryption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digest (hash)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ollection is called a cipher su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L supports many different su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 and server must decide on which one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lient offers a choice; the server picks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138-3FD9-467C-A30F-A2076BF30C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SL Change Cipher Spec Protoco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3 SSL specific protocols which use the SSL Record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pending state to become cu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ce updating the cipher suite in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C18-A67F-4F9C-AC86-F6B0CF630A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Record Protocol Paylo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6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F52-7B33-4E09-A210-A00C47A46B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now widely used by business, government,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nternet &amp; Web are vulne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variety of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dded security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A17-7F6E-473D-B9E8-8371359CE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lert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ys SSL-related alerts to peer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or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ale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expected message, bad record mac, decompression failure, handshake failure, illegal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ose notify, no certificate, bad certificate, unsupported certificate, certificate revoked, certificate expired, certificat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ssed &amp; encrypted like all SS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D76-789A-46EE-8340-3092BBD24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llows server &amp; client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uthenticate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encryption &amp; MAC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negotiate cryptographic keys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a series of messages in ph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stablish Security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rver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lient Authentication and Key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1DF-505D-4CBD-AD68-272EEC97E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mplified Key 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71600" y="1903320"/>
            <a:ext cx="63993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21F-9E6F-4E29-A539-DC16239FCF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ing Random Numb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36720" y="1712880"/>
            <a:ext cx="72691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CB1-EF82-4AC3-96D3-A1E514F1CD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scape’s Explanation of Repl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.3 Rep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eplay attack is simple. A bad-guy records a communication session between a client and server. Later, it reconnects to the server, and plays back the previously recorded client messages. SSL defeats this attack using a "nonce" (the connection-id) which is "unique" to the connection. In theory the bad-guy cannot predict the nonce in advance as it is based on a set of random events outside the bad-guys control, and therefore the bad-guy cannot respond properly to server request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4F4-27D1-4B7D-8E87-6CFEEB1028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999-5C5C-4D5A-AB97-98AB1165D7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705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F9B-1872-4E18-A0A9-56578315CB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Handshak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arties: client and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e version of the protocol and the set of cryptographic algorithms to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bility between different implementations of th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enticate client and server (opt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digital certificates to learn each other’s public keys and verify each other’s id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public keys to establish a shared secr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23E-BC2C-4021-B191-AB3B99EDFA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ndshake Protocol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92440" y="38098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43280" y="4800600"/>
            <a:ext cx="3290760" cy="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820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92280" y="2222640"/>
            <a:ext cx="22442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ServerKeyExchang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Request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1600" y="3809880"/>
            <a:ext cx="2043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lientKeyExchan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[CertificateVerif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2160" y="487692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562720"/>
            <a:ext cx="3291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68760" y="6324480"/>
            <a:ext cx="3265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63480" y="59436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21680" y="563868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 to negotiated cip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867280"/>
            <a:ext cx="2982960" cy="609840"/>
          </a:xfrm>
          <a:prstGeom prst="wedgeRectCallout">
            <a:avLst>
              <a:gd name="adj1" fmla="val -1250"/>
              <a:gd name="adj2" fmla="val -108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ord of all sent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handshake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8FC-1CF3-413E-965D-B5EFA3F9AE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1960" y="18018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44720" y="2666880"/>
            <a:ext cx="4318200" cy="1143000"/>
          </a:xfrm>
          <a:prstGeom prst="wedgeRectCallout">
            <a:avLst>
              <a:gd name="adj1" fmla="val -45000"/>
              <a:gd name="adj2" fmla="val -9375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announce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version he i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ptographic algorithms he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AB3-7010-4218-83C2-503D0E8DB9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curity Services at Different Lay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102880" cy="33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84B-C0AF-4FCC-BC9F-7687D8456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97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rando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ssionID session_i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pherSuite cipher_sui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Method compression_metho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ClientH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Hello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1600200"/>
            <a:ext cx="2768760" cy="533520"/>
          </a:xfrm>
          <a:prstGeom prst="wedgeRectCallout">
            <a:avLst>
              <a:gd name="adj1" fmla="val -50574"/>
              <a:gd name="adj2" fmla="val 86606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Highest version of the protocol supported by th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2743200"/>
            <a:ext cx="2768400" cy="533520"/>
          </a:xfrm>
          <a:prstGeom prst="wedgeRectCallout">
            <a:avLst>
              <a:gd name="adj1" fmla="val -61124"/>
              <a:gd name="adj2" fmla="val 58037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ssion id (if the client wants to resume an old s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3480" y="3429000"/>
            <a:ext cx="2768400" cy="762120"/>
          </a:xfrm>
          <a:prstGeom prst="wedgeRectCallout">
            <a:avLst>
              <a:gd name="adj1" fmla="val -70754"/>
              <a:gd name="adj2" fmla="val 18958"/>
            </a:avLst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Set of cryptographic algorithms supported by the client (e.g., RSA or Diffie-Hellm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55B-8E72-439A-8E03-1B991251D7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Hel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2440" y="297180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75400" y="25909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95560" y="3352680"/>
            <a:ext cx="4381560" cy="1828800"/>
          </a:xfrm>
          <a:prstGeom prst="wedgeRectCallout">
            <a:avLst>
              <a:gd name="adj1" fmla="val 40074"/>
              <a:gd name="adj2" fmla="val -7335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respond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plain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st protocol version suppor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h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est cryptographic suit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those offered by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306-72B6-4D19-848E-9250ED164E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er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2440" y="327672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73400" y="2590920"/>
            <a:ext cx="2055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809880"/>
            <a:ext cx="4267080" cy="1524240"/>
          </a:xfrm>
          <a:prstGeom prst="wedgeRectCallout">
            <a:avLst>
              <a:gd name="adj1" fmla="val 27976"/>
              <a:gd name="adj2" fmla="val -8989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ends his public-key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ing either his RSA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 Diffie-Hellman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epending on chosen crypto 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CBB-6EF0-43CB-8C7B-5CC1A4F606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2590920"/>
            <a:ext cx="1953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ig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a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(S,K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rverHelloDon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56240" y="1801800"/>
            <a:ext cx="21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C, Versio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suite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, N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79920" y="41148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Key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4952880"/>
            <a:ext cx="4495680" cy="1143000"/>
          </a:xfrm>
          <a:prstGeom prst="wedgeRectCallout">
            <a:avLst>
              <a:gd name="adj1" fmla="val -28319"/>
              <a:gd name="adj2" fmla="val -9458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generates some secret ke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ends it to the server encryp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erver’s public key (if using R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9B7-DC34-4EDA-822E-8C8FABCEDC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(KeyExchangeAlgorithm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rsa: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EncryptedPreMasterSecr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diffie_hellman: ClientDiffieHellmanPublic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exchange_k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ClientKey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Version client_ver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aque random[4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PreMasterSe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entKeyExchange (RF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5638680"/>
            <a:ext cx="3048120" cy="838440"/>
          </a:xfrm>
          <a:prstGeom prst="wedgeRectCallout">
            <a:avLst>
              <a:gd name="adj1" fmla="val -76564"/>
              <a:gd name="adj2" fmla="val -17990"/>
            </a:avLst>
          </a:prstGeom>
          <a:noFill/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Random bits from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symmetric keys will be der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Tahoma"/>
              </a:rPr>
              <a:t>(by hashing them with no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3F-46F9-4CB7-BBA0-1E285817D6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e” SSL 3.0 Handsh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99692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3280" y="2209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92440" y="3581280"/>
            <a:ext cx="3265560" cy="0"/>
          </a:xfrm>
          <a:prstGeom prst="line">
            <a:avLst/>
          </a:prstGeom>
          <a:ln w="50760">
            <a:solidFill>
              <a:srgbClr val="5f5f5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08080" y="2567160"/>
            <a:ext cx="26359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HelloD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04120" y="1920960"/>
            <a:ext cx="1054080" cy="409896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5600" y="1778040"/>
            <a:ext cx="28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, Vers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3.0, suit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905120" y="4522680"/>
            <a:ext cx="3162240" cy="12960"/>
          </a:xfrm>
          <a:prstGeom prst="line">
            <a:avLst/>
          </a:prstGeom>
          <a:ln w="5076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78760" y="4091040"/>
            <a:ext cx="123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980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38440" y="4700520"/>
            <a:ext cx="51292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protocol is correct, C and S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ecret key material (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7440" y="5518080"/>
            <a:ext cx="244080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to key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secr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1C9-FA7E-47D0-8D42-9552AEBAAC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(Transport Layer Secur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standard RFC 2246 similar to SSLv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mino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record format version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HMAC for M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seudo-random function expands secr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dditional alert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hanges in supported cip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certificate negot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use of pa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0BE-6F33-4717-8078-90D48264BA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SSL / TL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3818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 Security protocol, version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facto standard for Internet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mary goal of the TLS protocol is to provide privacy and data integrity between two communicating applicatio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actice, used to protect information transmitted between browsers and Web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Secure Sockets Layers protocol, ver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protocol design, different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loyed in nearly every Web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9D1-1DAB-47B1-9F37-B129AAF17C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/ TLS in the Real Worl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627200"/>
            <a:ext cx="7416720" cy="476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81680" y="6095880"/>
            <a:ext cx="457200" cy="45720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149-DD36-42E9-96CA-9B85DD4CE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LS is Serves the Application-Lay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549440" y="19969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9440" y="25304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0639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9440" y="35971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9440" y="413064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9440" y="4664160"/>
            <a:ext cx="149868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9440" y="5197320"/>
            <a:ext cx="149868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969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5304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0639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971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13064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64160"/>
            <a:ext cx="1498320" cy="53316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197320"/>
            <a:ext cx="1498320" cy="5335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5760" y="205740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7840" y="2579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600" y="31082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9720" y="36417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080" y="41752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3760" y="470844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" y="52419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aho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30184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825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435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360" y="4022640"/>
            <a:ext cx="3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0880" y="3444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61360" y="184464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, </a:t>
            </a:r>
            <a:r>
              <a:rPr b="0" lang="en-US" sz="1600" spc="-1" strike="noStrike">
                <a:solidFill>
                  <a:srgbClr val="996600"/>
                </a:solidFill>
                <a:latin typeface="Tahoma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9256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37280" y="291132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9687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0600" y="45561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752480"/>
            <a:ext cx="2057400" cy="6858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575080"/>
            <a:ext cx="3810240" cy="1206360"/>
          </a:xfrm>
          <a:prstGeom prst="wedgeRectCallout">
            <a:avLst>
              <a:gd name="adj1" fmla="val -55416"/>
              <a:gd name="adj2" fmla="val -82106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cts against application-level threats (server impersonation, eavesdropping)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gainst TCP/IP threats (spoofing, D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306-53BB-4CDD-A657-CFCDE6BCA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of the Protoc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Netscape design, early 1994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in the mists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ed by Netscape, November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L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ed by Netscape and Paul Kocher, November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1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standard based on SSL 3.0, January 19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014-48E0-4BAE-922E-67717B881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st for Comment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 are usually disseminated in the form of an RF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S version 1.0 is described in RFC 22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nded to be a self-contained definition of the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the protocol in sufficient detail for readers who will be implementing it and those who will be doing protocol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xture of informal prose and pseudo-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3DD-E63D-4A73-87C2-E1CB23FE1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L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8BF-9CBA-4BBE-978F-21308F87E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abc123</cp:lastModifiedBy>
  <dcterms:modified xsi:type="dcterms:W3CDTF">2005-05-14T07:54:58Z</dcterms:modified>
  <cp:revision>25</cp:revision>
  <dc:subject>Lecture Overheads - Ch 17</dc:subject>
  <dc:title>William Stallings, Cryptography and Network Security 3/e</dc:title>
</cp:coreProperties>
</file>