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83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9880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90360" y="734760"/>
            <a:ext cx="490212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9880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ar-BH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0DEA8D3-B390-402A-9495-BD0409D7B344}" type="slidenum">
              <a:rPr b="0" lang="ar-BH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5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mail services are roughly like "postcards". Anyone who wants could pick it up and have a look as its in transit or sitting in the recipients mailbo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EF6-B2FA-4038-A860-D740B22F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875-954D-4980-A451-B9686B2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A13-38B8-461C-9147-FC203496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924-A7BF-4E9C-88B4-4BA1E3D0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411E-13F2-48B4-B2F7-94EFBE20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C9F1-CECA-484D-91E9-CC0FEE8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184-AB21-4157-B58A-AB08A6C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BC21-D4C1-4045-9AFC-0B4B448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30E8-7EDC-40B0-9CCF-0E8E798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E6E3-B4B7-41D6-B5CD-6819F3EA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B9F-5F07-4F5A-A1DA-D71D275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C80-8F6F-44FA-80C6-1FBF9DA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A125-D467-4CFD-ACA4-0ED7D1F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4CF-7FB5-4493-BCAF-1D65101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0860-DBE6-465A-82F0-3A5B3628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F448-1FD4-42DB-8432-60AF689A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2528-CC2D-451A-A722-91BC4670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88E-28AE-48D2-9D17-8B2B6521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8C3-F604-475D-A04F-8AB2332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00A-48F6-4F95-A42F-2FE1B128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AC7-4439-4A27-BE00-3343E269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0A1-5316-4A4E-9FB2-9B782D9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0A9-2CFA-4474-ACB2-7E483B5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EEE-1F7B-45F2-9319-4D310F8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38A-4848-48E5-B3FC-A145C3A88EA8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2AD-C285-44CF-AB60-ECCF781349E9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Ed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William Stall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cture slides by Lawrie Br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ded by Sebastian Lin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ed by Hesham al-Am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GP Operation – Confidentiality &amp; Authentication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both services on sam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signature &amp; prepend to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rypt both message &amp; signature using CAST-128 (IDEA or 3D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ach RSA encrypted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ore convenient to store signature with plaintext message (third party does not need to worry about symmetric key when verifying signatu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&amp;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507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mpre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default PGP ZIP-compresses message after signing but before encryp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ture generated before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store uncompressed message with signature for future verif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ion non-deterministic (applying hash  and signature after compression constrains all PGP implementations to same ver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ncryption applied after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ed message has less redundancy (harder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603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GP Operation – Email Compatibilit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nary data to send (encrypted messag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ever email was designed only for 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nce PGP must encode raw binary data into printable ASCII 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radix-64 algorith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ps 3 bytes to 4 printable ch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appends a CR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n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3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ut compres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50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.e., overall compression: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3 x 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5=0.6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Operation - Seg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-mail facilities restricted to maximum of message leng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many impose maximum length of 50,000 b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automatically subdivides large messages into segments that can be s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gmentation done after all other processing, including con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ssion key and signature component appear at beginning of first segment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strips off all e-mail headers and reassembles entire original block before performing other ste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Summ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Session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time session key for each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8-bit CAST or IDEA, 168-bit Triple-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ted using ANSI X12.17 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wo 64-bit blocks generate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stroke input from user (keys and tim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andom 128-bit number with </a:t>
            </a:r>
            <a:r>
              <a:rPr b="0" lang="en-AU" sz="2800" spc="-1" strike="noStrike">
                <a:solidFill>
                  <a:srgbClr val="ffffff"/>
                </a:solidFill>
                <a:latin typeface="Courier New"/>
              </a:rPr>
              <a:t>CAST-128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iphertext feedback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using 128-bit key from previous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two 64-bit blo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ey Identif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public/private keys in use, identify which is used to encrypt session key in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efficient to send full public-key with every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key identifier based 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ast significant 64-bits of key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mo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urier New"/>
              </a:rPr>
              <a:t>6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use key ID in signat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needs to know which public key decrypts message dig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gital signature component includes 64-bit key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verifies that ID is for public key that it knows for sender before verifying sign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Format of PGP Mess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40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rivate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-key ring contains the public/private key pair(s) for this user, indexed by key ID &amp; encrypted keyed from a hashed passphr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7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apter 15 – </a:t>
            </a:r>
            <a:r>
              <a:rPr b="0" lang="en-AU" sz="4000" spc="-1" strike="noStrike">
                <a:solidFill>
                  <a:srgbClr val="ffff99"/>
                </a:solidFill>
                <a:latin typeface="Arial"/>
              </a:rPr>
              <a:t>Electronic Mail Securit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less the man who made it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d pray that he ain’t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could’ve made a million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f he’d sold it to the feds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ut he was hot for freedom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gave it out for fre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ow every common citizen’s got PG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om the song “P.G.P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y Leslie F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ublic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c-key ring contains all the public-keys of other PGP users known to this user, indexed by key 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835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Message Gener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235160"/>
            <a:ext cx="828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Rece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ublic-Key Manage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: user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uild up public-key ring containing public keys of other users to interoperate with them using PG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’s key ring contains public key attributed to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but key is owned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send messages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forging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’s signa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ny encrypted message from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be read by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GP does not include specification for establishing CAs or tru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onvenient means of using trust, associating trust with public keys and exploiting trus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he Use of Tru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ntry in public-key ring is public-key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key legitimacy field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: indicates extent to which PGP will trust that entry is valid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signature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GP user trusts signer to certify public ke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owner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ublic key is trusted to sign other public-key certific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l three fields contained in trust flag by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Flag Byt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8713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Model Examp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632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Example Descri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not all keys whose owners are trusted need to be signed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two partially trusted signatures sufficient to certify key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H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ey regarded legitimate, but its user may not be trusted to sign other keys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orphan“ keys with two unknown signatures (aquired from key server, 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Revoking Public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ue to compromise or to avoid too long peri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mpromise requires copy of unencrypted private key or inference from private-key ring and passphr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nvention: owner issues key revocation certificate signed by ow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me as normal signature certificate with indicator to revoke usage of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rresponding private key signs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likely that opponent with private key issues revoking certificate him/he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– Chapter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e e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Ident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mail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ma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one of the most widely used network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istributed appl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used across all architectures and vendor platfor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nd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fidential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grows with explosively growing reliance on electronic mail for every conceivable purp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outstanding schem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tty Good Privacy (PG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 Multipurpose Internet Mail Extension (S/MIM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58920" y="5876640"/>
            <a:ext cx="6192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805360"/>
            <a:ext cx="626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tty Good Privacy (PGP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dely used de facto secure email ut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eveloped by Phil Zimmerman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ed best available crypto algorithm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grated them into a single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vailable on Unix, PC, Macintosh and Amiga syste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riginally free, now have commercial versions available also (Viacryp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Summary of Servi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93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Authenti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creates a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A-1 used to generate 160-bit hash code of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ash code is encrypted with RSA using the sender's private key, and result is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sender's public key to decrypt and recover hash c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generates new hash code for message and compares with decrypted hash code, if match, message is accepted as authen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generates message and random 128-bit number to be used as session key for this message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essage is encrypted, using CAST-128 / IDEA/3DES with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encrypted using RSA with recipient's public key,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its private key to decrypt and recover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used to decrypt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Confidentiality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75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reative</cp:lastModifiedBy>
  <dcterms:modified xsi:type="dcterms:W3CDTF">2005-05-02T05:59:07Z</dcterms:modified>
  <cp:revision>19</cp:revision>
  <dc:subject>Lecture Overheads - Ch 15</dc:subject>
  <dc:title>William Stallings, Cryptography and Network Security 3/e</dc:title>
</cp:coreProperties>
</file>