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83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98800" y="-3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90360" y="734760"/>
            <a:ext cx="490212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A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98800" y="9311760"/>
            <a:ext cx="2982960" cy="490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ar-BH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6CD11E6-8FC7-4297-94EA-A82404C9334D}" type="slidenum">
              <a:rPr b="0" lang="ar-BH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5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657320"/>
            <a:ext cx="5505480" cy="4411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mail services are roughly like "postcards". Anyone who wants could pick it up and have a look as its in transit or sitting in the recipients mailbo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F11-619B-41F2-A479-90B9D87F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B4F-FDCC-49BF-96EA-F5EDF4C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57A-7A1B-45FE-BC80-7EE77A78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50D-EE10-465A-9081-7679430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6DC0-7A51-471E-8405-94C45A05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29C6-3DE5-4A62-BADD-FF73580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9E79-F5B6-47EB-8C7C-B6167E3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6859-5071-402A-8F8B-344B49DD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16B-F469-4867-A35B-7C0C356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1FA5-D2B3-4275-A7CC-EA4B075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1C7-F57B-4F00-8304-86E90A21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235-2391-44F6-B3B8-3EEAD65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671-2941-4468-9511-7177EFC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B570-426E-401A-BC57-6D7FC60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3FBD-16C5-4E32-AF22-462122F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7C27-19A3-49C0-A136-216D0951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C8C-FE7F-4CBF-97C1-3FE0944E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A81-D149-4EE1-8532-870453D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048-27C4-475E-8A00-A7872EC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3B0-52B9-46A2-A5D8-713B7E4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965-92DD-45EC-A84F-2629810C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3BF-B553-44AE-B5BE-20E5B4A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8E8-AE08-47E6-B9BB-D154F2E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F5E-87D5-4E73-9C6F-C0301C7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A63-6BF1-4071-BA43-8F6C95FD6207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93D6-88B4-4B49-8671-8FA9E4183AD2}" type="slidenum">
              <a:rPr b="0" lang="ar-BH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Ed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William Stall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cture slides by Lawrie Br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nded by Sebastian Lin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ed by Hesham al-Am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GP Operation – Confidentiality &amp; Authentication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both services on same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signature &amp; prepend to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rypt both message &amp; signature using CAST-128 (IDEA or 3D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ach RSA encrypted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ore convenient to store signature with plaintext message (third party does not need to worry about symmetric key when verifying signatu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&amp;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507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mpre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default PGP ZIP-compresses message after signing but before encryp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ture generated before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store uncompressed message with signature for future verif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ion non-deterministic (applying hash  and signature after compression constrains all PGP implementations to same ver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ncryption applied after compress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pressed message has less redundancy (harder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603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GP Operation – Email Compatibilit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nary data to send (encrypted messag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ever email was designed only for 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nce PGP must encode raw binary data into printable ASCII 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s radix-64 algorith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ps 3 bytes to 4 printable ch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appends a CR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n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3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ut compression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50%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.e., overall compression: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3 x 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5=0.6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Operation - Seg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-mail facilities restricted to maximum of message leng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many impose maximum length of 50,000 b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automatically subdivides large messages into segments that can be s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gmentation done after all other processing, including con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ession key and signature component appear at beginning of first segment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PGP strips off all e-mail headers and reassembles entire original block before performing other ste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Summ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Session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time session key for each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8-bit CAST or IDEA, 168-bit Triple-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ted using ANSI X12.17 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wo 64-bit blocks generate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stroke input from user (keys and tim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andom 128-bit number with </a:t>
            </a:r>
            <a:r>
              <a:rPr b="0" lang="en-AU" sz="2800" spc="-1" strike="noStrike">
                <a:solidFill>
                  <a:srgbClr val="ffffff"/>
                </a:solidFill>
                <a:latin typeface="Courier New"/>
              </a:rPr>
              <a:t>CAST-128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iphertext feedback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using 128-bit key from previous sessi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two 64-bit blo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ey Identifi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public/private keys in use, identify which is used to encrypt session key in 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efficient to send full public-key with every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key identifier based on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ast significant 64-bits of key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K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mo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urier New"/>
              </a:rPr>
              <a:t>6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use key ID in signat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needs to know which public key decrypts message dig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gital signature component includes 64-bit key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ipient verifies that ID is for public key that it knows for sender before verifying sign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Format of PGP Mess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40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rivate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-key ring contains the public/private key pair(s) for this user, indexed by key ID &amp; encrypted keyed from a hashed passphr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74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apter 15 – </a:t>
            </a:r>
            <a:r>
              <a:rPr b="0" lang="en-AU" sz="4000" spc="-1" strike="noStrike">
                <a:solidFill>
                  <a:srgbClr val="ffff99"/>
                </a:solidFill>
                <a:latin typeface="Arial"/>
              </a:rPr>
              <a:t>Electronic Mail Securit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less the man who made it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nd pray that he ain’t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could’ve made a million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f he’d sold it to the feds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But he was hot for freedom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e gave it out for fre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ow every common citizen’s got PG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om the song “P.G.P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y Leslie F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Public-Key 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c-key ring contains all the public-keys of other PGP users known to this user, indexed by key 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835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Message Gener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235160"/>
            <a:ext cx="828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PGP Rece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ublic-Key Manage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: user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uild up public-key ring containing public keys of other users to interoperate with them using PG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’s key ring contains public key attributed to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but key is owned by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send messages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forging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’s signa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ny encrypted message from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can be read by </a:t>
            </a:r>
            <a:r>
              <a:rPr b="0" lang="en-AU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GP does not include specification for establishing CAs or tru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onvenient means of using trust, associating trust with public keys and exploiting trus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he Use of Tru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ntry in public-key ring is public-key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key legitimacy field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: indicates extent to which PGP will trust that entry is valid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signature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GP user trusts signer to certify public ke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 u="sng">
                <a:solidFill>
                  <a:srgbClr val="ffffff"/>
                </a:solidFill>
                <a:uFillTx/>
                <a:latin typeface="Verdana"/>
              </a:rPr>
              <a:t>owner trust field: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ndicates degree to which public key is trusted to sign other public-key certific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l three fields contained in trust flag by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Flag Byt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8713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Trust Model Examp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632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Example Descri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not all keys whose owners are trusted need to be signed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two partially trusted signatures sufficient to certify key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H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ey regarded legitimate, but its user may not be trusted to sign other keys (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orphan“ keys with two unknown signatures (aquired from key server, </a:t>
            </a:r>
            <a:r>
              <a:rPr b="0" lang="de-DE" sz="28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Revoking Public Key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ue to compromise or to avoid too long peri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mpromise requires copy of unencrypted private key or inference from private-key ring and passphr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nvention: owner issues key revocation certificate signed by ow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me as normal signature certificate with indicator to revoke usage of public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rresponding private key signs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likely that opponent with private key issues revoking certificate him/he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– Chapter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e e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Ident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GP Key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mail Secur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mai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one of the most widely used network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istributed appl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used across all architectures and vendor platfor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nd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fidential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grows with explosively growing reliance on electronic mail for every conceivable purp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outstanding schem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tty Good Privacy (PGP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 Multipurpose Internet Mail Extension (S/MIM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58920" y="6308640"/>
            <a:ext cx="619272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6308640"/>
            <a:ext cx="626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tty Good Privacy (PGP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dely used de facto secure email ut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eveloped by Phil Zimmerman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ed best available crypto algorithm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grated them into a single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vailable on Unix, PC, Macintosh and Amiga syste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riginally free, now have commercial versions available also (Viacryp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Summary of Servi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93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Authenti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creates a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A-1 used to generate 160-bit hash code of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ash code is encrypted with RSA using the sender's private key, and result is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sender's public key to decrypt and recover hash c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generates new hash code for message and compares with decrypted hash code, if match, message is accepted as authen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Authentication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GP Operation – Confidenti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nder generates message and random 128-bit number to be used as session key for this message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essage is encrypted, using CAST-128 / IDEA/3DES with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encrypted using RSA with recipient's public key, prepended to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ceiver uses RSA with its private key to decrypt and recover session 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ssion key is used to decrypt mes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99"/>
                </a:solidFill>
                <a:latin typeface="Arial"/>
              </a:rPr>
              <a:t>Confidentiality on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75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 </cp:lastModifiedBy>
  <dcterms:modified xsi:type="dcterms:W3CDTF">2006-12-07T06:51:36Z</dcterms:modified>
  <cp:revision>20</cp:revision>
  <dc:subject>Lecture Overheads - Ch 15</dc:subject>
  <dc:title>William Stallings, Cryptography and Network Security 3/e</dc:title>
</cp:coreProperties>
</file>