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34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832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98800" y="-3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A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90360" y="734760"/>
            <a:ext cx="490212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3117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A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98800" y="93117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ar-BH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B37398F-91D3-4151-9FAD-C48FB1656505}" type="slidenum">
              <a:rPr b="0" lang="ar-BH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072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5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email services are roughly like "postcards". Anyone who wants could pick it up and have a look as its in transit or sitting in the recipients mailbo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DC4-67F5-423E-8868-11FEDBB4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B02-49FC-495D-BE80-18C57D4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D7E-50FE-4C74-AD04-03275210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949-CE92-4AF4-A4B8-CE39672F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BBFC-C74C-4609-8836-8D1E2BAD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9A5-94CC-4AF7-B888-A67DB7A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11F3-5678-4A6D-AF5B-1A544F64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E5D-5AD9-4455-844B-F94E496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7C58-690F-427C-B835-043FB8E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30E-50D3-4A62-A201-49C62DA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9DAA-E097-430D-9ADD-7584FB1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90B-4D51-45E9-8FBB-DABAE50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104F-FADD-4693-ABDA-1B119C7F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8FE-56D7-4D18-9050-15F07B3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BEAA-8375-417D-BF44-37913B8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968-0D4A-4DC4-A63D-B7C21845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CD3-C089-47E8-8A75-7E429B76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795-CBC8-4B02-9A9E-4E22FA72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7EF-40DC-4469-8F5B-B326A75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3AF-BA85-4E58-80DF-828AC2DB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5BD-87E5-41EE-8FD5-767209B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396-415E-44CB-ABB8-4731AFF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BF7-95B6-4E16-ACF1-7DAFD26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10B-6061-48C8-99B0-8C003C4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C45-DD29-4910-B122-8164BC778FDF}" type="slidenum">
              <a:rPr b="0" lang="ar-BH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AC8C-BA0C-4A2F-A4E6-C8B5DE444720}" type="slidenum">
              <a:rPr b="0" lang="ar-BH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Ed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William Stall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pter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cture slides by Lawrie Br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ded by Sebastian Lin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ed by Hesham al-Am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GP Operation – Confidentiality &amp; Authentication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s both services on sam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signature &amp; prepend to 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crypt both message &amp; signature using CAST-128 (IDEA or 3D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ach RSA encrypted sessi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ore convenient to store signature with plaintext message (third party does not need to worry about symmetric key when verifying signatu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uthentication &amp; Confidenti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507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Compre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default PGP ZIP-compresses message after signing but before encryp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ture generated before compress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store uncompressed message with signature for future verif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pression non-deterministic (applying hash  and signature after compression constrains all PGP implementations to same ver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ncryption applied after compress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pressed message has less redundancy (harder analysi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6036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GP Operation – Email Compatibilit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nary data to send (encrypted messag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ever email was designed only for tex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nce PGP must encode raw binary data into printable ASCII charac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s radix-64 algorith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ps 3 bytes to 4 printable ch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appends a CR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nsion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33%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ut compression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50%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.e., overall compression: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3 x 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5=0.6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Operation - Seg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-mail facilities restricted to maximum of message leng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many impose maximum length of 50,000 b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PGP automatically subdivides large messages into segments that can be s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egmentation done after all other processing, including conv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ession key and signature component appear at beginning of first segment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PGP strips off all e-mail headers and reassembles entire original block before performing other ste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Summ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Session Key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-time session key for each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8-bit CAST or IDEA, 168-bit Triple-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ted using ANSI X12.17 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wo 64-bit blocks generated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stroke input from user (keys and tim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andom 128-bit number with </a:t>
            </a:r>
            <a:r>
              <a:rPr b="0" lang="en-AU" sz="2800" spc="-1" strike="noStrike">
                <a:solidFill>
                  <a:srgbClr val="ffffff"/>
                </a:solidFill>
                <a:latin typeface="Courier New"/>
              </a:rPr>
              <a:t>CAST-128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iphertext feedback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using 128-bit key from previous sessi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two 64-bit blo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ey Identif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public/private keys in use, identify which is used to encrypt session key in 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efficient to send full public-key with every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key identifier based 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ast significant 64-bits of key 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mo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urier New"/>
              </a:rPr>
              <a:t>6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use key ID in signat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ipient needs to know which public key decrypts message dig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gital signature component includes 64-bit key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ipient verifies that ID is for public key that it knows for sender before verifying sign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Format of PGP Mess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40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Private-Key 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-key ring contains the public/private key pair(s) for this user, indexed by key ID &amp; encrypted keyed from a hashed passphr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137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apter 15 – </a:t>
            </a:r>
            <a:r>
              <a:rPr b="0" lang="en-AU" sz="4000" spc="-1" strike="noStrike">
                <a:solidFill>
                  <a:srgbClr val="ffff99"/>
                </a:solidFill>
                <a:latin typeface="Arial"/>
              </a:rPr>
              <a:t>Electronic Mail Securit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less the man who made it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nd pray that he ain’t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e could’ve made a million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f he’d sold it to the feds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ut he was hot for freedom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e gave it out for fre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ow every common citizen’s got PG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om the song “P.G.P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y Leslie F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Public-Key 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blic-key ring contains all the public-keys of other PGP users known to this user, indexed by key 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835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Message Gener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235160"/>
            <a:ext cx="828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Rece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ublic-Key Manage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blem: user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uild up public-key ring containing public keys of other users to interoperate with them using PG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’s key ring contains public key attributed to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but key is owned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can send messages to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forging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’s signa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any encrypted message from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can be read by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GP does not include specification for establishing CAs or tru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onvenient means of using trust, associating trust with public keys and exploiting trust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he Use of Tru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ntry in public-key ring is public-key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key legitimacy field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: indicates extent to which PGP will trust that entry is valid public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signature trust field: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ndicates degree to which PGP user trusts signer to certify public ke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owner trust field: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ndicates degree to which public key is trusted to sign other public-key certific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l three fields contained in trust flag by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rust Flag Byt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8713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rust Model Examp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971640"/>
            <a:ext cx="7632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Example Descri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not all keys whose owners are trusted need to be signed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two partially trusted signatures sufficient to certify key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H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ey regarded legitimate, but its user may not be trusted to sign other keys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orphan“ keys with two unknown signatures (aquired from key server, 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Revoking Public Key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ue to compromise or to avoid too long peri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mpromise requires copy of unencrypted private key or inference from private-key ring and passphr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nvention: owner issues key revocation certificate signed by ow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me as normal signature certificate with indicator to revoke usage of public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rresponding private key signs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likely that opponent with private key issues revoking certificate him/he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– Chapter 1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consider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e e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Key Identif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Key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mail Secur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ma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one of the most widely used network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istributed appli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used across all architectures and vendor platfor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nd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fidential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grows with explosively growing reliance on electronic mail for every conceivable purp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outstanding schem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tty Good Privacy (PGP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 Multipurpose Internet Mail Extension (S/MIM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58920" y="6308640"/>
            <a:ext cx="619272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6308640"/>
            <a:ext cx="626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tty Good Privacy (PGP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dely used de facto secure email ut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developed by Phil Zimmerman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ed best available crypto algorithm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grated them into a single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vailable on Unix, PC, Macintosh and Amiga syste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riginally free, now have commercial versions available also (Viacryp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Summary of Servi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93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Authentic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nder creates a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A-1 used to generate 160-bit hash code of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ash code is encrypted with RSA using the sender's private key, and result is prepended to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uses RSA with sender's public key to decrypt and recover hash c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generates new hash code for message and compares with decrypted hash code, if match, message is accepted as authen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uthentication on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Confidenti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nder generates message and random 128-bit number to be used as session key for this message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essage is encrypted, using CAST-128 / IDEA/3DES with session 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ssion key is encrypted using RSA with recipient's public key, prepended to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uses RSA with its private key to decrypt and recover session 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ssion key is used to decrypt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Confidentiality on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75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 </cp:lastModifiedBy>
  <dcterms:modified xsi:type="dcterms:W3CDTF">2006-12-07T06:51:36Z</dcterms:modified>
  <cp:revision>20</cp:revision>
  <dc:subject>Lecture Overheads - Ch 15</dc:subject>
  <dc:title>William Stallings, Cryptography and Network Security 3/e</dc:title>
</cp:coreProperties>
</file>