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8971-AAB1-437B-A1CB-9B6EFE01269F}"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4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5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the specifications for good hash functions. Essentially it must be extremely difficult to find 2 messages with the same hash, and the hash should not be related to the message in any obvious way (ie it should be a complex non-linear function of the message). There are quite a few similarities in the evolution of hash functions &amp; block ciphers, and in the evolution of the design requirements on both</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thday Attack exploits the birthday paradox – the chance that in a group of people two will share the same birthday – only 23 people are needed for a Pr&gt;0.5 of this. Can generalize the problem to one wanting a matching pair from any two sets, and show need 2</a:t>
            </a:r>
            <a:r>
              <a:rPr b="0" lang="en-US" sz="1200" spc="-1" strike="noStrike" baseline="60000">
                <a:solidFill>
                  <a:srgbClr val="000000"/>
                </a:solidFill>
                <a:latin typeface="Arial"/>
              </a:rPr>
              <a:t>m</a:t>
            </a:r>
            <a:r>
              <a:rPr b="0" lang="en-US" sz="1200" spc="-1" strike="noStrike" baseline="40000">
                <a:solidFill>
                  <a:srgbClr val="000000"/>
                </a:solidFill>
                <a:latin typeface="Arial"/>
              </a:rPr>
              <a:t>/</a:t>
            </a:r>
            <a:r>
              <a:rPr b="0" lang="en-US" sz="1200" spc="-1" strike="noStrike" baseline="20000">
                <a:solidFill>
                  <a:srgbClr val="000000"/>
                </a:solidFill>
                <a:latin typeface="Arial"/>
              </a:rPr>
              <a:t>2</a:t>
            </a:r>
            <a:r>
              <a:rPr b="0" lang="en-US" sz="1200" spc="-1" strike="noStrike">
                <a:solidFill>
                  <a:srgbClr val="000000"/>
                </a:solidFill>
                <a:latin typeface="Arial"/>
              </a:rPr>
              <a:t> in each to get a matching m-bit hash</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reating many message variants is relatively easy, either by rewording or just varying the amount of white-space in the messag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Up till now, have been concerned with protecting message content (ie secrecy) by encrypting the message. Will now consider how to protect message integrity (ie protection from modification), as well as confirming the identity of the sender. Generically this is the problem of message authentication, and in eCommerce applications is arguably more important than secrecy</a:t>
            </a:r>
            <a:r>
              <a:rPr b="0" i="1" lang="en-AU" sz="1200" spc="-1" strike="noStrike">
                <a:solidFill>
                  <a:srgbClr val="000000"/>
                </a:solidFill>
                <a:latin typeface="Arial"/>
              </a:rPr>
              <a:t>.</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requirements belong in the realm of message confidentiality, and are handled using the encryption techniques already discussed</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requirements belong in the realm of message authentication. At its core this addresses the issue of ensuring that a message comes from the alleged source and has not been altered. It may also address sequencing and timeliness. The use of a digital signature can also address issues of repudi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3A558-4A7F-4511-9C7D-19880AD4C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AAC0E-923A-4375-A65A-753660CD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F2FFC-40DC-4E30-8F60-317FAC8B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6010-345B-41B2-A5AC-80BD131F5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213F5-87F4-454F-9022-88D5EB529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CDAAB-E45A-4D9A-B01C-6F323B48F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51B1-9778-42C8-B53A-FE1D76E4C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3815A-6329-4F3D-99BA-02FCE0193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F0CB9-4CF9-4AF6-B9E0-DEF52F99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4B8B1-EB6D-43E6-A47E-5B65C4CD9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EA7E5-F950-42B0-BA50-46F37D2CA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AAF64-33FB-4248-AD6B-38983A8CE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C77E5-3052-409B-A51E-C92EA2754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2D02-F07F-4D7F-956A-3E6E45792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F6DAD-94C1-488F-A866-9925E6E14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ACBCD-AA59-401F-948C-56AC83D2D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159A0-FF94-4258-BF88-2F9DFEF2D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4365-8C84-401F-8493-88EDA95B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0A44-1B4C-4BC5-AA1A-8908F8B81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BFEE6-1063-45A1-A918-F4DE9CCC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2F5E-731E-498C-872F-A8ECA215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A569-5AD1-460D-A135-D4B3CB03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9951-D4D7-4675-A9F6-996E2752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F53B-5CE3-410C-901A-51DAFC6A3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E27F-4E08-4C98-94A5-303021A30E04}"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7F12-874E-4877-92F6-E2203A691816}"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ryptography and Network Security</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CS 4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03F0AC98-77FE-4D4F-BAB2-EB7FD57130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Message Authentication Code (MAC)</a:t>
            </a:r>
            <a:endParaRPr b="0" lang="en-US" sz="40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ted by an algorithm that creates a small fixed-sized block</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both message and some ke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encryption though need not be reversible</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nded to message as a </a:t>
            </a:r>
            <a:r>
              <a:rPr b="1" lang="en-US" sz="3200" spc="-1" strike="noStrike">
                <a:solidFill>
                  <a:srgbClr val="ffffff"/>
                </a:solidFill>
                <a:latin typeface="Arial"/>
              </a:rPr>
              <a:t>signatur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r performs same computation on message and checks it matches the MAC</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ssurance that message is unaltered and comes from send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6E364B-3795-4C46-A0AA-868E26F57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a:t>
            </a:r>
            <a:endParaRPr b="0" lang="en-US" sz="4400" spc="-1" strike="noStrike">
              <a:solidFill>
                <a:srgbClr val="b7e7ff"/>
              </a:solidFill>
              <a:latin typeface="Arial"/>
            </a:endParaRPr>
          </a:p>
        </p:txBody>
      </p:sp>
      <p:pic>
        <p:nvPicPr>
          <p:cNvPr id="110" name="" descr=""/>
          <p:cNvPicPr/>
          <p:nvPr/>
        </p:nvPicPr>
        <p:blipFill>
          <a:blip r:embed="rId2"/>
          <a:stretch/>
        </p:blipFill>
        <p:spPr>
          <a:xfrm>
            <a:off x="395280" y="1341360"/>
            <a:ext cx="8229600" cy="5183280"/>
          </a:xfrm>
          <a:prstGeom prst="rect">
            <a:avLst/>
          </a:prstGeom>
          <a:ln w="0">
            <a:noFill/>
          </a:ln>
        </p:spPr>
      </p:pic>
      <p:sp>
        <p:nvSpPr>
          <p:cNvPr id="3" name="PlaceHolder 2"/>
          <p:cNvSpPr>
            <a:spLocks noGrp="1"/>
          </p:cNvSpPr>
          <p:nvPr>
            <p:ph type="sldNum" idx="3"/>
          </p:nvPr>
        </p:nvSpPr>
        <p:spPr/>
        <p:txBody>
          <a:bodyPr/>
          <a:p>
            <a:fld id="{F79DFF7F-AD49-4839-87E5-A1AA368CF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s</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hown the MAC provides confidentiali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use encryption for secrec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use separate keys for 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mpute MAC either before or after encryp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generally regarded as better done befor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a MA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only authentication is need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need authentication to persist longer than the encryption (eg. archival us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 MAC is not a digital sign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26ABCA-B2BE-491B-ACA8-D4FA6A0C6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C Properties</a:t>
            </a: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C is a cryptographic checksum</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MAC = C</a:t>
            </a:r>
            <a:r>
              <a:rPr b="0" lang="en-US" sz="2800" spc="-1" strike="noStrike" baseline="-25000">
                <a:solidFill>
                  <a:srgbClr val="ffffff"/>
                </a:solidFill>
                <a:latin typeface="Courier New"/>
              </a:rPr>
              <a:t>K</a:t>
            </a:r>
            <a:r>
              <a:rPr b="0" lang="en-US" sz="2800" spc="-1" strike="noStrike">
                <a:solidFill>
                  <a:srgbClr val="ffffff"/>
                </a:solidFill>
                <a:latin typeface="Courier New"/>
              </a:rPr>
              <a:t>(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secret key 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authenticator</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many-to-one func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many messages have same MA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finding these needs to be very difficul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771121-ADBB-4F6D-A721-27144D704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s</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denses arbitrary message to fixed siz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ually assume that the hash function is public and not key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MAC which is keyed</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h used to detect changes to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use in various ways with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often to create a digital signatu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4B13E8A-92A2-4948-8E31-8BF5AA20F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ash Functions &amp; Digital Signatures</a:t>
            </a:r>
            <a:endParaRPr b="0" lang="en-US" sz="4000" spc="-1" strike="noStrike">
              <a:solidFill>
                <a:srgbClr val="b7e7ff"/>
              </a:solidFill>
              <a:latin typeface="Arial"/>
            </a:endParaRPr>
          </a:p>
        </p:txBody>
      </p:sp>
      <p:pic>
        <p:nvPicPr>
          <p:cNvPr id="118" name="" descr=""/>
          <p:cNvPicPr/>
          <p:nvPr/>
        </p:nvPicPr>
        <p:blipFill>
          <a:blip r:embed="rId2"/>
          <a:stretch/>
        </p:blipFill>
        <p:spPr>
          <a:xfrm>
            <a:off x="301680" y="2548080"/>
            <a:ext cx="8540640" cy="2533680"/>
          </a:xfrm>
          <a:prstGeom prst="rect">
            <a:avLst/>
          </a:prstGeom>
          <a:ln w="0">
            <a:noFill/>
          </a:ln>
        </p:spPr>
      </p:pic>
      <p:sp>
        <p:nvSpPr>
          <p:cNvPr id="3" name="PlaceHolder 2"/>
          <p:cNvSpPr>
            <a:spLocks noGrp="1"/>
          </p:cNvSpPr>
          <p:nvPr>
            <p:ph type="sldNum" idx="3"/>
          </p:nvPr>
        </p:nvSpPr>
        <p:spPr/>
        <p:txBody>
          <a:bodyPr/>
          <a:p>
            <a:fld id="{1330A308-B052-4DC5-8CC5-FEEA931D5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 Properties</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ash Function produces a fingerprint of some file/message/data</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h = H(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fingerprint</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to be publi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249F1D-4BAC-468E-B1D2-666EA93BCA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Requirements for Hash Functions</a:t>
            </a:r>
            <a:endParaRPr b="0" lang="en-US" sz="40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pplied to any sized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fixed-length output </a:t>
            </a:r>
            <a:r>
              <a:rPr b="0" lang="en-US" sz="2800" spc="-1" strike="noStrike">
                <a:solidFill>
                  <a:srgbClr val="ffffff"/>
                </a:solidFill>
                <a:latin typeface="Courier New"/>
              </a:rPr>
              <a:t>h</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asy to compute </a:t>
            </a:r>
            <a:r>
              <a:rPr b="0" lang="en-US" sz="2800" spc="-1" strike="noStrike">
                <a:solidFill>
                  <a:srgbClr val="ffffff"/>
                </a:solidFill>
                <a:latin typeface="Courier New"/>
              </a:rPr>
              <a:t>h=H(M)</a:t>
            </a:r>
            <a:r>
              <a:rPr b="0" lang="en-US" sz="2800" spc="-1" strike="noStrike">
                <a:solidFill>
                  <a:srgbClr val="ffffff"/>
                </a:solidFill>
                <a:latin typeface="Arial"/>
              </a:rPr>
              <a:t> for any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h</a:t>
            </a:r>
            <a:r>
              <a:rPr b="0" lang="en-US" sz="2800" spc="-1" strike="noStrike">
                <a:solidFill>
                  <a:srgbClr val="ffffff"/>
                </a:solidFill>
                <a:latin typeface="Arial"/>
              </a:rPr>
              <a:t> is infeasible to find </a:t>
            </a:r>
            <a:r>
              <a:rPr b="0" lang="en-US" sz="2800" spc="-1" strike="noStrike">
                <a:solidFill>
                  <a:srgbClr val="ffffff"/>
                </a:solidFill>
                <a:latin typeface="Courier New"/>
              </a:rPr>
              <a:t>x</a:t>
            </a:r>
            <a:r>
              <a:rPr b="0" lang="en-US" sz="2800" spc="-1" strike="noStrike">
                <a:solidFill>
                  <a:srgbClr val="ffffff"/>
                </a:solidFill>
                <a:latin typeface="Arial"/>
              </a:rPr>
              <a:t> s.t. </a:t>
            </a:r>
            <a:r>
              <a:rPr b="0" lang="en-US" sz="2800" spc="-1" strike="noStrike">
                <a:solidFill>
                  <a:srgbClr val="ffffff"/>
                </a:solidFill>
                <a:latin typeface="Courier New"/>
              </a:rPr>
              <a:t>H(x)=h</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property</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x</a:t>
            </a:r>
            <a:r>
              <a:rPr b="0" lang="en-US" sz="2800" spc="-1" strike="noStrike">
                <a:solidFill>
                  <a:srgbClr val="ffffff"/>
                </a:solidFill>
                <a:latin typeface="Arial"/>
              </a:rPr>
              <a:t> is infeasible to find </a:t>
            </a:r>
            <a:r>
              <a:rPr b="0" lang="en-US" sz="2800" spc="-1" strike="noStrike">
                <a:solidFill>
                  <a:srgbClr val="ffffff"/>
                </a:solidFill>
                <a:latin typeface="Courier New"/>
              </a:rPr>
              <a:t>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collision resistance</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nfeasible to find any </a:t>
            </a:r>
            <a:r>
              <a:rPr b="0" lang="en-US" sz="2800" spc="-1" strike="noStrike">
                <a:solidFill>
                  <a:srgbClr val="ffffff"/>
                </a:solidFill>
                <a:latin typeface="Courier New"/>
              </a:rPr>
              <a:t>x,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collision resistance</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C738DFE-ADD0-4DCC-A830-24E7C88E0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mple Hash Functions</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everal proposals for simple func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XOR of message block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ecure since can manipulate any message and either not change hash or change hash al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 stronger cryptographic function (next chap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AFB7F22-F546-484A-87C6-D34ABAAAF9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rthday Attacks</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think a 64-bit hash is secure</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by </a:t>
            </a:r>
            <a:r>
              <a:rPr b="1" lang="en-US" sz="2800" spc="-1" strike="noStrike">
                <a:solidFill>
                  <a:srgbClr val="ffffff"/>
                </a:solidFill>
                <a:latin typeface="Arial"/>
              </a:rPr>
              <a:t>Birthday Paradox</a:t>
            </a:r>
            <a:r>
              <a:rPr b="0" lang="en-US" sz="2800" spc="-1" strike="noStrike">
                <a:solidFill>
                  <a:srgbClr val="ffffff"/>
                </a:solidFill>
                <a:latin typeface="Arial"/>
              </a:rPr>
              <a:t> is not</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rthday attack </a:t>
            </a:r>
            <a:r>
              <a:rPr b="0" lang="en-US" sz="2800" spc="-1" strike="noStrike">
                <a:solidFill>
                  <a:srgbClr val="ffffff"/>
                </a:solidFill>
                <a:latin typeface="Arial"/>
              </a:rPr>
              <a:t>works thu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baseline="30000">
                <a:solidFill>
                  <a:srgbClr val="ffffff"/>
                </a:solidFill>
                <a:latin typeface="Arial"/>
              </a:rPr>
              <a:t> </a:t>
            </a:r>
            <a:r>
              <a:rPr b="0" lang="en-US" sz="2400" spc="-1" strike="noStrike">
                <a:solidFill>
                  <a:srgbClr val="ffffff"/>
                </a:solidFill>
                <a:latin typeface="Arial"/>
              </a:rPr>
              <a:t>variations of a valid message all with essentially the same meaning</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also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a:solidFill>
                  <a:srgbClr val="ffffff"/>
                </a:solidFill>
                <a:latin typeface="Arial"/>
              </a:rPr>
              <a:t> variations of a desired fraudulent message</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ets of messages are compared to find pair with same hash (probability &gt; 0.5 by birthday paradox)</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r sign the valid message, then substitute the forgery which will have a valid signature</a:t>
            </a:r>
            <a:endParaRPr b="0" lang="en-US" sz="24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is that need to use larger MAC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C7A7A9-CA51-47E5-9508-DC4D65368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authentication is concerned with: </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tecting the integrity of a message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lidating identity of originator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n-repudiation of origin (dispute resolution)</a:t>
            </a:r>
            <a:endParaRPr b="0" lang="en-US" sz="28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consider the security requirements</a:t>
            </a:r>
            <a:endParaRPr b="0" lang="en-US" sz="32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ree alternative functions used:</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code (MAC)</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a:t>
            </a:r>
            <a:endParaRPr b="0" lang="en-US" sz="28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07B50D-60A6-471D-82DE-A037B00136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ummary</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u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12E74F-690B-46F5-9198-D49B38CBC0D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ecurity Requirements</a:t>
            </a:r>
            <a:endParaRPr b="0" lang="en-US" sz="4400" spc="-1" strike="noStrike">
              <a:solidFill>
                <a:srgbClr val="b7e7ff"/>
              </a:solidFill>
              <a:latin typeface="Arial"/>
            </a:endParaRPr>
          </a:p>
        </p:txBody>
      </p:sp>
      <p:sp>
        <p:nvSpPr>
          <p:cNvPr id="94" name="PlaceHolder 2"/>
          <p:cNvSpPr>
            <a:spLocks noGrp="1"/>
          </p:cNvSpPr>
          <p:nvPr>
            <p:ph/>
          </p:nvPr>
        </p:nvSpPr>
        <p:spPr>
          <a:xfrm>
            <a:off x="539280" y="1676160"/>
            <a:ext cx="8302680" cy="4422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mmunications attack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losur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ffic analysi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querad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ce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repudi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ation repudiation</a:t>
            </a:r>
            <a:endParaRPr b="0" lang="en-US" sz="2800" spc="-1" strike="noStrike">
              <a:solidFill>
                <a:srgbClr val="ffffff"/>
              </a:solidFill>
              <a:latin typeface="Arial"/>
            </a:endParaRPr>
          </a:p>
        </p:txBody>
      </p:sp>
      <p:sp>
        <p:nvSpPr>
          <p:cNvPr id="95" name=""/>
          <p:cNvSpPr/>
          <p:nvPr/>
        </p:nvSpPr>
        <p:spPr>
          <a:xfrm>
            <a:off x="468360" y="2133720"/>
            <a:ext cx="8136000" cy="8636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68360" y="3068640"/>
            <a:ext cx="8136000" cy="28814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48680" y="22766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identiality</a:t>
            </a:r>
            <a:endParaRPr b="0" lang="en-US" sz="2400" spc="-1" strike="noStrike">
              <a:solidFill>
                <a:srgbClr val="ffffff"/>
              </a:solidFill>
              <a:latin typeface="Arial"/>
            </a:endParaRPr>
          </a:p>
        </p:txBody>
      </p:sp>
      <p:sp>
        <p:nvSpPr>
          <p:cNvPr id="98" name=""/>
          <p:cNvSpPr/>
          <p:nvPr/>
        </p:nvSpPr>
        <p:spPr>
          <a:xfrm>
            <a:off x="6447600" y="41497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987662C-8CA8-4354-944E-8FB8B92BE18D}" type="slidenum">
              <a:t>3</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 encryption by itself also provides a measure of authentic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ymmetric encryption is used th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know sender must have created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only sender and receiver know key u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content cannot of been alte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ssage has </a:t>
            </a:r>
            <a:r>
              <a:rPr b="0" lang="en-AU" sz="2800" spc="-1" strike="noStrike">
                <a:solidFill>
                  <a:srgbClr val="ffffff"/>
                </a:solidFill>
                <a:latin typeface="Arial"/>
              </a:rPr>
              <a:t>suitable structure, redundancy or a checksum to detect any chang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94732C-A3E6-44EA-9540-149E298AE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187280" y="0"/>
            <a:ext cx="6264360" cy="6858000"/>
          </a:xfrm>
          <a:prstGeom prst="rect">
            <a:avLst/>
          </a:prstGeom>
          <a:ln w="0">
            <a:noFill/>
          </a:ln>
        </p:spPr>
      </p:pic>
      <p:sp>
        <p:nvSpPr>
          <p:cNvPr id="2" name="PlaceHolder 1"/>
          <p:cNvSpPr>
            <a:spLocks noGrp="1"/>
          </p:cNvSpPr>
          <p:nvPr>
            <p:ph type="sldNum" idx="3"/>
          </p:nvPr>
        </p:nvSpPr>
        <p:spPr/>
        <p:txBody>
          <a:bodyPr/>
          <a:p>
            <a:fld id="{4D94D3FE-ED05-4D82-A2A4-F438AEC49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26920" y="925560"/>
            <a:ext cx="7650360" cy="5199120"/>
          </a:xfrm>
          <a:prstGeom prst="rect">
            <a:avLst/>
          </a:prstGeom>
          <a:ln w="0">
            <a:noFill/>
          </a:ln>
        </p:spPr>
      </p:pic>
      <p:sp>
        <p:nvSpPr>
          <p:cNvPr id="2" name="PlaceHolder 1"/>
          <p:cNvSpPr>
            <a:spLocks noGrp="1"/>
          </p:cNvSpPr>
          <p:nvPr>
            <p:ph type="sldNum" idx="3"/>
          </p:nvPr>
        </p:nvSpPr>
        <p:spPr/>
        <p:txBody>
          <a:bodyPr/>
          <a:p>
            <a:fld id="{2F4706DF-66EB-4A94-BDF9-B5D973B7E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50920" y="550800"/>
            <a:ext cx="8642160" cy="5756400"/>
          </a:xfrm>
          <a:prstGeom prst="rect">
            <a:avLst/>
          </a:prstGeom>
          <a:ln w="0">
            <a:noFill/>
          </a:ln>
        </p:spPr>
      </p:pic>
      <p:sp>
        <p:nvSpPr>
          <p:cNvPr id="2" name="PlaceHolder 1"/>
          <p:cNvSpPr>
            <a:spLocks noGrp="1"/>
          </p:cNvSpPr>
          <p:nvPr>
            <p:ph type="sldNum" idx="3"/>
          </p:nvPr>
        </p:nvSpPr>
        <p:spPr/>
        <p:txBody>
          <a:bodyPr/>
          <a:p>
            <a:fld id="{AFDF73D1-319C-4602-ACFC-8F3939721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ublic-key encryption is used:</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vides no confidence of sender</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nyone potentially knows public-key</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f </a:t>
            </a:r>
            <a:endParaRPr b="0" lang="en-US" sz="28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er </a:t>
            </a:r>
            <a:r>
              <a:rPr b="1" lang="en-US" sz="2400" spc="-1" strike="noStrike">
                <a:solidFill>
                  <a:srgbClr val="ffffff"/>
                </a:solidFill>
                <a:latin typeface="Arial"/>
              </a:rPr>
              <a:t>signs</a:t>
            </a:r>
            <a:r>
              <a:rPr b="0" lang="en-US" sz="2400" spc="-1" strike="noStrike">
                <a:solidFill>
                  <a:srgbClr val="ffffff"/>
                </a:solidFill>
                <a:latin typeface="Arial"/>
              </a:rPr>
              <a:t> message using their private-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encrypts with recipients public 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both secrecy and authentication</a:t>
            </a:r>
            <a:endParaRPr b="0" lang="en-US" sz="24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need to recognize corrupted messages</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t cost of two public-key uses on messag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12B33C-F881-43B8-BECF-29F4868DA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187280" y="0"/>
            <a:ext cx="6264360" cy="6858000"/>
          </a:xfrm>
          <a:prstGeom prst="rect">
            <a:avLst/>
          </a:prstGeom>
          <a:ln w="0">
            <a:noFill/>
          </a:ln>
        </p:spPr>
      </p:pic>
      <p:sp>
        <p:nvSpPr>
          <p:cNvPr id="2" name="PlaceHolder 1"/>
          <p:cNvSpPr>
            <a:spLocks noGrp="1"/>
          </p:cNvSpPr>
          <p:nvPr>
            <p:ph type="sldNum" idx="3"/>
          </p:nvPr>
        </p:nvSpPr>
        <p:spPr/>
        <p:txBody>
          <a:bodyPr/>
          <a:p>
            <a:fld id="{BE8750AE-33C1-41A3-A87A-B52E5FF39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dcterms:modified xsi:type="dcterms:W3CDTF">2005-05-02T05:57:20Z</dcterms:modified>
  <cp:revision>19</cp:revision>
  <dc:subject>Lecture Overheads - Ch 11</dc:subject>
  <dc:title>William Stallings, Cryptography and Network Security 3/e</dc:title>
</cp:coreProperties>
</file>