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D588-97CE-4CF7-8395-55A8569C2DD9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0.4. See text for details of steps in protoc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0.6. See text for details of steps in protocol. Note that these steps correspond to final 3 of Fig 10.3, hence can get both secret key exchange and authentication in a single protoc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0.3. See text for details of steps in protoc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D4A-7BC8-41C5-94A3-0B1B12B1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A02-EC0F-483F-ACE8-F931DA3C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C14-D815-4C70-B105-6DE5C86E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B25-9C4E-42E5-8871-A93FEF86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925D-FBE0-445F-ABD9-7942643B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1106-A232-49C5-A911-78DBA765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3609-4520-4755-8911-B4E7963F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77BB-67B7-4118-8997-4CA584F6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56F1-4312-417E-9250-043F6891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6DA1-4C39-4E3D-A772-0C6BC2F5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03AC-62CE-407A-AEE8-3B5FCC96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E8F-F129-4E9D-BC84-D70A066A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CD31-3618-4DF6-97D3-C5BC9DA7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B36F-F2A9-472C-BD50-2DA99C2C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C81B-64F5-41FD-B6B3-F9314264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0429-22C7-4632-A107-C610537C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AC6A-0CBF-4E4B-AF6C-6E2BD08D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220-D2F6-49A8-834E-DB9DA9C8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2E2-DC2E-4512-B404-7AF10FD4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D35D-585B-4C4F-A6DB-10AE4309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E39-4D1A-4155-8DB5-097BD136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25C-93B5-4A45-9836-1DB5A66C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829-2681-4A20-82E5-AD96A5A0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AAD-22E6-4C40-85B3-D6AD1D5E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E5B2-B992-4C52-85D8-23D114053A18}" type="slidenum">
              <a:rPr b="0" lang="ar-BH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C88D-E66F-4E67-A42B-E2CA7D425BF5}" type="slidenum">
              <a:rPr b="0" lang="ar-BH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yptography and Network Secur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CS 4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llings - Section 10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slides by Lawrie B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ded by Sebastian L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sham al-Am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8B27-FD50-4864-96C2-705AB5930B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ublic-Key Certifica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exchange without contacting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ertificate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inds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identity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public key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ther info: period of validity, rights of use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ith all contents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signed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by a trusted Public-Key or Certificate Authority (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ey information conveyed by transmitting certific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verifiable whenever authorities’ public-key 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28A-0B44-4E85-8498-A9DE42B369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b7e7ff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articipants can determine name and public key of certificate´s ow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erification that certificat originated from CA possible for every particip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reating &amp; updating limited to 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articipants able to verify cur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timestamp similar to expiration date on credit car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71B-D52A-41A4-9A70-E023652E1D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ublic-Key Certifica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676520"/>
            <a:ext cx="8540640" cy="44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7F8-0B40-452D-B2B5-F652165621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ublic-Key </a:t>
            </a:r>
            <a:r>
              <a:rPr b="0" lang="en-AU" sz="4000" spc="-1" strike="noStrike">
                <a:solidFill>
                  <a:srgbClr val="b7e7ff"/>
                </a:solidFill>
                <a:latin typeface="Arial"/>
              </a:rPr>
              <a:t>Distribution of Secret Key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previous methods to obtain public-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use for secrecy and 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-key algorithms very s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ymmetric encryption to provide confidentia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ce need a session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alternatives for suitable s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98A-A0CC-43D5-9294-569C49CC24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mple Secret Key Distribu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d by Merkle in 19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enerates a new temporary public key p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nds B the public key and their id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 generates a session key K sends it to A encrypted using the supplied publ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ecrypts the session key and both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iscard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K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K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 discard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K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seful when only threat is eavesdro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E14-901A-4877-8057-0816233521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b7e7ff"/>
                </a:solidFill>
                <a:latin typeface="Arial"/>
              </a:rPr>
              <a:t>Simple Secret Key Distribu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8561160" cy="213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FF1-0670-48EC-879E-FAF219F4E0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b7e7ff"/>
                </a:solidFill>
                <a:latin typeface="Arial"/>
              </a:rPr>
              <a:t>Man-in-Middle Attac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nent can impersonate both par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generates [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KU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,KR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] and transmits (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KU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,I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 to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tercepts, creates [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KU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,KR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], sends (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KU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,I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 to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B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enerates secret key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K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and sends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E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KU</a:t>
            </a:r>
            <a:r>
              <a:rPr b="0" lang="de-DE" sz="2400" spc="-1" strike="noStrike" baseline="-40000">
                <a:solidFill>
                  <a:srgbClr val="ffffff"/>
                </a:solidFill>
                <a:latin typeface="Courier New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(K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tercepts, learns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K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KR</a:t>
            </a:r>
            <a:r>
              <a:rPr b="0" lang="de-DE" sz="2400" spc="-1" strike="noStrike" baseline="-40000">
                <a:solidFill>
                  <a:srgbClr val="ffffff"/>
                </a:solidFill>
                <a:latin typeface="Courier New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(E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KU</a:t>
            </a:r>
            <a:r>
              <a:rPr b="0" lang="de-DE" sz="2400" spc="-1" strike="noStrike" baseline="-40000">
                <a:solidFill>
                  <a:srgbClr val="ffffff"/>
                </a:solidFill>
                <a:latin typeface="Courier New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(K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ransmits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E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KU</a:t>
            </a:r>
            <a:r>
              <a:rPr b="0" lang="de-DE" sz="2400" spc="-1" strike="noStrike" baseline="-40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(K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B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oth know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K</a:t>
            </a:r>
            <a:r>
              <a:rPr b="0" lang="de-DE" sz="2800" spc="-1" strike="noStrike" baseline="-25000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,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oth unaware that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K</a:t>
            </a:r>
            <a:r>
              <a:rPr b="0" lang="de-DE" sz="2800" spc="-1" strike="noStrike" baseline="-25000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vealed to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n now switch to eavesdro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989-25C2-4ABB-900D-35340952C3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Public-Key Distribution of Secret Key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have securely exchanged public-ke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770400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897-200C-49AF-8AF9-B928794313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Key Manage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ion of secret keys with symmetric key ciphers not solved satisfa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ther use of trusted KDC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decentralization requires too many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olution by using public-key cip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wo distinct aspe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ion of public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-key encryption to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istribute secret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53B-FC29-4D4E-AA58-B1FF3DF8A7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istribution of Public Key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ral techniqu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Public announc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Publicly available direc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Public-key autho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Public-key certific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DDB-C996-42DF-A8C3-898E85CDC7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ublic Announce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distribute public keys to recipients or broadcast to community at l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. append PGP keys to email messages or post to news groups or email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weakness is forg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n create a key claiming to be someone else and broadcast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forgery is discovered can masquerade as claimed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B55-543C-4A23-9BEB-C4C72CAF32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b7e7ff"/>
                </a:solidFill>
                <a:latin typeface="Arial"/>
              </a:rPr>
              <a:t>Uncontrolled Distribu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2308320"/>
            <a:ext cx="8434440" cy="320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750-F80E-441E-9A6B-8CC77A6F89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ublicly Available Directo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btain greater security by registering keys with dynamic public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and distribution of public keys by trusted entity or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y must be trusted with propert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ins {name,public-key} e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nts register securely with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nts can replace key at any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s periodically pub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can be accessed electron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 vulnerable to tampering with records or gaining private key of directory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256-1D23-4D30-A177-16A9025B7F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b7e7ff"/>
                </a:solidFill>
                <a:latin typeface="Arial"/>
              </a:rPr>
              <a:t>Public-Key Public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6400" y="1922400"/>
            <a:ext cx="8180640" cy="38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680-9CDF-4191-8B4D-D9CE1CCB90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ublic-Key Author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security by tightening control over distribution of keys from dire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authority maintains dynamic directory of public k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must know public key for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 with authority to obtain any desired public key secur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 is bottleneck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ory still vulnerable to tamp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7A0-5116-4611-9E63-4A91D81C70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ublic-Key Author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1680" y="1676520"/>
            <a:ext cx="8540640" cy="44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412 - Section 10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DAA-A8D8-41E8-A490-63BB5EA113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abc123</cp:lastModifiedBy>
  <dcterms:modified xsi:type="dcterms:W3CDTF">2005-04-06T06:54:14Z</dcterms:modified>
  <cp:revision>18</cp:revision>
  <dc:subject>Lecture Overheads</dc:subject>
  <dc:title>Cryptography and Network Security 3/e</dc:title>
</cp:coreProperties>
</file>