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ABB3-D9B6-4A86-8EFB-8FCAE59A0988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0.4. See text for details of steps in protoc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0.6. See text for details of steps in protocol. Note that these steps correspond to final 3 of Fig 10.3, hence can get both secret key exchange and authentication in a single protoc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0.3. See text for details of steps in protoc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0E3-0083-43E0-92A0-8D8C9651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593-FDDE-4A6F-A18F-BA92F06E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6E6-7DC8-446A-8FC2-91E6BE50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DED-F207-4F9C-AF1B-1C95D91B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5629-313F-4E62-8FDC-9DD1ADF2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9F3B-9184-41FD-BD04-21442105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14B4-A409-4F9F-8B52-EF9B6610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027F-5DAB-4111-AFC9-0B94DDD6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F201-1EA9-4A29-A4E9-D916E117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D65A-2225-4051-8004-ECA9D25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6D9A-659F-46F1-8C35-D7E3414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392-4AA2-4929-ACD5-D6891502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6A1F-A38D-4282-A56D-86B392DF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F7FD-F797-44C4-861B-F88B2D79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FE75-C713-4C2D-96F3-294A5100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44AB-A488-4B14-9ED2-1AE0B8DE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87E3-02EE-4A7C-9220-6070707B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294-D926-4494-999A-88BF1C1D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01B-A781-4A07-9A35-A86DDFF3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C6E-6E25-47C8-90D7-B5052E36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569-E7EE-4A92-AA0E-9F22DF1E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DB8-7E50-443A-BA58-B6D2059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BE0-FF41-4BD9-889E-25CD6378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0CC-932C-4B7C-9080-44E01674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758B-35A3-49A7-9BDD-56A2CF110ADC}" type="slidenum">
              <a:rPr b="0" lang="ar-BH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E09F-4B04-441D-89EA-17B63680FD70}" type="slidenum">
              <a:rPr b="0" lang="ar-BH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yptography and Network Secur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CS 4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llings - Section 10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slides by Lawrie B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ded by Sebastian 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sham al-Am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4589-AEBD-4D9D-A52F-E07DF9727E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ublic-Key Certifica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exchange without contacting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rtificate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inds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identity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public key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ther info: period of validity, rights of use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ith all contents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signed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by a trusted Public-Key or Certificate Authority (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ey information conveyed by transmitting certific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verifiable whenever authorities’ public-key 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C3B-729E-4C19-AE45-47BB450C76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b7e7ff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articipants can determine name and public key of certificate´s owner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ification that certificat originated from CA possible for every particip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reating &amp; updating limited to 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articipants able to verify cur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imestamp similar to expiration date on credit card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3FB-3E56-4210-82B3-4F0D19A248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ublic-Key Certifica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676520"/>
            <a:ext cx="8540640" cy="44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C5C-C658-46BC-8522-7E2044FC48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ublic-Key </a:t>
            </a:r>
            <a:r>
              <a:rPr b="0" lang="en-AU" sz="4000" spc="-1" strike="noStrike">
                <a:solidFill>
                  <a:srgbClr val="b7e7ff"/>
                </a:solidFill>
                <a:latin typeface="Arial"/>
              </a:rPr>
              <a:t>Distribution of Secret Key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revious methods to obtain public-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use for secrecy and 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-key algorithms very s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ymmetric encryption to provide confidentia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ce need a session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alternatives for suitable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4A3-F3FB-46B6-B10D-7F5D9520A7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e Secret Key Distrib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by Merkle in 19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enerates a new temporary public key 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nds B the public key and their id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generates a session key K sends it to A encrypted using the supplied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ecrypts the session key and both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iscard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K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 discard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eful when only threat is eavesdr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5AF-21AC-4E2C-AA4D-7D3C4B0806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b7e7ff"/>
                </a:solidFill>
                <a:latin typeface="Arial"/>
              </a:rPr>
              <a:t>Simple Secret Key Distrib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8561160" cy="21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CE2-5F11-4460-B3C7-FAB688FC2B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b7e7ff"/>
                </a:solidFill>
                <a:latin typeface="Arial"/>
              </a:rPr>
              <a:t>Man-in-Middle Attac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nent can impersonate both par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generates [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,KR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] and transmits (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,I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 to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tercepts, creates [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,KR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], sends (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,I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 to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B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nerates secret key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K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and sends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40000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(K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tercepts, learns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K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KR</a:t>
            </a:r>
            <a:r>
              <a:rPr b="0" lang="de-DE" sz="2400" spc="-1" strike="noStrike" baseline="-40000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(E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40000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(K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ransmits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40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(K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B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oth know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K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,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oth unaware that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K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vealed to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n now switch to eavesdro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32F-41A0-4CF3-B583-7624748CF5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Public-Key Distribution of Secret Key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have securely exchanged public-key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770400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E13-DB75-4EC6-B867-AEC5F8D07A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Key Manag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ion of secret keys with symmetric key ciphers not solved satisfa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use of trusted KDC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decentralization requires too many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lution by using public-key cip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wo distinct aspect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ion of public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-key encryption to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istribute secret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BAA-C749-4BCD-A54B-72D25D02B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stribution of Public Key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ral techniqu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Public announc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Publicly available direc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Public-key autho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Public-key certific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79F-6D97-4DC1-9B97-B9DDC5E2F2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ublic Announc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distribute public keys to recipients or broadcast to community at l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. append PGP keys to email messages or post to news groups or email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weakness is for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n create a key claiming to be someone else and broadcast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forgery is discovered can masquerade as claimed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48C-8B71-45C5-A4F6-F62FFD8245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b7e7ff"/>
                </a:solidFill>
                <a:latin typeface="Arial"/>
              </a:rPr>
              <a:t>Uncontrolled Distrib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2308320"/>
            <a:ext cx="8434440" cy="32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BFE-CC74-4FDB-A31A-FBE40733D0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ublicly Available Directo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btain greater security by registering keys with dynamic public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and distribution of public keys by trusted entity or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y must be trusted with proper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s {name,public-key}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nts register securely with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nts can replace key at any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s periodically pu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can be accessed electron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vulnerable to tampering with records or gaining private key of directory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C18-755B-4AAA-B678-8D0CD955BC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b7e7ff"/>
                </a:solidFill>
                <a:latin typeface="Arial"/>
              </a:rPr>
              <a:t>Public-Key Public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6400" y="1922400"/>
            <a:ext cx="8180640" cy="38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DDD-C7F7-4B0D-95FE-99B65DAF8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ublic-Key Author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security by tightening control over distribution of keys from dire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authority maintains dynamic directory of public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must know public key for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 with authority to obtain any desired public key secur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 is bottleneck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ory still vulnerable to tamp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ECA-F23B-4579-A0DF-D6CB0D17AF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ublic-Key Author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1680" y="1676520"/>
            <a:ext cx="8540640" cy="44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C6B-5AC5-4B8E-A061-79D5F3490F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Creative</cp:lastModifiedBy>
  <dcterms:modified xsi:type="dcterms:W3CDTF">2005-04-06T05:36:38Z</dcterms:modified>
  <cp:revision>17</cp:revision>
  <dc:subject>Lecture Overheads</dc:subject>
  <dc:title>Cryptography and Network Security 3/e</dc:title>
</cp:coreProperties>
</file>