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9C7C-5CD9-4599-ABDD-3B69ED79D1D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ple-DES with two keys is a popular alternative to single-DES, but suffers from being 3 times slower to ru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there are no practical attacks, have some indications of attack approach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ce some are now adopting Triple-DES with three keys for greater securit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E266-0D4C-4DC5-AABF-904C954C1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8B5C-7AD9-4254-BD78-B80A0D1CF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F9C1-5FCD-478B-906A-28348A2B7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010F-B259-4F3D-80BD-CEBAE261F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86C38-DCBD-4A40-A82D-F60649516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9C5C5-B2F9-4479-9F72-10D254D47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94CAE-F07D-4418-BF49-189A2FEAB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829EA-1848-47B4-BFCF-95284F7BF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5E7F8-6962-49B1-B9A4-E6D65F3D4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62EE9-F7DB-4556-9427-397790883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273DC-CC2D-4DC5-BB17-160EAC44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191C-5B20-4E01-A955-D6644786F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C86C1-E52F-48AF-B717-195F2561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C3BF8-4E7E-4AF1-A67C-9E8B4C87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F939D-DC8B-418A-8D30-DC3CC6A98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B67C2-06EB-480E-80D6-CCB8DCEE6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45CEF-3EA3-49F2-B118-B42113329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764F-88FF-4CF8-AC73-2B099BAF2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6005-5C80-481E-ABC0-757DB0056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88DA-164D-43A6-8230-C3D4821F2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7F71-5D57-439D-95AE-934177D3B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5E0A-20DC-4E87-9F1E-2406A867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ED51-857C-4B30-867B-0D9C665C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EB6E-44DC-4257-8B53-BF9FEF81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6B70-F155-4B2A-AFC1-05211EE2C8AF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37B2-88E8-474A-AB36-B1447F40E8E7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ryptography and Network Securit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2204640"/>
            <a:ext cx="6400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Ed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William Stall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tion 6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cture slides by Lawrie Brown and Hesham al-Amm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TCS 412 - Section 6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005F6-6DD0-4FEE-8A6B-7DA0013C89E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riple D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clear a replacement for DES was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oretical attacks that can break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monstrated exhaustive key search atta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AES is a new cipher altern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or to this alternative was to use multiple encryption with DES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iple-DES is the chosen 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Section 6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B7AC-BC65-45FA-AF12-B8517AE5DF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hy Triple-DES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not Double-D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same as some other single-DES use, but have weaknes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et-in-the-middle att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nown-plaintext att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s whenever we use a cipher tw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ce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X = 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K1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[P] = 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K2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[C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ack by encrypting P with all keys and st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n decrypt C with keys and match X val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show takes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O(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urier New"/>
              </a:rPr>
              <a:t>56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t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Section 6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1630-DAC0-4C5C-A8A1-F4294D0B124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692360" y="1413000"/>
            <a:ext cx="5686200" cy="45306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Double D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Section 6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1F74-5D7B-4ADB-963B-C3128110C9C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riple-DES with Two-Key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nce must use 3 encryp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uld seem to need 3 distinct ke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can use 2 keys with E-D-E sequ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C = 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K1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[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K2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[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K1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[P]]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b encrypt &amp; decrypt equivalent in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K1=K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n can work with single 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dardized in ANSI X9.17 &amp; ISO873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current known practical atta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Section 6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4B55-EFED-43C8-A8A7-AC09F0C489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riple D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042920" y="1246320"/>
            <a:ext cx="7058160" cy="523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Section 6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B1C1-E138-4A8A-BCE2-34F612F1F40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riple-DES with Three-Key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known practical attacks on two-key Triple-DES but there are some atta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 of brute force ~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1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use Triple-DES with Three-Keys to avoid even the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C = 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K3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[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K2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[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K1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[P]]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been adopted by some Internet applications, eg PGP, S/M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Section 6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D291-CD6B-4B04-9DB6-33B0EE7B5ED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8T02:06:54Z</dcterms:created>
  <dc:creator>Dr Lawrie Brown</dc:creator>
  <dc:description/>
  <dc:language>en-US</dc:language>
  <cp:lastModifiedBy>Hesham al-Ammal</cp:lastModifiedBy>
  <dcterms:modified xsi:type="dcterms:W3CDTF">2007-03-27T05:54:31Z</dcterms:modified>
  <cp:revision>13</cp:revision>
  <dc:subject>Lecture Overheads - Ch 6</dc:subject>
  <dc:title>William Stallings, Cryptography and Network Security 3/e</dc:title>
</cp:coreProperties>
</file>