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6A12-C7DE-4066-8306-560D1FD90578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DAE3-4BDB-49B3-9B13-5899F0A09B42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D814-F597-4403-B991-04FEFC8671C6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25B9-F785-45C8-9135-DC407A425906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E9C7-EC0C-449D-B746-0826E30AD659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C7A2-630A-4497-BA4D-7C4FADD7F17C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972A-CA26-4A55-99EF-3C7DFC6FA278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A009-4309-450F-8040-98CA1869C18E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DA08-8C8E-466B-92DD-50EBD47D1AF6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DED9-C4CE-4E66-A5F4-1A09786D652F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D7B5-F665-4D67-B4FE-527546342929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reaking a Playfair cipher see PBS website for enig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A1A8-628E-4E35-AC6D-D17E54206F83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51F3-76C8-4FF8-B9C3-13C541FED76F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reaking a Playfair cipher see PBS website for enig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E261-73CF-4628-A781-64E62088B9A0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reaking a Playfair cipher see PBS website for enig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EBC2-DCC5-4E2D-8D41-D5DCB04B72C1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F572-E0F8-4D9E-9814-A358389AEF33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439D-C634-4A03-B363-823C9F30D38C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D235-BBCC-4453-8D2F-8E17D9671113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A78C-7789-4F5D-987C-8485CE1A7287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93C3-9D9B-4A66-A16B-F584B5EF87DF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1C6E-C85F-4CC1-9C1E-BC25CDE138E5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520A-4A7E-4A80-893C-303466C0F5AA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D2B-128B-42A7-8A51-165915C63B53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0EFE-F4DE-41FF-BE8F-C4AB46107AAC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FB59-DA9C-488A-93CF-95774BC799A4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CE35-D49A-46D6-A919-45CF7088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85F8-0F91-498B-AC59-0E5E3EE3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CD43-4ACD-493D-8AC2-1A458D74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0F59-3B8C-44F3-8983-DB5086E0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B179-FC37-49CC-882B-596FEEDC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4640-E3A6-4D81-BE8F-76F3B63C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1372-BE76-4667-B54B-F8151E6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6756-0F61-4526-B039-341DC518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29D0-FFB0-4EF7-91C9-CAAA3758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496B-990B-4876-877A-57BDD3CF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B9DA-3A5F-4D78-9CE0-5122F70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EDE8-567C-46D4-9F65-C273BCDD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4CB7-5990-4701-95BB-8461D5D8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2152-5719-4B26-89DB-2EAAA3C4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35DE-0E58-4D59-94F4-FAE7BA8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8CB-CDDB-457F-92AD-C9E07575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B442-7DA2-4A19-99E7-520E32F3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51C1-7FE2-477B-A01B-86449DC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F07C-86F9-400B-9F0A-C0C206D1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B395-02A5-4350-8FEB-AC610336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3653-5B21-4CEB-86BE-9CF8FE39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CC91-3BCF-45F1-B923-15D792E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2C27-750E-4D43-9EF1-737F873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2DC1-DBEA-4A9E-AF03-83CFF489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4E5A-3668-4403-9642-D20A852C3A6E}" type="slidenum">
              <a:rPr b="0" lang="ar-BH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1B47-BE05-4D5F-B729-6BC38DAE8669}" type="slidenum">
              <a:rPr b="0" lang="ar-BH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ryptography and Network Securi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Ed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William Stal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pter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slides by Lawrie Brown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ton Ried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CE95-9DB9-4940-B96A-8FBB0F46A4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753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Electronic Code Book (ECB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79640" y="1197000"/>
            <a:ext cx="6987960" cy="482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4440" y="3705120"/>
            <a:ext cx="8258040" cy="246060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3C25-DF1B-4204-88FC-3DF27D3D10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753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Electronic Code Book (ECB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79640" y="1197000"/>
            <a:ext cx="698796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270D-DDFF-4939-A149-65A320E25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7513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Electronic Code Book (ECB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506520" y="1266840"/>
            <a:ext cx="817380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plaintext is encrypted in blocks of fixed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possibly need padding at the end of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each plaintext block is substituted with ciphertext block, like a cod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blocks are encrypted independ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disadvant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291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structure in plaintext shows up in cipher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291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equal blocks are encrypted as equal ciphertext blo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291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ciphertext blocks can be modified withou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in use: secure transmission of single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CCAC-A756-4D74-BE1E-F8ACC632D9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ipher Block Chaining (CB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97000" y="1344600"/>
            <a:ext cx="6753240" cy="4894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14440" y="3638520"/>
            <a:ext cx="8258040" cy="259884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C961-1852-46A0-894A-F4A3754DD2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ipher Block Chaining (CB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97000" y="1344600"/>
            <a:ext cx="6753240" cy="48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4665-85FA-4A46-AEEE-1DE4DB604C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23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ipher Block Chaining (CBC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479520" y="13208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blocks are linked together in the encryption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change of message affects all following ciphertext bloc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use Initial Vector (IV) to start process (needs to be known to sender and recei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  <a:ea typeface="Arial"/>
              </a:rPr>
              <a:t>IV should be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uses: bulk data encryption,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614B-5765-4EB0-BF2E-CCC1473FF4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208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-bit Cipher Feedback (C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1160" y="2122560"/>
            <a:ext cx="8583480" cy="3224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06320" y="13330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07CA-057E-4190-BA82-3F5805C8E1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25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-bit Cipher Feedback (C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386160" y="13330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896616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1CF5-70E5-413E-BA5D-98C4F5778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5960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ipher Feedback (C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921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plaintext is treated as a stream of b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appropriate when data arrives in bits/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added to the output of the block cip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result is feedback for next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standard allows any number of bits (1,8, 64...) to be feed back; denoted CFB-1, CFB-8, CFB-64 et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is most efficient to use all 64 bits (CFB-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note that the block cipher is used in </a:t>
            </a:r>
            <a:r>
              <a:rPr b="1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encryption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 mode at </a:t>
            </a:r>
            <a:r>
              <a:rPr b="1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both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 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errors propagate for several blocks after th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uses: stream data encryption,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102D-1E84-4742-92FA-D3E0268968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726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-bit Output Feedback (O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3406320" y="13330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7520" y="2349360"/>
            <a:ext cx="8513640" cy="29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82F5-BD05-4374-BFBD-558F540B74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840" y="1378080"/>
            <a:ext cx="58942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0440" indent="-460440">
              <a:lnSpc>
                <a:spcPct val="12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ltiple Encryption and Triple 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ock Cipher 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1CA9-2EA4-4582-AFE7-BE109C2647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719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-bit Output Feedback (O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3386160" y="13330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5360" y="2138400"/>
            <a:ext cx="8732880" cy="31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0A9B-632F-4FB2-9EE1-8AC4B1A9AC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395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Output Feedback (OFB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492120" y="1228680"/>
            <a:ext cx="82296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message is treated as a stream of b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output of cipher is added to mess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output is then feed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feedback is independent of mess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can be computed in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bit errors in transmission do not propa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  <a:ea typeface="Arial"/>
              </a:rPr>
              <a:t>however: controlled changes to symbols are poss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uses: stream encryption over noisy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DAB7-D109-4641-AD96-5F83F60963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559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er (CTR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28600" y="1123920"/>
            <a:ext cx="6890040" cy="4789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14440" y="3638520"/>
            <a:ext cx="8258040" cy="227664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5D92-CD2B-4CED-9735-E4CED1C20D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559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er (CTR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28600" y="1123920"/>
            <a:ext cx="689004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B18A-13B6-41F2-B276-76C61F37C4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619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er (CTR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266840"/>
            <a:ext cx="836604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“new” mode, though proposed earl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similar to OFB but encrypts counter value rather than any feedback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must have a different key &amp; counter value for every plaintext block (never reus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pplications: high-speed network encry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7915-C593-4CC2-A8EA-6AA5024077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7840" y="151920"/>
            <a:ext cx="7961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Advantages and Limitations of CT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444600" y="1266840"/>
            <a:ext cx="84265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can do parallel encry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in advance of need (preprocess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good for bursty high speed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random access to encrypted data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provable security (as good as other mo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only requires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but must ensure never reuse key/counter values, otherwise could br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C7CC-C20F-4ACE-917F-00ED6A12D6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national Data Encryption Algorithm (IDE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ock cipher (block size = 64-bi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ed in 1990 by the Swiss Institute of Tech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8-bit k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yptographic Strength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lock length: 64-bits long enough to deter statistical ana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ey length: 128-bits more than enough to deter brute force attack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usion: Uses three different operations (instead of using XOR only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usion: Very effective in this regar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F87E-5BAE-469E-97A7-9E48377FE5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lowfis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ed by Bruce Schneier in 199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 Goal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st: Encrypts data on a 32-bit microprocessor at 18 clock cycles per by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act: Runs in less than 5K bytes of RA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: structure is simple which simplifies analysis of its strengths and weakne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y Secure: Key length is variable (&lt;448 bits). Tradeoff between speed and securi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ock cipher (64-bit block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 far the security of Blowfish is unchallang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lemented in PGP, BestCrypt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D479-2C85-466B-ACC2-027B2CE51D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C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ed by Ron Rivest in 199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 Goals and Featur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itable for hardware or software implementation (uses primitive computational operator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st: Simple word orient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aptable to many processors: number of bits in a word is a paramet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e number of rounds: another paramet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able key length: yet another paramet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: easy to implement and analy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w memory requirement: suitable for smart cards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gh security: with suitable paramet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-dependent rot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9664-5CC2-4FCE-9F30-3D0D514641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T-12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d in 1997 by Carslie Adams and Stafford Tav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ical Feistel net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4-bit bloc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: 40 bits – 128 bits in 8 bit incre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s two subkeys in each rou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depends on the rou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in PG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313E-CD85-4CF8-9C5E-967B63D5BA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ple 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442800" y="1346040"/>
            <a:ext cx="83473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  <a:ea typeface="Arial"/>
              </a:rPr>
              <a:t>needed a replacement for 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theoretical attacks that can break 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exhaustive key search attacks have been demonst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  <a:ea typeface="Arial"/>
              </a:rPr>
              <a:t>Advanced Encryption Standard is a new cipher alternative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Garamond"/>
                <a:ea typeface="Arial"/>
              </a:rPr>
              <a:t>(will talk about this on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lternative: use multiple encryption with 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Triple-DES is the chose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5678-F13A-4463-B474-E4A85C5B78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ES is N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3284640"/>
            <a:ext cx="2736720" cy="27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E211-594D-4B99-9F73-E6B089A378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not Double DES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21000" y="1268280"/>
            <a:ext cx="4381560" cy="3146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67400" y="4686840"/>
            <a:ext cx="2619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K2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K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=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K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K2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9440" y="477972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ey length is 56 x 2 = 112 b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14C9-FD2D-4F58-80CE-6F69B8CC67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not Double 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492120" y="1436760"/>
            <a:ext cx="82296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Meet-in-the-Middle At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ote: </a:t>
            </a:r>
            <a:r>
              <a:rPr b="0" i="1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 = 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] = D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2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Arial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1. step: encrypt P with all keys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and store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2. step: decrypt C with all keys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and match X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takes O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5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) steps, not much better than DES with O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6B0A-C4BF-4138-A034-A8B98E4AB1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ple DES with Two-Ke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166760"/>
            <a:ext cx="846144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use 3 encryptions with 2 key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 =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2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]]]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2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]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K1=K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then 3DES can decrypt single 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 current known practical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4186080"/>
            <a:ext cx="5008680" cy="26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AAE8-EEFC-40CF-99B9-BF310960E2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5120" y="1519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ple DES with Three-Ke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9160"/>
            <a:ext cx="846144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188640" indent="-188640">
              <a:lnSpc>
                <a:spcPct val="100000"/>
              </a:lnSpc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lthough no practical attacks on two-key Triple-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30000"/>
              </a:lnSpc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an use Triple-DES with three keys to avoid any doub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 =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3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[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[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urier New"/>
                <a:ea typeface="Arial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[</a:t>
            </a:r>
            <a:r>
              <a:rPr b="0" i="1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Arial"/>
              </a:rPr>
              <a:t>]]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has been adopted by some Internet applications, eg PGP, S/M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E7EE-112D-42B1-BA91-75617AD881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9720" y="1884240"/>
            <a:ext cx="8407440" cy="658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840" y="1378080"/>
            <a:ext cx="58942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0440" indent="-460440">
              <a:lnSpc>
                <a:spcPct val="12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ltiple Encryption and Triple 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15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Block Cipher 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255D-0D0F-4948-AA71-3F392EE72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480" y="151920"/>
            <a:ext cx="619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s of Ope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2003400" y="1608120"/>
            <a:ext cx="532944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Electronic Codebook (EC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Cipher Block Chaining (C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Cipher Feedback (CF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Output Feedback (OF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693720"/>
                <a:tab algn="l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Counter Mode (CT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TCS 412 - Section 6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021C-0AF9-4D3E-84F2-718BB8D86D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 </cp:lastModifiedBy>
  <dcterms:modified xsi:type="dcterms:W3CDTF">2006-10-29T05:29:10Z</dcterms:modified>
  <cp:revision>19</cp:revision>
  <dc:subject>Lecture Overheads - Ch 6</dc:subject>
  <dc:title>William Stallings, Cryptography and Network Security 3/e</dc:title>
</cp:coreProperties>
</file>