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9A52-AD5B-40AB-B9FC-0CAC8EB17A7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958-5811-46EE-9660-35F0F3FFCC7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E20-8F57-4809-B4C1-1AEBB3467E0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BCF6-86CF-4AE7-BF88-C973B6C96E4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FDBB-1B2F-4444-BF79-1961F774055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A07-6456-44A2-B0CF-DF9D5DAD4CE4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F8E-9542-43E3-9A1B-80664BE5E520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B31-569E-4E15-8E3B-7A2751930E7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A69D-A323-4E77-9ABB-87D7A619042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45A-9029-470D-97A7-A2A36404351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8D4-01BF-4DED-9109-0021238B2ED4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38B0-4A88-420F-A95F-30F6EB751E8E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C1C-54F2-4D45-8517-F853D1D507E5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E90-352A-4A83-9F09-C0B072203F3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4F26-6D09-4C2A-AC87-1743D9516FA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A87F-E9B6-4152-89A3-8502A13F858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490A-8E5C-4AD0-88A7-BEA94298940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700-971A-4270-8DF4-DF2CFE5FABC7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B08-C013-4EA8-9ABD-0F1EBBF63130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A8D-14AF-4103-A39D-BA5321EDF23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2961-0AE8-4EA9-AD01-08F29F6469E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54F-10D3-4435-BC29-D218689EE1C8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A0D-F87C-4BD6-8051-67420B02488A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DF7-4101-424F-A56A-5C5FA1229F5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E9B9-6FD9-4E05-8CE7-84D9ECA2AE94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4EF1-B4D9-4733-AFBB-615000E0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D292-42B6-4AA6-B5D9-E1AFAA8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A6A0-0CF9-4358-8FEB-6E0B0678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8024-FCCC-4CF9-BFD3-995F8F31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15C5-40ED-474E-A287-DB29941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9C0-D914-4177-8870-BB50BE1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44D-6537-408A-8B4D-40592F9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192-B25A-433F-8C41-BD07B9BA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3E2-861F-4651-9044-960BAAC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87A8-98A7-45D9-A10D-077DAC4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ABF1-702E-4A8D-8FCD-DC67569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BF21-75AC-4A1C-828C-A944AE02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186D-42CD-4ACE-ADED-9A5703A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148-93D5-464E-BD03-6AE04BC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678C-593A-4D6B-B339-61A5D22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C2B-78DC-457B-A411-014AD537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EBD9-5E70-4A4D-B817-E0B6C4C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C7A1-7956-47F7-87DF-0A2D257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741E-F728-4C6A-9C95-4F6E91B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5DAF-E006-484E-8D43-2D3E8A6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3132-D5FC-4173-855F-C52A8A52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EE1E-4FEE-4048-BFB2-CB57CC3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41A1-2C1F-45C8-9962-300959A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F067-D5E0-4A61-BC48-8C46293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DB40-3EC0-40FB-B822-D98282A3AE1C}" type="slidenum">
              <a:rPr b="0" lang="ar-BH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A940-9EBA-4E6E-AC68-302357E21470}" type="slidenum">
              <a:rPr b="0" lang="ar-BH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ryptography and Network Secur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Ed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William Stal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slides by Lawrie Brown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ton Ried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FD5C-8102-4692-B9ED-EBBF94A588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3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79640" y="1197000"/>
            <a:ext cx="6987960" cy="482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4440" y="3705120"/>
            <a:ext cx="8258040" cy="246060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15F1-765B-42B6-B0A3-4BD3EBB23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3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79640" y="1197000"/>
            <a:ext cx="698796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FAA7-DB2A-4559-B3FF-FCC471A77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1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506520" y="1266840"/>
            <a:ext cx="817380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laintext is encrypted in blocks of fix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ossibly need padding at the end of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each plaintext block is substituted with ciphertext block, like a cod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locks are encrypted independ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disadvant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structure in plaintext shows up in cipher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equal blocks are encrypted as equal ciphertext bl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ciphertext blocks can be modified withou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n use: secure transmission of single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B810-0426-4D92-AC11-358E4EC1B7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97000" y="1344600"/>
            <a:ext cx="6753240" cy="4894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4440" y="3638520"/>
            <a:ext cx="8258040" cy="259884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DE90-C26E-48E6-88C4-D961C9E204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97000" y="1344600"/>
            <a:ext cx="6753240" cy="48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4D41-B2DA-4E86-B096-CCD429C70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3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3208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blocks are linked together in the encryption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change of message affects all following ciphertext bloc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use Initial Vector (IV) to start process (needs to be known to sender and recei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IV should be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uses: bulk data encryption,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D7DD-69D9-4EE6-BB10-60FA43267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08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160" y="2122560"/>
            <a:ext cx="8583480" cy="322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06320" y="13330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D7F8-C80E-460E-9642-8C8292DA4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5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386160" y="13330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896616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9DF6-C592-439D-B4B3-CDD5A4743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960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921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plaintext is treated as a stream of b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appropriate when data arrives in bits/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added to the output of the block cip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result is feedback for next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standard allows any number of bits (1,8, 64...) to be feed back; denoted CFB-1, CFB-8, CFB-64 et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is most efficient to use all 64 bits (CFB-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note that the block cipher is used in </a:t>
            </a:r>
            <a:r>
              <a:rPr b="1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encryption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 mode at </a:t>
            </a:r>
            <a:r>
              <a:rPr b="1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both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errors propagate for several blocks after th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uses: stream data encryption,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1D4B-063D-4868-B3C1-48AFF9431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726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330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7520" y="2349360"/>
            <a:ext cx="8513640" cy="29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A393-0779-4B85-8F79-9854980AE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840" y="1378080"/>
            <a:ext cx="5894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0440" indent="-460440">
              <a:lnSpc>
                <a:spcPct val="12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e Encryption and Triple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ck Cipher 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A404-A0BE-472E-AA0F-94B8469DC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19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386160" y="13330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138400"/>
            <a:ext cx="873288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E9B6-9E5E-4B43-89A4-B10A822AD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395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492120" y="1228680"/>
            <a:ext cx="82296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message is treated as a stream of b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output of cipher is added to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output is then feed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feedback is independent of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can be computed in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bit errors in transmission do not propa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however: controlled changes to symbols are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uses: stream encryption over noisy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30EE-FAA8-4FC9-8363-44E0EE0666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59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28600" y="1123920"/>
            <a:ext cx="6890040" cy="478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14440" y="3638520"/>
            <a:ext cx="8258040" cy="227664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6B83-02D3-473A-A0AF-CC4152F48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59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28600" y="1123920"/>
            <a:ext cx="689004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DF38-4F98-4ECE-9866-13B6DF0C1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619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66840"/>
            <a:ext cx="836604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“new” mode, though proposed earl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similar to OFB but encrypts counter value rather than any feedback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must have a different key &amp; counter value for every plaintext block (never reus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pplications: high-speed network encry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C7B6-2377-455D-AF45-D8A989E190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961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Advantages and Limitations of CT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444600" y="1266840"/>
            <a:ext cx="84265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can do parallel encry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in advance of need (preproces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good for bursty high speed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random access to encrypted data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provable security (as good as other mo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only requires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but must ensure never reuse key/counter values, otherwise could br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A7AB-23C5-4EDF-A76E-0EEB377867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national Data Encryption Algorithm (IDE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ock cipher (block size = 64-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ed in 1990 by the Swiss Institute of Tech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8-bit k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yptographic Strength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lock length: 64-bits long enough to deter statistical ana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ey length: 128-bits more than enough to deter brute force attack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usion: Uses three different operations (instead of using XOR only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usion: Very effective in this regar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FCAD-A5F6-4398-B167-3C682C354E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lowfi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by Bruce Schneier in 199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Goal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st: Encrypts data on a 32-bit microprocessor at 18 clock cycles per by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ct: Runs in less than 5K bytes of R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: structure is simple which simplifies analysis of its strengths and weakn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y Secure: Key length is variable (&lt;448 bits). Tradeoff between speed and secur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ock cipher (64-bit block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far the security of Blowfish is unchallan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ed in PGP, BestCrypt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8CBF-80AD-49F5-A567-CE0A645D3D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C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ed by Ron Rivest in 199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Goals and Featur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itable for hardware or software implementation (uses primitive computational operator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st: Simple word orien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aptable to many processors: number of bits in a word is a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 number of rounds: another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 key length: yet another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: easy to implement and analy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w memory requirement: suitable for smart cards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gh security: with suitable paramet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-dependent rot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BD23-F0C6-4D3F-8B62-FCF2BFBB97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T-12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d in 1997 by Carslie Adams and Stafford Tav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ical Feistel net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4-bit bloc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: 40 bits – 128 bits in 8 bit inc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s two subkeys in each r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depends on the r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in PG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C5BA-150C-4399-BFC0-E8ED422297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442800" y="1346040"/>
            <a:ext cx="83473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needed a replacement for 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theoretical attacks that can break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exhaustive key search attacks have been demonst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Advanced Encryption Standard is a new cipher alternative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(will talk about this on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lternative: use multiple encryption with 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Triple-DES is the chose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682B-273F-426D-97A5-E3DDA30DF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d of Block Ciph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Key Encryption is N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2736720" cy="27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250-C016-4FEF-9B60-7B5F7677A4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not Double DES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21000" y="1268280"/>
            <a:ext cx="4381560" cy="314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7400" y="4686840"/>
            <a:ext cx="2619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=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9440" y="477972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ey length is 56 x 2 = 112 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7292-F4F9-4938-8122-8E4A836275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not Double 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92120" y="14367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Meet-in-the-Middle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ote: 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] = 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1. step: encrypt P with all keys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and stor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2. step: decrypt C with all keys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and match X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takes O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5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) steps, not much better than DES with O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2100-B9C9-4BE5-8787-BBE3BCB112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 with Two-Ke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66760"/>
            <a:ext cx="846144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use 3 encryptions with 2 ke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K1=K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n 3DES can decrypt single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 current known practical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4186080"/>
            <a:ext cx="5008680" cy="26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244D-84AC-4211-B71C-79776E0E90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 with Three-Ke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9160"/>
            <a:ext cx="846144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188640" indent="-188640">
              <a:lnSpc>
                <a:spcPct val="10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lthough no practical attacks on two-key Triple-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3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an use Triple-DES with three keys to avoid any doub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3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has been adopted by some Internet applications, eg PGP, S/M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5EBF-F8CA-4B4E-B298-814F63CB0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9720" y="1884240"/>
            <a:ext cx="8407440" cy="658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840" y="1378080"/>
            <a:ext cx="5894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0440" indent="-460440">
              <a:lnSpc>
                <a:spcPct val="12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e Encryption and Triple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15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Block Cipher 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7219-2ADA-4740-A125-F7DC26BB0F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619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s of Op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2003400" y="1608120"/>
            <a:ext cx="532944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Electronic Codebook (E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Cipher Block Chaining (C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Cipher Feedback (C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Output Feedback (O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Counter Mode (CT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48A7-C99B-4191-A3E2-026525F01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reative</cp:lastModifiedBy>
  <dcterms:modified xsi:type="dcterms:W3CDTF">2006-03-29T05:05:13Z</dcterms:modified>
  <cp:revision>18</cp:revision>
  <dc:subject>Lecture Overheads - Ch 6</dc:subject>
  <dc:title>William Stallings, Cryptography and Network Security 3/e</dc:title>
</cp:coreProperties>
</file>